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A6BC-C39B-4E56-BABF-D81DC8A32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80B2-A52B-47AE-B054-61BEE5A04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5D3F-6DAF-4FF9-8FF0-233A6219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F0F3-3AD9-4E09-8683-93E705A4BC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83F1-B423-40EF-BB88-65BE5CBCC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6EAD-43B4-47F8-85BF-98FE3E406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B4B6-4D3C-466E-A009-366FB4914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E669-7742-4A4F-B33E-D328FFB7E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A6BD-ECF2-474A-87A9-FA20B729D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E287-8E4D-4731-BF27-16534CF94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FDA3-71F3-4685-B25B-480D7C838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2D91-F4ED-42DA-B972-2A0089303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E5E-D367-4CE8-91FB-1021D1033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2:17Z</dcterms:modified>
  <cp:revision>4</cp:revision>
  <dc:subject/>
  <dc:title>Conclusion</dc:title>
</cp:coreProperties>
</file>