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F29A-03D0-4D5A-B1EC-EE3E6F9A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9DCC-C49D-40E8-AC9F-6171AEE78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94EF-92F2-4CEE-AFEF-CF1E2D6FB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57CE-A76B-4BB2-8E8E-5A141DF97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DFD5-2FF3-40B3-9F85-33BCE5A3B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C9E6-EF23-4886-BFA9-805BAE0EE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1E0F-B784-48AF-AB6B-CF80B8348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D897-66BD-4F3E-B9DE-A21017AAA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1215-ABBF-4831-BC25-66151F0D2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023D-042E-469F-BB81-B15C368E5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F6BF-7084-4846-A1AF-A59BE091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0DA6-5D20-451A-80CF-C96C426EC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B450-866E-4EED-ADD5-8395E8743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849F-AE3B-4FB4-B2F6-AFC686D17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7-20T17:32:38Z</dcterms:modified>
  <cp:revision>17</cp:revision>
  <dc:subject/>
  <dc:title>Developing Efficient Graphics Software</dc:title>
</cp:coreProperties>
</file>