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F31-3FA8-407F-9329-949B8DF0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B666-D8A7-4184-BBD7-547629452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AE70-FAC6-4AA2-AF5D-9B0473D9D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5521-87C3-4D99-B281-88E4FC174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89ED-8F79-4965-8C91-0FEF620E1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97CB-13D9-4B5D-A54B-2522F5B7B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2607-CB2B-4F1D-B66F-BC1C675EA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5DFD-0054-47CD-9B52-0435F9567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1A75-1C94-4A5F-A517-67F91CCA4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AEE9-6545-4E94-981C-A9AC43213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BA67-7F46-4C9F-8507-4D9C6F971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A38D-157F-467C-B648-97D52375A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C34C-BD62-4180-8DDD-A72FD3465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4BD-0F43-485B-98FF-C5630605E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801.WAV" TargetMode="External"/><Relationship Id="rId2" Type="http://schemas.microsoft.com/office/2007/relationships/media" Target="file:///tmp/home/.config/libreoffice/4/user/gallery/~PP180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5.WAV" TargetMode="External"/><Relationship Id="rId2" Type="http://schemas.microsoft.com/office/2007/relationships/media" Target="file:///tmp/home/.config/libreoffice/4/user/gallery/~PP105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17.WAV" TargetMode="External"/><Relationship Id="rId2" Type="http://schemas.microsoft.com/office/2007/relationships/media" Target="file:///tmp/home/.config/libreoffice/4/user/gallery/~PP1017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6.WAV" TargetMode="External"/><Relationship Id="rId2" Type="http://schemas.microsoft.com/office/2007/relationships/media" Target="file:///tmp/home/.config/libreoffice/4/user/gallery/~PP1236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8-07T14:49:16Z</dcterms:modified>
  <cp:revision>18</cp:revision>
  <dc:subject/>
  <dc:title>Developing Efficient Graphics Software</dc:title>
</cp:coreProperties>
</file>