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25B9-981E-4A38-AF75-EC1A3E8EB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DFF2-22F0-4027-AB6F-157C56C9F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665B-C4C9-49DD-96B3-6DBB2EA92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D119-5E9C-4D4F-A5E5-DB8886EEBB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0125-F3EE-467C-8533-B4D791C2D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A723-EF3D-4E1C-8468-3776DDDB8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D992-6319-4E4B-BE0F-1BE327DFD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710D-91C7-4B7B-96C1-D4648CB41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0E54-5A3F-4C89-827E-144266676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BD23-747E-460B-B09B-5B7A40A87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791D-BED2-4CF9-A044-FB20CAE51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2A97-7F63-4FAB-A353-79F1DAAAA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6526-3F72-4749-8A6D-0144F0DC1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ne. Use all. Pipeline them toge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ew Frustum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face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s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99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les outside the View Frustum would not have been rasterized any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 bounding volume  to clip coordinates (in OpenGL multiply by Model-View and Projection matri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each volume against View Frus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metry is eith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Ou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kip the Cli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software transform systems (GTX-RD)  skip the clip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geometry class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renders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can render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ithout a View Frustum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a hint to re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geometry rates if not already fill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fill rate when using a nativ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s are transformed and lit before c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both geometry and fill with an application specific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utationally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raphics and CPU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be used when you enter closed geometry or need two-sided ligh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Goa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the optimal set of occluders that will enable drawing the minimal number of occlude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rs: The geometry that is vi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es: The geometry that is not visi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eneral purpose occlusion culling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lication specific spatial knowledge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Culling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transform-limited, fill-limited, and bandwidth-limited 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time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ible hardwar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neral Occlusion 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both transform limited and fill limited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Spati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 and Portal” Cul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organization leads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or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mes that move from room to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walkthroug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walk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4267080"/>
            <a:ext cx="43876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145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9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0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1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02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ems that fall below a size threshol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space size of bound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ss computational approa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object combined with some notion of global obj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s occluder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pace projection already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few pixels from rasterizatio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234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5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9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2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5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257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5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19:18:09Z</cp:lastPrinted>
  <dcterms:modified xsi:type="dcterms:W3CDTF">2000-08-07T19:58:07Z</dcterms:modified>
  <cp:revision>32</cp:revision>
  <dc:subject/>
  <dc:title>Developing Efficient Graphics Software</dc:title>
</cp:coreProperties>
</file>