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5E4C-A26A-4360-8E5E-69279EB29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8AE4-C759-45DE-B338-41A869C33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C535-8F4F-4120-AC62-79688A7D5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542F-B7DB-45CC-AD67-4F9BED9A2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E934-59E7-4FF6-8928-CFAB4E1EF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FEE4-EA74-489C-A93C-14D604E1B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C728-37DB-42F5-82E3-536FC2AD2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FE83-2C95-4BF8-A5A4-2F62F1520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077A-E032-4DB0-AE2C-0F67B33CC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322B-B369-43D5-8A33-BCC54F843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6ED5-0049-461F-B035-7061B6E73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8DD0-9FF3-4BDD-A3D8-9ABD772F2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DC14-B041-4AC3-ABE5-5102AE035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101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7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1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2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4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5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6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4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5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8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1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6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8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7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rc</cp:lastModifiedBy>
  <cp:lastPrinted>2000-06-06T19:18:09Z</cp:lastPrinted>
  <dcterms:modified xsi:type="dcterms:W3CDTF">2000-06-29T14:41:30Z</dcterms:modified>
  <cp:revision>32</cp:revision>
  <dc:subject/>
  <dc:title>Developing Efficient Graphics Software</dc:title>
</cp:coreProperties>
</file>