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7D63E-9186-4968-98B8-955D0AC917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1320" y="413064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F6BE2-7FCC-445C-9B60-795D2A8BD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828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DA781-B7E9-4236-B405-E78F05C6A1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08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084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132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08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084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051AA-AA4B-4A4A-8D18-3D73F66698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A046E-111B-4C5E-8259-0B703FFE0E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C3505-B996-48BC-A47D-8CF3A73AA1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916AC-58E0-4FFC-998C-0E0FF280F9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C435A-8D64-4A6E-8FD6-860F7602EC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9000" y="294840"/>
            <a:ext cx="743580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5E8F4-E8E9-4EC0-B3A0-3B83C0A9F0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5E7C9-759E-4BAC-82A7-EDC1EDDD94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828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1343B-7660-4814-A030-C324118056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77D4E-75CC-44A1-A4FC-A1A15687A6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9680" y="160200"/>
            <a:ext cx="888048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5520" y="1833480"/>
            <a:ext cx="885204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8AAB-5E37-4746-A5BF-0B96C84918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6359400" y="5908680"/>
            <a:ext cx="252252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7802640" y="403200"/>
            <a:ext cx="110628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39680" y="1824120"/>
            <a:ext cx="887724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Keith Cok, SGI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at we’ve learned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application and hardwar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ntify and optimiz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efficient software stru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lance software and hardware system 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alance between 3 foundations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mal algorith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ll structured graphics API function cal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ll tuned/written soft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yinyang" descr=""/>
          <p:cNvPicPr/>
          <p:nvPr/>
        </p:nvPicPr>
        <p:blipFill>
          <a:blip r:embed="rId1"/>
          <a:stretch/>
        </p:blipFill>
        <p:spPr>
          <a:xfrm>
            <a:off x="1676520" y="2666880"/>
            <a:ext cx="1866960" cy="1866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72200" y="2819520"/>
            <a:ext cx="1523880" cy="144756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1T01:09:48Z</dcterms:created>
  <dc:creator>Thomas J. True</dc:creator>
  <dc:description/>
  <dc:language>en-US</dc:language>
  <cp:lastModifiedBy>Keith Cok</cp:lastModifiedBy>
  <dcterms:modified xsi:type="dcterms:W3CDTF">2000-07-18T21:02:50Z</dcterms:modified>
  <cp:revision>4</cp:revision>
  <dc:subject/>
  <dc:title>Conclusion</dc:title>
</cp:coreProperties>
</file>