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A402-8B6B-420E-A5EC-55EDEE861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2988-0B13-453B-929B-403F4AC90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7768-1EEC-4BFF-8DBB-D63D35EE5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D53A-4AB9-4880-B750-D899B68CD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1D04-5E0D-4175-A11B-BF53A10B2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06D5-31B7-471B-9578-6B15E1393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15CA-E6C4-45C0-8198-566B369DE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705F-DA41-4E78-B195-BD5CE4CD5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A163-86CF-4384-A2DB-395F4BAC6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63AB-1919-4E0A-B48F-B5C51D44A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ED8F-6109-455B-91A7-5E4040891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281F-6A1E-4687-95B6-35BB502B8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0E75-B252-4493-B4B7-9B309D45B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filing and Performance Analy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filing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old wa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new 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: void old_loop() {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: void new_loop (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:  sum = 0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:    sum = 0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:  for (i = 0;i &lt; NUM; i++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9:    ii = NUM%4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:    sum += x[i]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:    for (i=0; i &lt; ii; i++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:  printf("sum = %f\n",sum)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:       sum +=x[I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: 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:    for (i = ii; i &lt; NUM; i +=4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:       sum += x[i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:       sum += x[i+1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:       sum += x[i+2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:       sum += x[i+3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:   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:    printf(“ sum = %f\n”,sum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: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0880"/>
            <a:ext cx="121896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filing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old wa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new 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: void old_loop() {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: void new_loop (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:  sum = 0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:    sum = 0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:  for (i = 0;i &lt; NUM; i++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9:    ii = NUM%4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:    sum += x[i]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:    for (i=0; i &lt; ii; i++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:  printf("sum = %f\n",sum)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:       sum +=x[I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: 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:    for (i = ii; i &lt; NUM; i +=4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:       sum += x[i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:       sum += x[i+1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:       sum += x[i+2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:       sum += x[i+3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:   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:    printf(“ sum = %f\n”,sum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: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380880"/>
            <a:ext cx="121896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filing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old wa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new 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: void old_loop() {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: void new_loop (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:  sum = 0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:    sum = 0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:  for (i = 0;i &lt; NUM; i++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9:    ii = NUM%4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:    sum += x[i]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:    for (i=0; i &lt; ii; i++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:  printf("sum = %f\n",sum)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:       sum +=x[I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: 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:    for (i = ii; i &lt; NUM; i +=4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:       sum += x[i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:       sum += x[i+1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:       sum += x[i+2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:       sum += x[i+3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:   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:    printf(“ sum = %f\n”,sum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: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380880"/>
            <a:ext cx="121896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tatistical vs. Basic Block Profi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stical vs. Basic block Pro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id </a:t>
            </a: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ij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loop(){                                // loops </a:t>
            </a: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kji</a:t>
            </a:r>
            <a:r>
              <a:rPr b="1" lang="en-US" sz="2400" spc="-1" strike="noStrike">
                <a:solidFill>
                  <a:srgbClr val="9793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ik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s w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 = 0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i=0;i&lt;XNUM;i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j=0;j&lt;YNUM;j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k=0;k&lt;ZNUM;k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 += y[i][j][k]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tf("sum = %f\n",sum)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39625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tatistical vs. Basic Block Profi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stical vs. Basic block Pro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id </a:t>
            </a: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ij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loop(){                                // loops </a:t>
            </a: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kji</a:t>
            </a:r>
            <a:r>
              <a:rPr b="1" lang="en-US" sz="2400" spc="-1" strike="noStrike">
                <a:solidFill>
                  <a:srgbClr val="9793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ik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s w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 = 0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i=0;i&lt;XNUM;i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j=0;j&lt;YNUM;j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k=0;k&lt;ZNUM;k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 += y[i][j][k]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tf("sum = %f\n",sum)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388620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w We Know About Hot Spots...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do we do next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compilers to fine-tune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knowledge of language to optim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nd-tune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filing is fun, hard, and iterative…. And it can be highly effectiv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file and Performance Analy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iling points out code areas that take up most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erative for well balanced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ints out code and system bottlene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wo Methods of Software Profi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sic block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ection of code that has one entry and one ex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s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dea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atistical samp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rupts program execution and examines current lo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s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actual CPU cycl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pent executing a line of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Do You Profile Cod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ile/link with final compiler optimizations turned 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cc foo.c -use_final_optimization_fla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the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: 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ixie foo.ex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&gt; foo.exe.pix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Studio: embedded in tool su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 the application with relevant data s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foo.exe.pixie - ar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&gt; produces results dat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Do You Profile Cod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ile/link with final compiler optimizations turned 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cc foo.c -use_final_optimization_fla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the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: 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ixie foo.ex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&gt; foo.exe.pix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Studio: embedded in tool su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 the application with relevant data s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foo.exe.pixie - ar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&gt; produces results dat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filing:  Fixing the Hot Spo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do you look for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sub-expressions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op invariant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eated pointer de-referenc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obal variables and cache mi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necessary data mov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n loop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filing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old wa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: void old_loop() {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:  sum = 0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:  for (i = 0;i &lt; NUM; i++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:    sum += x[i]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:  printf("sum = %f\n",sum)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: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filing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old wa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: void old_loop() {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:  sum = 0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:  for (i = 0;i &lt; NUM; i++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:    sum += x[i]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:  printf("sum = %f\n",sum)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: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filing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old wa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ode the new 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: void old_loop() {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: void new_loop (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:  sum = 0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:    sum = 0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:  for (i = 0;i &lt; NUM; i++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9:    ii = NUM%4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:    sum += x[i]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:    for (i=0; i &lt; ii; i++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:  printf("sum = %f\n",sum);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:       sum +=x[I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: 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:    for (i = ii; i &lt; NUM; i +=4) 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:       sum += x[i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:       sum += x[i+1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:       sum += x[i+2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:       sum += x[i+3]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:   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:    printf(“ sum = %f\n”,sum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: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80880"/>
            <a:ext cx="121896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4T16:04:28Z</dcterms:created>
  <dc:creator>Gary Clark</dc:creator>
  <dc:description/>
  <dc:language>en-US</dc:language>
  <cp:lastModifiedBy>Keith Cok</cp:lastModifiedBy>
  <cp:lastPrinted>1999-07-15T17:47:22Z</cp:lastPrinted>
  <dcterms:modified xsi:type="dcterms:W3CDTF">2000-07-18T21:05:19Z</dcterms:modified>
  <cp:revision>36</cp:revision>
  <dc:subject/>
  <dc:title>S95 Arial, Bld, YW8, 37 points, 105% line spacing</dc:title>
</cp:coreProperties>
</file>