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6120" y="8710560"/>
            <a:ext cx="1264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F7D54CE-D136-4EA7-8690-25954D073E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CI: cpu, memory, and PCI are controlled by the glue, while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live on a shared bus (P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bus, local mem for fb, tex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devices compete for scarce resource, bandwid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GP: cpu, memory, pci, and agp are directly controlled byt the g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at’s all very interesting, but how do I code for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any of this is to learn how your app uses different hardware, and then to write code which can better take advantag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any of these architectural diffs end up meaning that you have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resources at your dis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data paths which make different things ‘fa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AGP vs PCI,.number of textures, and texture ‘download’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n’t write code for a PCI or AGP specifically, but understanding the tradeoffs means different possibilities for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 piece of data down to the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so that’s logically what happens, what’ -physically- goes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is a high-leve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umerous details (associative vs direct cache mappings, et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included - read a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ad the notes for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pp not drawing as fast as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reason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ver some of those reasons, from a hardware persp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a! I knew there was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wo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cate either seperate vertex /normal arrays or interle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mplification of physical hardware with opengl 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buffer to lessen the effects of how fast card and data feed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f: transformed from world  to ey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: physical 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f from eye-to-clip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ll hardware (including the T- often a display-list cache in opengl parl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xf &amp; rast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ster ops on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e not all work from a phase done in hardware, but there exist some functionality in h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do texture, but not f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/memo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systems and a taxonomy for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hardwar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it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to du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please read the course notes for much much more detail in any o fhtese areas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, per-machine, at app startup, generate data. vertex arrays, display lists, texture forma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data in database, per-machine, also keep a time-to-live for this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pp startup, check database, or re-generat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, per-machine, at app startup, generate data. vertex arrays, display lists, texture forma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data in database, per-machine, also keep a time-to-live for this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pp startup, check database, or re-generat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cus further: removing bottlencecks, balancing system 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inition: bottleneck: portion of app which limits overall pe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in this case, the graphics rendering pe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Id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ttlencks are slippery and elusive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e app, one dataset, a particular bottlen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dataset, diff bottlen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platform, diff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Squ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ce one is squashed, likely will move to another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nse, rep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brings us to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gain, the goal is to eliminate bottlenecks through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do that,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con to draw attention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an exact philosophical match, but it looks 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ying to make point, again and again, that balanced system utilization is key. Wha twe hope to provide is awareness of a number of ideas and issues which can help you to attain a harmonious balance of system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key to balancing system utilization is to first understand the application and the system on which it r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we begin with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838080" y="685800"/>
            <a:ext cx="5124600" cy="34164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w dev exp” write once, run somewhere else, s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gging reveals an implementatino decision de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blem rooted in the fact that different systems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hardware (cpu, gfx, memory, disk, net)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y? Because each vendor has a better idea. System level stuff, as well as g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: systems differ within basic archite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: data flow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: bandwidth and latency to do real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w/texture, gfx w/o tex + a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agp, gfx on dedicated link to mem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 present an absctract system to discuss how data moves in a computing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gfx app does many things, wave hands around for a b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/net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uff data in memory, compute, tesselate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ve data to graphics, get data from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you know what your app does, so why are you telling me this, and how do I write better code? Wait for it … wait for i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cloud, manages that. What is the cloud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describe shor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nk about how these paths are used to transfer data, and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by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rtened or elim data path app is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s hardware 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int: in certain modes of op, app doing particular things, to particular parts of the system. Understanding what parts are in use is key to maximizing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CI: cpu, memory, and PCI are controlled by the glue, while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live on a shared bus (P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bus, local mem for fb, tex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devices compete for scarce resource, bandwid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GP: cpu, memory, pci, and agp are directly controlled byt the g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at’s all very interesting, but how do I code for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C34E-486A-4BEC-962F-5B47A8961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07E8-C94F-413C-A4CC-E45AD7327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BE33-90BC-49C9-B7D9-26807C2F4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DBC9-3073-43EE-A27C-B7F3695BF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0389-8E2C-4167-ADA6-0D3D8CC73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3785-1407-462D-8DBD-1F469C26B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B2D0-C040-42A5-BC7F-4F3B8D24E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50E4-A5D0-4DCC-B9D0-B1DC99E88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99E7-FF5C-4D18-9F8A-706E6A229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037E-8A4F-4C69-8FDE-7CBC0CA8C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B8BE-70A9-45C5-8E5B-961D2685A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1207-92BA-47D1-90BD-8CFC63908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E69B-C569-49E5-BB02-1F05C2B58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9.jpe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mputing Hardware Architecture &amp;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b Kuehne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UMA, Switched Hub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1828800"/>
            <a:ext cx="3047760" cy="4571640"/>
            <a:chOff x="4495680" y="1828800"/>
            <a:chExt cx="3047760" cy="4571640"/>
          </a:xfrm>
        </p:grpSpPr>
        <p:sp>
          <p:nvSpPr>
            <p:cNvPr id="161" name=""/>
            <p:cNvSpPr/>
            <p:nvPr/>
          </p:nvSpPr>
          <p:spPr>
            <a:xfrm>
              <a:off x="5562360" y="3276720"/>
              <a:ext cx="914400" cy="76176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44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426672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502884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655272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8" idx="0"/>
              <a:endCxn id="162" idx="2"/>
            </p:cNvCxnSpPr>
            <p:nvPr/>
          </p:nvCxnSpPr>
          <p:spPr>
            <a:xfrm flipV="1" rot="16200000">
              <a:off x="519984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9" name=""/>
            <p:cNvCxnSpPr>
              <a:stCxn id="170" idx="0"/>
              <a:endCxn id="163" idx="2"/>
            </p:cNvCxnSpPr>
            <p:nvPr/>
          </p:nvCxnSpPr>
          <p:spPr>
            <a:xfrm flipH="1" flipV="1" rot="5400000">
              <a:off x="638100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 rot="16200000">
              <a:off x="579060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1640" y="4419720"/>
              <a:ext cx="648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1964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6728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64" idx="3"/>
              <a:endCxn id="161" idx="1"/>
            </p:cNvCxnSpPr>
            <p:nvPr/>
          </p:nvCxnSpPr>
          <p:spPr>
            <a:xfrm flipH="1" flipV="1" rot="5400000">
              <a:off x="4457160" y="4074480"/>
              <a:ext cx="1523160" cy="687960"/>
            </a:xfrm>
            <a:prstGeom prst="bentConnector2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6" name=""/>
            <p:cNvCxnSpPr>
              <a:stCxn id="165" idx="3"/>
              <a:endCxn id="177" idx="2"/>
            </p:cNvCxnSpPr>
            <p:nvPr/>
          </p:nvCxnSpPr>
          <p:spPr>
            <a:xfrm flipH="1" flipV="1" rot="5400000">
              <a:off x="5142960" y="4531680"/>
              <a:ext cx="1142280" cy="154800"/>
            </a:xfrm>
            <a:prstGeom prst="bentConnector3">
              <a:avLst>
                <a:gd name="adj1" fmla="val 49905"/>
              </a:avLst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8" name=""/>
            <p:cNvCxnSpPr>
              <a:stCxn id="171" idx="3"/>
              <a:endCxn id="179" idx="2"/>
            </p:cNvCxnSpPr>
            <p:nvPr/>
          </p:nvCxnSpPr>
          <p:spPr>
            <a:xfrm flipV="1" rot="16200000">
              <a:off x="5752080" y="4533120"/>
              <a:ext cx="1142280" cy="151560"/>
            </a:xfrm>
            <a:prstGeom prst="bentConnector3">
              <a:avLst>
                <a:gd name="adj1" fmla="val 49905"/>
              </a:avLst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0" name=""/>
            <p:cNvCxnSpPr>
              <a:stCxn id="166" idx="3"/>
              <a:endCxn id="161" idx="3"/>
            </p:cNvCxnSpPr>
            <p:nvPr/>
          </p:nvCxnSpPr>
          <p:spPr>
            <a:xfrm flipV="1" rot="16200000">
              <a:off x="6057000" y="4075920"/>
              <a:ext cx="1523160" cy="685080"/>
            </a:xfrm>
            <a:prstGeom prst="bentConnector2">
              <a:avLst/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556236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56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236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1956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09480" y="1828800"/>
            <a:ext cx="3048120" cy="4495680"/>
            <a:chOff x="609480" y="1828800"/>
            <a:chExt cx="3048120" cy="4495680"/>
          </a:xfrm>
        </p:grpSpPr>
        <p:sp>
          <p:nvSpPr>
            <p:cNvPr id="182" name=""/>
            <p:cNvSpPr/>
            <p:nvPr/>
          </p:nvSpPr>
          <p:spPr>
            <a:xfrm>
              <a:off x="609480" y="4343400"/>
              <a:ext cx="1981440" cy="38088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48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3880" y="3200400"/>
              <a:ext cx="914400" cy="76212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460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3" idx="2"/>
            </p:cNvCxnSpPr>
            <p:nvPr/>
          </p:nvCxnSpPr>
          <p:spPr>
            <a:xfrm flipV="1" rot="16200000">
              <a:off x="1275840" y="2723760"/>
              <a:ext cx="381600" cy="572040"/>
            </a:xfrm>
            <a:prstGeom prst="bentConnector3">
              <a:avLst>
                <a:gd name="adj1" fmla="val 49952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8" name=""/>
            <p:cNvCxnSpPr>
              <a:stCxn id="189" idx="0"/>
              <a:endCxn id="185" idx="2"/>
            </p:cNvCxnSpPr>
            <p:nvPr/>
          </p:nvCxnSpPr>
          <p:spPr>
            <a:xfrm flipV="1" rot="16200000">
              <a:off x="2914200" y="2990520"/>
              <a:ext cx="381600" cy="38520"/>
            </a:xfrm>
            <a:prstGeom prst="bentConnector3">
              <a:avLst>
                <a:gd name="adj1" fmla="val 49952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87" name=""/>
            <p:cNvSpPr/>
            <p:nvPr/>
          </p:nvSpPr>
          <p:spPr>
            <a:xfrm>
              <a:off x="1523880" y="32004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32004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228600" y="5486400"/>
              <a:ext cx="121896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990720" y="5486400"/>
              <a:ext cx="121896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1676520" y="5486400"/>
              <a:ext cx="121896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4" name=""/>
            <p:cNvCxnSpPr>
              <a:stCxn id="191" idx="3"/>
            </p:cNvCxnSpPr>
            <p:nvPr/>
          </p:nvCxnSpPr>
          <p:spPr>
            <a:xfrm flipH="1" flipV="1" rot="5400000">
              <a:off x="694800" y="4865040"/>
              <a:ext cx="380160" cy="9756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5" name=""/>
            <p:cNvCxnSpPr>
              <a:stCxn id="192" idx="3"/>
            </p:cNvCxnSpPr>
            <p:nvPr/>
          </p:nvCxnSpPr>
          <p:spPr>
            <a:xfrm flipV="1" rot="16200000">
              <a:off x="1399680" y="4904640"/>
              <a:ext cx="380160" cy="1836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"/>
            <p:cNvCxnSpPr>
              <a:stCxn id="193" idx="3"/>
            </p:cNvCxnSpPr>
            <p:nvPr/>
          </p:nvCxnSpPr>
          <p:spPr>
            <a:xfrm flipV="1" rot="16200000">
              <a:off x="2066400" y="4885560"/>
              <a:ext cx="380160" cy="5652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7" name=""/>
            <p:cNvCxnSpPr>
              <a:stCxn id="184" idx="2"/>
              <a:endCxn id="182" idx="0"/>
            </p:cNvCxnSpPr>
            <p:nvPr/>
          </p:nvCxnSpPr>
          <p:spPr>
            <a:xfrm rot="5400000">
              <a:off x="1599480" y="3962520"/>
              <a:ext cx="381600" cy="38160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1523880" y="3581280"/>
              <a:ext cx="457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1080" y="3581280"/>
              <a:ext cx="457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43200" y="3200400"/>
              <a:ext cx="762120" cy="7621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2514600" y="5486400"/>
              <a:ext cx="121896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89" idx="2"/>
            </p:cNvCxnSpPr>
            <p:nvPr/>
          </p:nvCxnSpPr>
          <p:spPr>
            <a:xfrm flipH="1" flipV="1" rot="5400000">
              <a:off x="2552400" y="4532040"/>
              <a:ext cx="1141920" cy="2160"/>
            </a:xfrm>
            <a:prstGeom prst="bentConnector3">
              <a:avLst>
                <a:gd name="adj1" fmla="val 49921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2" name=""/>
            <p:cNvCxnSpPr>
              <a:stCxn id="189" idx="1"/>
              <a:endCxn id="184" idx="3"/>
            </p:cNvCxnSpPr>
            <p:nvPr/>
          </p:nvCxnSpPr>
          <p:spPr>
            <a:xfrm rot="10800000">
              <a:off x="2437560" y="3580560"/>
              <a:ext cx="305640" cy="1080"/>
            </a:xfrm>
            <a:prstGeom prst="bentConnector2">
              <a:avLst/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626240" y="3448080"/>
            <a:ext cx="1820520" cy="1236240"/>
            <a:chOff x="7626240" y="3448080"/>
            <a:chExt cx="1820520" cy="1236240"/>
          </a:xfrm>
        </p:grpSpPr>
        <p:grpSp>
          <p:nvGrpSpPr>
            <p:cNvPr id="204" name=""/>
            <p:cNvGrpSpPr/>
            <p:nvPr/>
          </p:nvGrpSpPr>
          <p:grpSpPr>
            <a:xfrm>
              <a:off x="8245080" y="3585600"/>
              <a:ext cx="927720" cy="686520"/>
              <a:chOff x="8245080" y="3585600"/>
              <a:chExt cx="927720" cy="686520"/>
            </a:xfrm>
          </p:grpSpPr>
          <p:sp>
            <p:nvSpPr>
              <p:cNvPr id="205" name=""/>
              <p:cNvSpPr/>
              <p:nvPr/>
            </p:nvSpPr>
            <p:spPr>
              <a:xfrm>
                <a:off x="8245080" y="3585600"/>
                <a:ext cx="927720" cy="686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322480" y="3654000"/>
                <a:ext cx="773280" cy="549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245080" y="4341240"/>
              <a:ext cx="850320" cy="274680"/>
              <a:chOff x="8245080" y="4341240"/>
              <a:chExt cx="850320" cy="274680"/>
            </a:xfrm>
          </p:grpSpPr>
          <p:sp>
            <p:nvSpPr>
              <p:cNvPr id="208" name=""/>
              <p:cNvSpPr/>
              <p:nvPr/>
            </p:nvSpPr>
            <p:spPr>
              <a:xfrm>
                <a:off x="8245080" y="4341240"/>
                <a:ext cx="850320" cy="27468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8322120" y="4410000"/>
                <a:ext cx="695520" cy="137160"/>
                <a:chOff x="8322120" y="4410000"/>
                <a:chExt cx="695520" cy="137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832212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32212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39952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9952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4765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4765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5539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5539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3136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63136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7084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7084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7858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7858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86320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86320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94024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024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9250200" y="4410000"/>
              <a:ext cx="196560" cy="274320"/>
              <a:chOff x="9250200" y="4410000"/>
              <a:chExt cx="196560" cy="274320"/>
            </a:xfrm>
          </p:grpSpPr>
          <p:sp>
            <p:nvSpPr>
              <p:cNvPr id="229" name=""/>
              <p:cNvSpPr/>
              <p:nvPr/>
            </p:nvSpPr>
            <p:spPr>
              <a:xfrm>
                <a:off x="9250200" y="4410000"/>
                <a:ext cx="196560" cy="274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9306360" y="441000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9095760" y="427248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626240" y="3448080"/>
              <a:ext cx="541080" cy="1167840"/>
              <a:chOff x="7626240" y="3448080"/>
              <a:chExt cx="541080" cy="1167840"/>
            </a:xfrm>
          </p:grpSpPr>
          <p:sp>
            <p:nvSpPr>
              <p:cNvPr id="233" name=""/>
              <p:cNvSpPr/>
              <p:nvPr/>
            </p:nvSpPr>
            <p:spPr>
              <a:xfrm>
                <a:off x="7626240" y="3448080"/>
                <a:ext cx="541080" cy="11678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03640" y="35168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03640" y="37227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4222800" y="4135320"/>
            <a:ext cx="1820520" cy="1238040"/>
            <a:chOff x="4222800" y="4135320"/>
            <a:chExt cx="1820520" cy="1238040"/>
          </a:xfrm>
        </p:grpSpPr>
        <p:grpSp>
          <p:nvGrpSpPr>
            <p:cNvPr id="237" name=""/>
            <p:cNvGrpSpPr/>
            <p:nvPr/>
          </p:nvGrpSpPr>
          <p:grpSpPr>
            <a:xfrm>
              <a:off x="4841640" y="4272840"/>
              <a:ext cx="927720" cy="687600"/>
              <a:chOff x="4841640" y="4272840"/>
              <a:chExt cx="927720" cy="687600"/>
            </a:xfrm>
          </p:grpSpPr>
          <p:sp>
            <p:nvSpPr>
              <p:cNvPr id="238" name=""/>
              <p:cNvSpPr/>
              <p:nvPr/>
            </p:nvSpPr>
            <p:spPr>
              <a:xfrm>
                <a:off x="484164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1904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41640" y="5029560"/>
              <a:ext cx="850320" cy="275040"/>
              <a:chOff x="4841640" y="5029560"/>
              <a:chExt cx="850320" cy="275040"/>
            </a:xfrm>
          </p:grpSpPr>
          <p:sp>
            <p:nvSpPr>
              <p:cNvPr id="241" name=""/>
              <p:cNvSpPr/>
              <p:nvPr/>
            </p:nvSpPr>
            <p:spPr>
              <a:xfrm>
                <a:off x="484164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4918680" y="5098320"/>
                <a:ext cx="695520" cy="137160"/>
                <a:chOff x="4918680" y="5098320"/>
                <a:chExt cx="695520" cy="137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9186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9186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9960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9960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0731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0731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1505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05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2792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22792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3049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3049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3823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3823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45976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45976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5368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5368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" name=""/>
            <p:cNvGrpSpPr/>
            <p:nvPr/>
          </p:nvGrpSpPr>
          <p:grpSpPr>
            <a:xfrm>
              <a:off x="5846760" y="5098680"/>
              <a:ext cx="196560" cy="274680"/>
              <a:chOff x="5846760" y="5098680"/>
              <a:chExt cx="19656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84676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0292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69232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222800" y="4135320"/>
              <a:ext cx="541080" cy="1169640"/>
              <a:chOff x="4222800" y="4135320"/>
              <a:chExt cx="541080" cy="1169640"/>
            </a:xfrm>
          </p:grpSpPr>
          <p:sp>
            <p:nvSpPr>
              <p:cNvPr id="266" name=""/>
              <p:cNvSpPr/>
              <p:nvPr/>
            </p:nvSpPr>
            <p:spPr>
              <a:xfrm>
                <a:off x="422280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0020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0020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4222800" y="2828880"/>
            <a:ext cx="1820520" cy="1238040"/>
            <a:chOff x="4222800" y="2828880"/>
            <a:chExt cx="1820520" cy="1238040"/>
          </a:xfrm>
        </p:grpSpPr>
        <p:grpSp>
          <p:nvGrpSpPr>
            <p:cNvPr id="270" name=""/>
            <p:cNvGrpSpPr/>
            <p:nvPr/>
          </p:nvGrpSpPr>
          <p:grpSpPr>
            <a:xfrm>
              <a:off x="4841640" y="2966400"/>
              <a:ext cx="927720" cy="687600"/>
              <a:chOff x="4841640" y="2966400"/>
              <a:chExt cx="927720" cy="687600"/>
            </a:xfrm>
          </p:grpSpPr>
          <p:sp>
            <p:nvSpPr>
              <p:cNvPr id="271" name=""/>
              <p:cNvSpPr/>
              <p:nvPr/>
            </p:nvSpPr>
            <p:spPr>
              <a:xfrm>
                <a:off x="484164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91904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841640" y="3723120"/>
              <a:ext cx="850320" cy="275040"/>
              <a:chOff x="4841640" y="3723120"/>
              <a:chExt cx="850320" cy="275040"/>
            </a:xfrm>
          </p:grpSpPr>
          <p:sp>
            <p:nvSpPr>
              <p:cNvPr id="274" name=""/>
              <p:cNvSpPr/>
              <p:nvPr/>
            </p:nvSpPr>
            <p:spPr>
              <a:xfrm>
                <a:off x="484164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4918680" y="3791880"/>
                <a:ext cx="695520" cy="137160"/>
                <a:chOff x="4918680" y="3791880"/>
                <a:chExt cx="695520" cy="1371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9186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9186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960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9960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0731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731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1505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1505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22792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22792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049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3049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3823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3823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45976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45976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5368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5368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5846760" y="3792240"/>
              <a:ext cx="196560" cy="274680"/>
              <a:chOff x="5846760" y="3792240"/>
              <a:chExt cx="1965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584676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90292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69232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222800" y="2828880"/>
              <a:ext cx="541080" cy="1169640"/>
              <a:chOff x="4222800" y="2828880"/>
              <a:chExt cx="541080" cy="1169640"/>
            </a:xfrm>
          </p:grpSpPr>
          <p:sp>
            <p:nvSpPr>
              <p:cNvPr id="299" name=""/>
              <p:cNvSpPr/>
              <p:nvPr/>
            </p:nvSpPr>
            <p:spPr>
              <a:xfrm>
                <a:off x="422280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0020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0020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2133720" y="2828880"/>
            <a:ext cx="1820520" cy="1238040"/>
            <a:chOff x="2133720" y="2828880"/>
            <a:chExt cx="1820520" cy="1238040"/>
          </a:xfrm>
        </p:grpSpPr>
        <p:grpSp>
          <p:nvGrpSpPr>
            <p:cNvPr id="303" name=""/>
            <p:cNvGrpSpPr/>
            <p:nvPr/>
          </p:nvGrpSpPr>
          <p:grpSpPr>
            <a:xfrm>
              <a:off x="2752560" y="2966400"/>
              <a:ext cx="927720" cy="687600"/>
              <a:chOff x="2752560" y="2966400"/>
              <a:chExt cx="927720" cy="687600"/>
            </a:xfrm>
          </p:grpSpPr>
          <p:sp>
            <p:nvSpPr>
              <p:cNvPr id="304" name=""/>
              <p:cNvSpPr/>
              <p:nvPr/>
            </p:nvSpPr>
            <p:spPr>
              <a:xfrm>
                <a:off x="275256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2996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752560" y="3723120"/>
              <a:ext cx="850320" cy="275040"/>
              <a:chOff x="2752560" y="3723120"/>
              <a:chExt cx="850320" cy="275040"/>
            </a:xfrm>
          </p:grpSpPr>
          <p:sp>
            <p:nvSpPr>
              <p:cNvPr id="307" name=""/>
              <p:cNvSpPr/>
              <p:nvPr/>
            </p:nvSpPr>
            <p:spPr>
              <a:xfrm>
                <a:off x="275256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2829600" y="3791880"/>
                <a:ext cx="695520" cy="137160"/>
                <a:chOff x="2829600" y="3791880"/>
                <a:chExt cx="695520" cy="1371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8296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296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90700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90700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9840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9840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614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0614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13884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13884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2158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2158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2932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2932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3706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3706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477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4477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3757680" y="3792240"/>
              <a:ext cx="196560" cy="274680"/>
              <a:chOff x="3757680" y="3792240"/>
              <a:chExt cx="196560" cy="274680"/>
            </a:xfrm>
          </p:grpSpPr>
          <p:sp>
            <p:nvSpPr>
              <p:cNvPr id="328" name=""/>
              <p:cNvSpPr/>
              <p:nvPr/>
            </p:nvSpPr>
            <p:spPr>
              <a:xfrm>
                <a:off x="375768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1384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360324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2133720" y="2828880"/>
              <a:ext cx="541080" cy="1169640"/>
              <a:chOff x="2133720" y="2828880"/>
              <a:chExt cx="541080" cy="1169640"/>
            </a:xfrm>
          </p:grpSpPr>
          <p:sp>
            <p:nvSpPr>
              <p:cNvPr id="332" name=""/>
              <p:cNvSpPr/>
              <p:nvPr/>
            </p:nvSpPr>
            <p:spPr>
              <a:xfrm>
                <a:off x="213372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1112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1112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2133720" y="4135320"/>
            <a:ext cx="1820520" cy="1238040"/>
            <a:chOff x="2133720" y="4135320"/>
            <a:chExt cx="1820520" cy="1238040"/>
          </a:xfrm>
        </p:grpSpPr>
        <p:grpSp>
          <p:nvGrpSpPr>
            <p:cNvPr id="336" name=""/>
            <p:cNvGrpSpPr/>
            <p:nvPr/>
          </p:nvGrpSpPr>
          <p:grpSpPr>
            <a:xfrm>
              <a:off x="2752560" y="4272840"/>
              <a:ext cx="927720" cy="687600"/>
              <a:chOff x="2752560" y="4272840"/>
              <a:chExt cx="927720" cy="687600"/>
            </a:xfrm>
          </p:grpSpPr>
          <p:sp>
            <p:nvSpPr>
              <p:cNvPr id="337" name=""/>
              <p:cNvSpPr/>
              <p:nvPr/>
            </p:nvSpPr>
            <p:spPr>
              <a:xfrm>
                <a:off x="275256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82996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2752560" y="5029560"/>
              <a:ext cx="850320" cy="275040"/>
              <a:chOff x="2752560" y="5029560"/>
              <a:chExt cx="850320" cy="275040"/>
            </a:xfrm>
          </p:grpSpPr>
          <p:sp>
            <p:nvSpPr>
              <p:cNvPr id="340" name=""/>
              <p:cNvSpPr/>
              <p:nvPr/>
            </p:nvSpPr>
            <p:spPr>
              <a:xfrm>
                <a:off x="275256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2829600" y="5098320"/>
                <a:ext cx="695520" cy="137160"/>
                <a:chOff x="2829600" y="5098320"/>
                <a:chExt cx="695520" cy="1371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8296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8296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90700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90700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9840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9840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0614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0614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13884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13884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2158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2158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2932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2932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3706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3706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4477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4477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3757680" y="5098680"/>
              <a:ext cx="196560" cy="274680"/>
              <a:chOff x="3757680" y="5098680"/>
              <a:chExt cx="196560" cy="274680"/>
            </a:xfrm>
          </p:grpSpPr>
          <p:sp>
            <p:nvSpPr>
              <p:cNvPr id="361" name=""/>
              <p:cNvSpPr/>
              <p:nvPr/>
            </p:nvSpPr>
            <p:spPr>
              <a:xfrm>
                <a:off x="375768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1384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360324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133720" y="4135320"/>
              <a:ext cx="541080" cy="1169640"/>
              <a:chOff x="2133720" y="4135320"/>
              <a:chExt cx="541080" cy="1169640"/>
            </a:xfrm>
          </p:grpSpPr>
          <p:sp>
            <p:nvSpPr>
              <p:cNvPr id="365" name=""/>
              <p:cNvSpPr/>
              <p:nvPr/>
            </p:nvSpPr>
            <p:spPr>
              <a:xfrm>
                <a:off x="213372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1112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21112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>
            <a:off x="2830680" y="3035160"/>
            <a:ext cx="772920" cy="549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17960" y="3035160"/>
            <a:ext cx="774720" cy="549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23200" y="3929040"/>
            <a:ext cx="385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17960" y="4341960"/>
            <a:ext cx="774720" cy="54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5200" y="2416320"/>
            <a:ext cx="5260680" cy="3300120"/>
            <a:chOff x="2365200" y="2416320"/>
            <a:chExt cx="5260680" cy="3300120"/>
          </a:xfrm>
        </p:grpSpPr>
        <p:grpSp>
          <p:nvGrpSpPr>
            <p:cNvPr id="373" name=""/>
            <p:cNvGrpSpPr/>
            <p:nvPr/>
          </p:nvGrpSpPr>
          <p:grpSpPr>
            <a:xfrm>
              <a:off x="2365200" y="2416320"/>
              <a:ext cx="4486680" cy="3300120"/>
              <a:chOff x="2365200" y="2416320"/>
              <a:chExt cx="4486680" cy="3300120"/>
            </a:xfrm>
          </p:grpSpPr>
          <p:sp>
            <p:nvSpPr>
              <p:cNvPr id="374" name=""/>
              <p:cNvSpPr/>
              <p:nvPr/>
            </p:nvSpPr>
            <p:spPr>
              <a:xfrm>
                <a:off x="2365200" y="241632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365200" y="571644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51880" y="2416320"/>
                <a:ext cx="0" cy="3300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3096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520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36520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53096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852240" y="4134960"/>
              <a:ext cx="77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8323200" y="3654360"/>
            <a:ext cx="385920" cy="2746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709120" y="3654360"/>
            <a:ext cx="387360" cy="2746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30680" y="4341960"/>
            <a:ext cx="772920" cy="549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709120" y="3929040"/>
            <a:ext cx="3873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8524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Cluster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256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0928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624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3124080" y="2133720"/>
            <a:ext cx="5360760" cy="4190760"/>
            <a:chOff x="3124080" y="2133720"/>
            <a:chExt cx="5360760" cy="4190760"/>
          </a:xfrm>
        </p:grpSpPr>
        <p:grpSp>
          <p:nvGrpSpPr>
            <p:cNvPr id="392" name=""/>
            <p:cNvGrpSpPr/>
            <p:nvPr/>
          </p:nvGrpSpPr>
          <p:grpSpPr>
            <a:xfrm>
              <a:off x="7238880" y="3733920"/>
              <a:ext cx="1028520" cy="761760"/>
              <a:chOff x="7238880" y="3733920"/>
              <a:chExt cx="1028520" cy="761760"/>
            </a:xfrm>
          </p:grpSpPr>
          <p:sp>
            <p:nvSpPr>
              <p:cNvPr id="393" name=""/>
              <p:cNvSpPr/>
              <p:nvPr/>
            </p:nvSpPr>
            <p:spPr>
              <a:xfrm>
                <a:off x="7238880" y="3733920"/>
                <a:ext cx="102852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24560" y="38098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438880" y="3124080"/>
              <a:ext cx="1028160" cy="762120"/>
              <a:chOff x="5438880" y="3124080"/>
              <a:chExt cx="1028160" cy="762120"/>
            </a:xfrm>
          </p:grpSpPr>
          <p:sp>
            <p:nvSpPr>
              <p:cNvPr id="396" name=""/>
              <p:cNvSpPr/>
              <p:nvPr/>
            </p:nvSpPr>
            <p:spPr>
              <a:xfrm>
                <a:off x="5438880" y="3124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24560" y="3200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438880" y="5410080"/>
              <a:ext cx="1028160" cy="762120"/>
              <a:chOff x="5438880" y="5410080"/>
              <a:chExt cx="1028160" cy="762120"/>
            </a:xfrm>
          </p:grpSpPr>
          <p:sp>
            <p:nvSpPr>
              <p:cNvPr id="399" name=""/>
              <p:cNvSpPr/>
              <p:nvPr/>
            </p:nvSpPr>
            <p:spPr>
              <a:xfrm>
                <a:off x="5438880" y="5410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524560" y="5486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438880" y="2133720"/>
              <a:ext cx="1028160" cy="761760"/>
              <a:chOff x="5438880" y="2133720"/>
              <a:chExt cx="1028160" cy="761760"/>
            </a:xfrm>
          </p:grpSpPr>
          <p:sp>
            <p:nvSpPr>
              <p:cNvPr id="402" name=""/>
              <p:cNvSpPr/>
              <p:nvPr/>
            </p:nvSpPr>
            <p:spPr>
              <a:xfrm>
                <a:off x="5438880" y="2133720"/>
                <a:ext cx="102816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24560" y="22096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153200" y="4572000"/>
              <a:ext cx="1331640" cy="457200"/>
              <a:chOff x="7153200" y="4572000"/>
              <a:chExt cx="1331640" cy="45720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7153200" y="4647960"/>
                <a:ext cx="942120" cy="304920"/>
                <a:chOff x="7153200" y="4647960"/>
                <a:chExt cx="942120" cy="3049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153200" y="4647960"/>
                  <a:ext cx="942120" cy="304920"/>
                </a:xfrm>
                <a:prstGeom prst="rect">
                  <a:avLst/>
                </a:prstGeom>
                <a:solidFill>
                  <a:srgbClr val="863d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7238520" y="4724280"/>
                  <a:ext cx="770760" cy="152280"/>
                  <a:chOff x="7238520" y="4724280"/>
                  <a:chExt cx="770760" cy="15228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7238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7238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32420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732420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409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409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4952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74952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58124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58124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66656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66656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775224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75224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83828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83828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9236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79236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8267040" y="4724280"/>
                <a:ext cx="217800" cy="304920"/>
                <a:chOff x="8267040" y="4724280"/>
                <a:chExt cx="217800" cy="3049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8267040" y="4724280"/>
                  <a:ext cx="217800" cy="3049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328960" y="4724280"/>
                  <a:ext cx="93240" cy="110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8095680" y="4572000"/>
                <a:ext cx="3427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144" y="96"/>
                    </a:moveTo>
                    <a:cubicBezTo>
                      <a:pt x="168" y="80"/>
                      <a:pt x="192" y="64"/>
                      <a:pt x="192" y="48"/>
                    </a:cubicBezTo>
                    <a:cubicBezTo>
                      <a:pt x="192" y="32"/>
                      <a:pt x="168" y="0"/>
                      <a:pt x="144" y="0"/>
                    </a:cubicBezTo>
                    <a:cubicBezTo>
                      <a:pt x="120" y="0"/>
                      <a:pt x="72" y="40"/>
                      <a:pt x="48" y="48"/>
                    </a:cubicBezTo>
                    <a:cubicBezTo>
                      <a:pt x="24" y="56"/>
                      <a:pt x="8" y="48"/>
                      <a:pt x="0" y="4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3124080" y="2133720"/>
              <a:ext cx="1457280" cy="4190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95800" y="2286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24560" y="2209680"/>
              <a:ext cx="857160" cy="609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24560" y="3200400"/>
              <a:ext cx="85716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24560" y="4114800"/>
              <a:ext cx="428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24560" y="3809880"/>
              <a:ext cx="42876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53320" y="3809880"/>
              <a:ext cx="42876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4560" y="5486400"/>
              <a:ext cx="857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53320" y="4114800"/>
              <a:ext cx="428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95800" y="28954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95800" y="2590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95800" y="3276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95800" y="38862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95800" y="3581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95800" y="52578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95800" y="5867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95800" y="5562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95560" y="52578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95800" y="42670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95800" y="4876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95800" y="4572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95560" y="327672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95560" y="4267080"/>
              <a:ext cx="489240" cy="83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95560" y="22860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4581360" y="251460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5240" y="2278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4581360" y="3505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55240" y="326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581360" y="5791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55240" y="555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4581360" y="4114800"/>
              <a:ext cx="26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40920" y="387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5438880" y="4343400"/>
              <a:ext cx="1028160" cy="762120"/>
              <a:chOff x="5438880" y="4343400"/>
              <a:chExt cx="1028160" cy="762120"/>
            </a:xfrm>
          </p:grpSpPr>
          <p:sp>
            <p:nvSpPr>
              <p:cNvPr id="463" name=""/>
              <p:cNvSpPr/>
              <p:nvPr/>
            </p:nvSpPr>
            <p:spPr>
              <a:xfrm>
                <a:off x="5438880" y="43434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24560" y="44197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524560" y="44197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581360" y="472428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55240" y="448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ingle-System Imag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8296200" y="3429000"/>
            <a:ext cx="1028520" cy="762120"/>
            <a:chOff x="8296200" y="3429000"/>
            <a:chExt cx="1028520" cy="762120"/>
          </a:xfrm>
        </p:grpSpPr>
        <p:sp>
          <p:nvSpPr>
            <p:cNvPr id="471" name=""/>
            <p:cNvSpPr/>
            <p:nvPr/>
          </p:nvSpPr>
          <p:spPr>
            <a:xfrm>
              <a:off x="8296200" y="3429000"/>
              <a:ext cx="102852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18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8296200" y="2590920"/>
            <a:ext cx="1028520" cy="761760"/>
            <a:chOff x="8296200" y="2590920"/>
            <a:chExt cx="1028520" cy="761760"/>
          </a:xfrm>
        </p:grpSpPr>
        <p:sp>
          <p:nvSpPr>
            <p:cNvPr id="474" name=""/>
            <p:cNvSpPr/>
            <p:nvPr/>
          </p:nvSpPr>
          <p:spPr>
            <a:xfrm>
              <a:off x="8296200" y="2590920"/>
              <a:ext cx="102852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18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182000" y="3429000"/>
            <a:ext cx="1028160" cy="762120"/>
            <a:chOff x="7182000" y="3429000"/>
            <a:chExt cx="1028160" cy="762120"/>
          </a:xfrm>
        </p:grpSpPr>
        <p:sp>
          <p:nvSpPr>
            <p:cNvPr id="477" name=""/>
            <p:cNvSpPr/>
            <p:nvPr/>
          </p:nvSpPr>
          <p:spPr>
            <a:xfrm>
              <a:off x="7182000" y="342900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676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381640" y="3429000"/>
            <a:ext cx="1331640" cy="1219320"/>
            <a:chOff x="5381640" y="3429000"/>
            <a:chExt cx="1331640" cy="1219320"/>
          </a:xfrm>
        </p:grpSpPr>
        <p:grpSp>
          <p:nvGrpSpPr>
            <p:cNvPr id="480" name=""/>
            <p:cNvGrpSpPr/>
            <p:nvPr/>
          </p:nvGrpSpPr>
          <p:grpSpPr>
            <a:xfrm>
              <a:off x="5381640" y="3429000"/>
              <a:ext cx="1028160" cy="762120"/>
              <a:chOff x="5381640" y="3429000"/>
              <a:chExt cx="1028160" cy="762120"/>
            </a:xfrm>
          </p:grpSpPr>
          <p:sp>
            <p:nvSpPr>
              <p:cNvPr id="481" name=""/>
              <p:cNvSpPr/>
              <p:nvPr/>
            </p:nvSpPr>
            <p:spPr>
              <a:xfrm>
                <a:off x="538164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46732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5381640" y="4267440"/>
              <a:ext cx="942120" cy="304560"/>
              <a:chOff x="5381640" y="4267440"/>
              <a:chExt cx="942120" cy="304560"/>
            </a:xfrm>
          </p:grpSpPr>
          <p:sp>
            <p:nvSpPr>
              <p:cNvPr id="484" name=""/>
              <p:cNvSpPr/>
              <p:nvPr/>
            </p:nvSpPr>
            <p:spPr>
              <a:xfrm>
                <a:off x="538164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5466960" y="4343400"/>
                <a:ext cx="770760" cy="151560"/>
                <a:chOff x="5466960" y="4343400"/>
                <a:chExt cx="770760" cy="1515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466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466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5526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5526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637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637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7236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7236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8096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8096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8950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8950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9806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9806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0667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0667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1520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1520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4" name=""/>
            <p:cNvGrpSpPr/>
            <p:nvPr/>
          </p:nvGrpSpPr>
          <p:grpSpPr>
            <a:xfrm>
              <a:off x="6495480" y="4343400"/>
              <a:ext cx="217800" cy="304920"/>
              <a:chOff x="6495480" y="4343400"/>
              <a:chExt cx="217800" cy="304920"/>
            </a:xfrm>
          </p:grpSpPr>
          <p:sp>
            <p:nvSpPr>
              <p:cNvPr id="505" name=""/>
              <p:cNvSpPr/>
              <p:nvPr/>
            </p:nvSpPr>
            <p:spPr>
              <a:xfrm>
                <a:off x="649548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5740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632412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495288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2460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9596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6732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438200" y="3429000"/>
            <a:ext cx="1331640" cy="1219320"/>
            <a:chOff x="1438200" y="3429000"/>
            <a:chExt cx="1331640" cy="1219320"/>
          </a:xfrm>
        </p:grpSpPr>
        <p:grpSp>
          <p:nvGrpSpPr>
            <p:cNvPr id="513" name=""/>
            <p:cNvGrpSpPr/>
            <p:nvPr/>
          </p:nvGrpSpPr>
          <p:grpSpPr>
            <a:xfrm>
              <a:off x="1438200" y="3429000"/>
              <a:ext cx="1027800" cy="762120"/>
              <a:chOff x="1438200" y="3429000"/>
              <a:chExt cx="1027800" cy="762120"/>
            </a:xfrm>
          </p:grpSpPr>
          <p:sp>
            <p:nvSpPr>
              <p:cNvPr id="514" name=""/>
              <p:cNvSpPr/>
              <p:nvPr/>
            </p:nvSpPr>
            <p:spPr>
              <a:xfrm>
                <a:off x="1438200" y="3429000"/>
                <a:ext cx="102780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523880" y="3505320"/>
                <a:ext cx="856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1438200" y="4267440"/>
              <a:ext cx="942120" cy="304560"/>
              <a:chOff x="1438200" y="4267440"/>
              <a:chExt cx="942120" cy="304560"/>
            </a:xfrm>
          </p:grpSpPr>
          <p:sp>
            <p:nvSpPr>
              <p:cNvPr id="517" name=""/>
              <p:cNvSpPr/>
              <p:nvPr/>
            </p:nvSpPr>
            <p:spPr>
              <a:xfrm>
                <a:off x="143820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1523520" y="4343400"/>
                <a:ext cx="770760" cy="151560"/>
                <a:chOff x="1523520" y="4343400"/>
                <a:chExt cx="770760" cy="1515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523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523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6092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6092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694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694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7802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7802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8662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8662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9515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9515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037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037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1232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1232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086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86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7" name=""/>
            <p:cNvGrpSpPr/>
            <p:nvPr/>
          </p:nvGrpSpPr>
          <p:grpSpPr>
            <a:xfrm>
              <a:off x="2552040" y="4343400"/>
              <a:ext cx="217800" cy="304920"/>
              <a:chOff x="2552040" y="4343400"/>
              <a:chExt cx="217800" cy="304920"/>
            </a:xfrm>
          </p:grpSpPr>
          <p:sp>
            <p:nvSpPr>
              <p:cNvPr id="538" name=""/>
              <p:cNvSpPr/>
              <p:nvPr/>
            </p:nvSpPr>
            <p:spPr>
              <a:xfrm>
                <a:off x="255204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61396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238068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23880" y="3810240"/>
              <a:ext cx="4280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23880" y="3505320"/>
              <a:ext cx="42804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52280" y="3505320"/>
              <a:ext cx="42804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52280" y="3810240"/>
              <a:ext cx="4280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409920" y="3429000"/>
            <a:ext cx="1331640" cy="1219320"/>
            <a:chOff x="3409920" y="3429000"/>
            <a:chExt cx="1331640" cy="1219320"/>
          </a:xfrm>
        </p:grpSpPr>
        <p:grpSp>
          <p:nvGrpSpPr>
            <p:cNvPr id="546" name=""/>
            <p:cNvGrpSpPr/>
            <p:nvPr/>
          </p:nvGrpSpPr>
          <p:grpSpPr>
            <a:xfrm>
              <a:off x="3409920" y="3429000"/>
              <a:ext cx="1028160" cy="762120"/>
              <a:chOff x="3409920" y="3429000"/>
              <a:chExt cx="1028160" cy="762120"/>
            </a:xfrm>
          </p:grpSpPr>
          <p:sp>
            <p:nvSpPr>
              <p:cNvPr id="547" name=""/>
              <p:cNvSpPr/>
              <p:nvPr/>
            </p:nvSpPr>
            <p:spPr>
              <a:xfrm>
                <a:off x="340992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49560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409920" y="4267440"/>
              <a:ext cx="942120" cy="304560"/>
              <a:chOff x="3409920" y="4267440"/>
              <a:chExt cx="942120" cy="304560"/>
            </a:xfrm>
          </p:grpSpPr>
          <p:sp>
            <p:nvSpPr>
              <p:cNvPr id="550" name=""/>
              <p:cNvSpPr/>
              <p:nvPr/>
            </p:nvSpPr>
            <p:spPr>
              <a:xfrm>
                <a:off x="340992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3495240" y="4343400"/>
                <a:ext cx="770760" cy="151560"/>
                <a:chOff x="3495240" y="4343400"/>
                <a:chExt cx="770760" cy="1515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3495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495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5809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5809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666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666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7519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7519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83796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83796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9232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9232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008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008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0950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0950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1803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1803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0" name=""/>
            <p:cNvGrpSpPr/>
            <p:nvPr/>
          </p:nvGrpSpPr>
          <p:grpSpPr>
            <a:xfrm>
              <a:off x="4523760" y="4343400"/>
              <a:ext cx="217800" cy="304920"/>
              <a:chOff x="4523760" y="4343400"/>
              <a:chExt cx="217800" cy="304920"/>
            </a:xfrm>
          </p:grpSpPr>
          <p:sp>
            <p:nvSpPr>
              <p:cNvPr id="571" name=""/>
              <p:cNvSpPr/>
              <p:nvPr/>
            </p:nvSpPr>
            <p:spPr>
              <a:xfrm>
                <a:off x="452376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58568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435240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5288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2424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49560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7182000" y="2590920"/>
            <a:ext cx="1028160" cy="761760"/>
            <a:chOff x="7182000" y="2590920"/>
            <a:chExt cx="1028160" cy="761760"/>
          </a:xfrm>
        </p:grpSpPr>
        <p:sp>
          <p:nvSpPr>
            <p:cNvPr id="579" name=""/>
            <p:cNvSpPr/>
            <p:nvPr/>
          </p:nvSpPr>
          <p:spPr>
            <a:xfrm>
              <a:off x="7182000" y="2590920"/>
              <a:ext cx="102816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676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7182000" y="4267080"/>
            <a:ext cx="942480" cy="304920"/>
            <a:chOff x="7182000" y="4267080"/>
            <a:chExt cx="942480" cy="304920"/>
          </a:xfrm>
        </p:grpSpPr>
        <p:sp>
          <p:nvSpPr>
            <p:cNvPr id="582" name=""/>
            <p:cNvSpPr/>
            <p:nvPr/>
          </p:nvSpPr>
          <p:spPr>
            <a:xfrm>
              <a:off x="7182000" y="4267080"/>
              <a:ext cx="942480" cy="304920"/>
            </a:xfrm>
            <a:prstGeom prst="rect">
              <a:avLst/>
            </a:prstGeom>
            <a:solidFill>
              <a:srgbClr val="863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267320" y="4343400"/>
              <a:ext cx="771120" cy="152280"/>
              <a:chOff x="7267320" y="4343400"/>
              <a:chExt cx="771120" cy="152280"/>
            </a:xfrm>
          </p:grpSpPr>
          <p:sp>
            <p:nvSpPr>
              <p:cNvPr id="584" name=""/>
              <p:cNvSpPr/>
              <p:nvPr/>
            </p:nvSpPr>
            <p:spPr>
              <a:xfrm>
                <a:off x="7267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67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5300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5300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438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438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5243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5243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100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100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6957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6957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78140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8140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8674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8674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9527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9527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8296200" y="4343400"/>
            <a:ext cx="217440" cy="304920"/>
            <a:chOff x="8296200" y="4343400"/>
            <a:chExt cx="217440" cy="304920"/>
          </a:xfrm>
        </p:grpSpPr>
        <p:sp>
          <p:nvSpPr>
            <p:cNvPr id="603" name=""/>
            <p:cNvSpPr/>
            <p:nvPr/>
          </p:nvSpPr>
          <p:spPr>
            <a:xfrm>
              <a:off x="8296200" y="4343400"/>
              <a:ext cx="217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58120" y="4343400"/>
              <a:ext cx="93240" cy="11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8124840" y="4191120"/>
            <a:ext cx="3427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44" y="96"/>
                </a:moveTo>
                <a:cubicBezTo>
                  <a:pt x="168" y="80"/>
                  <a:pt x="192" y="64"/>
                  <a:pt x="192" y="48"/>
                </a:cubicBezTo>
                <a:cubicBezTo>
                  <a:pt x="192" y="32"/>
                  <a:pt x="168" y="0"/>
                  <a:pt x="144" y="0"/>
                </a:cubicBezTo>
                <a:cubicBezTo>
                  <a:pt x="120" y="0"/>
                  <a:pt x="72" y="40"/>
                  <a:pt x="48" y="48"/>
                </a:cubicBezTo>
                <a:cubicBezTo>
                  <a:pt x="24" y="56"/>
                  <a:pt x="8" y="48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7680" y="2666880"/>
            <a:ext cx="85716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81880" y="2666880"/>
            <a:ext cx="85752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267680" y="35053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1880" y="3505320"/>
            <a:ext cx="857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9548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6720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385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3533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Decomposi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The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learn about hardwa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understand how your app interacts with 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st utilize th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ly can use extra hardware fea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tform docu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lk with hardware ven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PU Opera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transferred from main memory to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 works on data in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sters: 0 (fre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1 (L1) cache: 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2 (L2) cache:  10x L1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 memory:  100x L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4495680" y="3809880"/>
            <a:ext cx="5410440" cy="1447920"/>
            <a:chOff x="4495680" y="3809880"/>
            <a:chExt cx="5410440" cy="1447920"/>
          </a:xfrm>
        </p:grpSpPr>
        <p:sp>
          <p:nvSpPr>
            <p:cNvPr id="620" name=""/>
            <p:cNvSpPr/>
            <p:nvPr/>
          </p:nvSpPr>
          <p:spPr>
            <a:xfrm>
              <a:off x="5943600" y="4572000"/>
              <a:ext cx="22860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95680" y="3809880"/>
              <a:ext cx="1447920" cy="1447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72200" y="3809880"/>
              <a:ext cx="533520" cy="14479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934320" y="3809880"/>
              <a:ext cx="533160" cy="1447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96080" y="3809880"/>
              <a:ext cx="533520" cy="14479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58200" y="3809880"/>
              <a:ext cx="1447920" cy="1447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05720" y="4572000"/>
              <a:ext cx="22860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45720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29600" y="45720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designed to exploit data localit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mpor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505320" y="2590920"/>
            <a:ext cx="5410080" cy="3276360"/>
            <a:chOff x="3505320" y="2590920"/>
            <a:chExt cx="5410080" cy="3276360"/>
          </a:xfrm>
        </p:grpSpPr>
        <p:sp>
          <p:nvSpPr>
            <p:cNvPr id="632" name=""/>
            <p:cNvSpPr/>
            <p:nvPr/>
          </p:nvSpPr>
          <p:spPr>
            <a:xfrm>
              <a:off x="6934320" y="2590920"/>
              <a:ext cx="1676160" cy="266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62520" y="2590920"/>
              <a:ext cx="1523880" cy="152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62520" y="4495680"/>
              <a:ext cx="1523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62520" y="4876560"/>
              <a:ext cx="1523880" cy="3805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05320" y="5867280"/>
              <a:ext cx="5410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724280" y="5257440"/>
              <a:ext cx="0" cy="609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72400" y="5257440"/>
              <a:ext cx="0" cy="609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62520" y="4114440"/>
              <a:ext cx="1523880" cy="38088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s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Log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29000" y="2057400"/>
            <a:ext cx="190512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43600" y="2057400"/>
            <a:ext cx="17524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2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2057400"/>
            <a:ext cx="22096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Registe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stCxn id="643" idx="3"/>
            <a:endCxn id="641" idx="1"/>
          </p:cNvCxnSpPr>
          <p:nvPr/>
        </p:nvCxnSpPr>
        <p:spPr>
          <a:xfrm>
            <a:off x="2895480" y="2742840"/>
            <a:ext cx="5342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45" name=""/>
          <p:cNvCxnSpPr>
            <a:stCxn id="641" idx="3"/>
            <a:endCxn id="642" idx="1"/>
          </p:cNvCxnSpPr>
          <p:nvPr/>
        </p:nvCxnSpPr>
        <p:spPr>
          <a:xfrm>
            <a:off x="5333760" y="2742840"/>
            <a:ext cx="6102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46" name=""/>
          <p:cNvSpPr/>
          <p:nvPr/>
        </p:nvSpPr>
        <p:spPr>
          <a:xfrm>
            <a:off x="914400" y="4800600"/>
            <a:ext cx="1752480" cy="1219320"/>
          </a:xfrm>
          <a:prstGeom prst="flowChartProcess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7" name=""/>
          <p:cNvCxnSpPr>
            <a:stCxn id="642" idx="2"/>
            <a:endCxn id="648" idx="0"/>
          </p:cNvCxnSpPr>
          <p:nvPr/>
        </p:nvCxnSpPr>
        <p:spPr>
          <a:xfrm>
            <a:off x="68194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48" name=""/>
          <p:cNvSpPr/>
          <p:nvPr/>
        </p:nvSpPr>
        <p:spPr>
          <a:xfrm>
            <a:off x="5943600" y="4800600"/>
            <a:ext cx="1752480" cy="121932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05320" y="4800600"/>
            <a:ext cx="1752480" cy="1219320"/>
          </a:xfrm>
          <a:prstGeom prst="flowChartProcess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0" name=""/>
          <p:cNvCxnSpPr>
            <a:stCxn id="641" idx="2"/>
            <a:endCxn id="649" idx="0"/>
          </p:cNvCxnSpPr>
          <p:nvPr/>
        </p:nvCxnSpPr>
        <p:spPr>
          <a:xfrm>
            <a:off x="438120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9" idx="1"/>
            <a:endCxn id="646" idx="3"/>
          </p:cNvCxnSpPr>
          <p:nvPr/>
        </p:nvCxnSpPr>
        <p:spPr>
          <a:xfrm flipH="1">
            <a:off x="2666160" y="5409720"/>
            <a:ext cx="8391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8" idx="1"/>
            <a:endCxn id="649" idx="3"/>
          </p:cNvCxnSpPr>
          <p:nvPr/>
        </p:nvCxnSpPr>
        <p:spPr>
          <a:xfrm flipH="1">
            <a:off x="5257080" y="5409720"/>
            <a:ext cx="686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53" name=""/>
          <p:cNvSpPr/>
          <p:nvPr/>
        </p:nvSpPr>
        <p:spPr>
          <a:xfrm>
            <a:off x="7924680" y="3505320"/>
            <a:ext cx="1752840" cy="1218960"/>
          </a:xfrm>
          <a:prstGeom prst="flowChartProcess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42" idx="3"/>
            <a:endCxn id="653" idx="0"/>
          </p:cNvCxnSpPr>
          <p:nvPr/>
        </p:nvCxnSpPr>
        <p:spPr>
          <a:xfrm>
            <a:off x="7696080" y="2742840"/>
            <a:ext cx="1105920" cy="76284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53" idx="2"/>
            <a:endCxn id="648" idx="3"/>
          </p:cNvCxnSpPr>
          <p:nvPr/>
        </p:nvCxnSpPr>
        <p:spPr>
          <a:xfrm rot="5400000">
            <a:off x="7905240" y="4514400"/>
            <a:ext cx="686520" cy="110592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56" name=""/>
          <p:cNvSpPr/>
          <p:nvPr/>
        </p:nvSpPr>
        <p:spPr>
          <a:xfrm>
            <a:off x="64771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479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9" name=""/>
          <p:cNvCxnSpPr>
            <a:stCxn id="643" idx="2"/>
            <a:endCxn id="646" idx="0"/>
          </p:cNvCxnSpPr>
          <p:nvPr/>
        </p:nvCxnSpPr>
        <p:spPr>
          <a:xfrm>
            <a:off x="17902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341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9608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Phys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32004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25146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3880" y="45720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25146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38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238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238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5238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5238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382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82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382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23880" y="4267080"/>
            <a:ext cx="914400" cy="763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4382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4382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26668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5780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43400" y="29718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15200" y="4648320"/>
            <a:ext cx="1371600" cy="13716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15200" y="4267080"/>
            <a:ext cx="1371600" cy="3812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67920" y="2630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9720" y="18288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9892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2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16616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3124080"/>
            <a:ext cx="1828800" cy="106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46748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46748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467480" y="28195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46748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6748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467480" y="3124080"/>
            <a:ext cx="914400" cy="15264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46748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46748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28800" y="4267080"/>
            <a:ext cx="76320" cy="7632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77320" y="3124080"/>
            <a:ext cx="152280" cy="1526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43400" y="32767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5780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57800" y="31240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13" name=""/>
          <p:cNvCxnSpPr>
            <a:stCxn id="714" idx="0"/>
            <a:endCxn id="703" idx="1"/>
          </p:cNvCxnSpPr>
          <p:nvPr/>
        </p:nvCxnSpPr>
        <p:spPr>
          <a:xfrm flipH="1" rot="16200000">
            <a:off x="5921280" y="1678320"/>
            <a:ext cx="400680" cy="2642400"/>
          </a:xfrm>
          <a:prstGeom prst="curvedConnector5">
            <a:avLst>
              <a:gd name="adj1" fmla="val -52338"/>
              <a:gd name="adj2" fmla="val 29554"/>
              <a:gd name="adj3" fmla="val -52338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707" idx="2"/>
            <a:endCxn id="692" idx="1"/>
          </p:cNvCxnSpPr>
          <p:nvPr/>
        </p:nvCxnSpPr>
        <p:spPr>
          <a:xfrm rot="5400000">
            <a:off x="7143120" y="3448080"/>
            <a:ext cx="1181880" cy="838800"/>
          </a:xfrm>
          <a:prstGeom prst="curvedConnector5">
            <a:avLst>
              <a:gd name="adj1" fmla="val 41925"/>
              <a:gd name="adj2" fmla="val 63632"/>
              <a:gd name="adj3" fmla="val 41925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716" name=""/>
          <p:cNvSpPr/>
          <p:nvPr/>
        </p:nvSpPr>
        <p:spPr>
          <a:xfrm>
            <a:off x="4343400" y="34290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5780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43400" y="35812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25780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343400" y="37339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257800" y="37339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43400" y="38862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257800" y="38862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43400" y="40384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257800" y="40384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26" name=""/>
          <p:cNvCxnSpPr/>
          <p:nvPr/>
        </p:nvCxnSpPr>
        <p:spPr>
          <a:xfrm flipV="1">
            <a:off x="2437920" y="2971440"/>
            <a:ext cx="2807640" cy="1296000"/>
          </a:xfrm>
          <a:prstGeom prst="curvedConnector2">
            <a:avLst/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4343400" y="2819520"/>
            <a:ext cx="1828800" cy="15228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43400" y="2819520"/>
            <a:ext cx="914400" cy="152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05120" y="4267080"/>
            <a:ext cx="75960" cy="76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05520" y="281952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229600" y="3124080"/>
            <a:ext cx="15228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t elements are often allocated as-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leads to spatial disp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es, normals, textur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tigated by use of application memory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: malloc, malloc, malloc, m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: pools - pool_init, pool_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219320" y="5257800"/>
            <a:ext cx="1981080" cy="1000080"/>
            <a:chOff x="1219320" y="5257800"/>
            <a:chExt cx="1981080" cy="1000080"/>
          </a:xfrm>
        </p:grpSpPr>
        <p:sp>
          <p:nvSpPr>
            <p:cNvPr id="735" name=""/>
            <p:cNvSpPr/>
            <p:nvPr/>
          </p:nvSpPr>
          <p:spPr>
            <a:xfrm>
              <a:off x="1219320" y="52578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42800" y="52578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19320" y="5382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42800" y="5382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66640" y="52578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90480" y="52578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66640" y="5382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90480" y="5382720"/>
              <a:ext cx="12384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19320" y="5507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342800" y="5507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219320" y="5632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42800" y="5632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66640" y="5507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90480" y="5507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5632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590480" y="5632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14320" y="52578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838160" y="52578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714320" y="5382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838160" y="5382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962000" y="52578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085840" y="52578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62000" y="5382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85840" y="5382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714320" y="5507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838160" y="5507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14320" y="5632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38160" y="5632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62000" y="5507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85840" y="5507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62000" y="5632560"/>
              <a:ext cx="12348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85840" y="5632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09680" y="52578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33520" y="52578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09680" y="5382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33520" y="5382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457360" y="52578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581200" y="52578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57360" y="5382720"/>
              <a:ext cx="12348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81200" y="5382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09680" y="5507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333520" y="5507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09680" y="5632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33520" y="5632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57360" y="5507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81200" y="5507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57360" y="5632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581200" y="5632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05040" y="52578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28880" y="52578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05040" y="5382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28880" y="5382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52720" y="52578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76560" y="52578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52720" y="5382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76560" y="5382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05040" y="5507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28880" y="5507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05040" y="5632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28880" y="5632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52720" y="5507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76560" y="5507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52720" y="5632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76560" y="5632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19320" y="5757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42800" y="5757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19320" y="5882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42800" y="5882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466640" y="5757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590480" y="5757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466640" y="5882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90480" y="5882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19320" y="6007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42800" y="6007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219320" y="61329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42800" y="61329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466640" y="6007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90480" y="6007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66640" y="61329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90480" y="61329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14320" y="5757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38160" y="5757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714320" y="5882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38160" y="5882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62000" y="5757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85840" y="5757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962000" y="5882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085840" y="5882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714320" y="6007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838160" y="6007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714320" y="61329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838160" y="61329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62000" y="6007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85840" y="6007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62000" y="61329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85840" y="61329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209680" y="5757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333520" y="5757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209680" y="5882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33520" y="5882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57360" y="5757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581200" y="5757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57360" y="5882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81200" y="5882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09680" y="6007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33520" y="6007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09680" y="61329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33520" y="61329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57360" y="6007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581200" y="6007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57360" y="61329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581200" y="61329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05040" y="5757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828880" y="5757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05040" y="5882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828880" y="5882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952720" y="5757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76560" y="5757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52720" y="5882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76560" y="5882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05040" y="6007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28880" y="6007680"/>
              <a:ext cx="12384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05040" y="61329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28880" y="61329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52720" y="6007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76560" y="6007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952720" y="61329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76560" y="61329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219320" y="5257800"/>
              <a:ext cx="1981080" cy="1000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572000" y="5257800"/>
            <a:ext cx="1981080" cy="1000080"/>
            <a:chOff x="4572000" y="5257800"/>
            <a:chExt cx="1981080" cy="1000080"/>
          </a:xfrm>
        </p:grpSpPr>
        <p:sp>
          <p:nvSpPr>
            <p:cNvPr id="865" name=""/>
            <p:cNvSpPr/>
            <p:nvPr/>
          </p:nvSpPr>
          <p:spPr>
            <a:xfrm>
              <a:off x="457200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69584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7200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9584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1968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94352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1968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4352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9584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7200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9584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1968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352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81968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4352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67360" y="5257800"/>
              <a:ext cx="12348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9084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67360" y="5383080"/>
              <a:ext cx="12348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9084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1468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3852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31468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43852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067360" y="5508360"/>
              <a:ext cx="12348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9084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67360" y="5632200"/>
              <a:ext cx="12348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9084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31468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43852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31468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43852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6236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68620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6236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68620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81004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93388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1004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3388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56236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68620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6236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68620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1004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3388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1004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3388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5772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18156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5772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18156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0540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29240" y="52578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0540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9240" y="53830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5772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8156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05772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18156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30540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29240" y="55083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30540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29240" y="56322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572000" y="57578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695840" y="57578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57200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69584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19680" y="57578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943520" y="5757840"/>
              <a:ext cx="123840" cy="1252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1968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94352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7200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9584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57200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9584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81968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94352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1968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94352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67360" y="5757840"/>
              <a:ext cx="123480" cy="1252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190840" y="5757840"/>
              <a:ext cx="123840" cy="1252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67360" y="5883120"/>
              <a:ext cx="12348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084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14680" y="5757840"/>
              <a:ext cx="123840" cy="1252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438520" y="5757840"/>
              <a:ext cx="123840" cy="125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1468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43852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67360" y="6008400"/>
              <a:ext cx="12348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19084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67360" y="6132240"/>
              <a:ext cx="12348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9084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1468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3852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31468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3852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360" y="5757840"/>
              <a:ext cx="123840" cy="125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86200" y="5757840"/>
              <a:ext cx="123840" cy="125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6236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8620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10040" y="5757840"/>
              <a:ext cx="123840" cy="125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933880" y="5757840"/>
              <a:ext cx="123840" cy="125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004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3388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6236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8620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6236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620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81004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93388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004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3388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57720" y="57578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81560" y="57578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5772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8156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305400" y="57578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429240" y="57578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0540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29240" y="58831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5772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156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05772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18156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0540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29240" y="60084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0540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29240" y="61322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572000" y="5257800"/>
              <a:ext cx="1981080" cy="1000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7391520" y="380880"/>
            <a:ext cx="121896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urse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is your application drawing so slowly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actually be the 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the data traver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something entirely differ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Vertex Array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1219320" y="1828800"/>
          <a:ext cx="665136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665136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731520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ip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371600" y="2057400"/>
            <a:ext cx="7315200" cy="2600280"/>
            <a:chOff x="1371600" y="2057400"/>
            <a:chExt cx="7315200" cy="2600280"/>
          </a:xfrm>
        </p:grpSpPr>
        <p:sp>
          <p:nvSpPr>
            <p:cNvPr id="1001" name=""/>
            <p:cNvSpPr/>
            <p:nvPr/>
          </p:nvSpPr>
          <p:spPr>
            <a:xfrm>
              <a:off x="1371600" y="2057400"/>
              <a:ext cx="7134120" cy="2298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80040" y="4356000"/>
              <a:ext cx="3144960" cy="3016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505720" y="2782800"/>
              <a:ext cx="181080" cy="4842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01800" y="3751200"/>
              <a:ext cx="2598840" cy="422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F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1673280" y="2481120"/>
              <a:ext cx="3205080" cy="1087560"/>
              <a:chOff x="1673280" y="2481120"/>
              <a:chExt cx="3205080" cy="1087560"/>
            </a:xfrm>
          </p:grpSpPr>
          <p:sp>
            <p:nvSpPr>
              <p:cNvPr id="1006" name=""/>
              <p:cNvSpPr/>
              <p:nvPr/>
            </p:nvSpPr>
            <p:spPr>
              <a:xfrm>
                <a:off x="1673280" y="2481120"/>
                <a:ext cx="320508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79388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x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22400" y="2602080"/>
                <a:ext cx="90648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l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84984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ligh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10" name=""/>
              <p:cNvCxnSpPr>
                <a:stCxn id="1007" idx="3"/>
                <a:endCxn id="1008" idx="1"/>
              </p:cNvCxnSpPr>
              <p:nvPr/>
            </p:nvCxnSpPr>
            <p:spPr>
              <a:xfrm>
                <a:off x="2701440" y="302544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011" name=""/>
              <p:cNvCxnSpPr>
                <a:stCxn id="1008" idx="3"/>
                <a:endCxn id="1009" idx="1"/>
              </p:cNvCxnSpPr>
              <p:nvPr/>
            </p:nvCxnSpPr>
            <p:spPr>
              <a:xfrm>
                <a:off x="3728880" y="3025440"/>
                <a:ext cx="12168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012" name=""/>
            <p:cNvGrpSpPr/>
            <p:nvPr/>
          </p:nvGrpSpPr>
          <p:grpSpPr>
            <a:xfrm>
              <a:off x="5059440" y="2481120"/>
              <a:ext cx="3203640" cy="1087560"/>
              <a:chOff x="5059440" y="2481120"/>
              <a:chExt cx="3203640" cy="1087560"/>
            </a:xfrm>
          </p:grpSpPr>
          <p:sp>
            <p:nvSpPr>
              <p:cNvPr id="1013" name=""/>
              <p:cNvSpPr/>
              <p:nvPr/>
            </p:nvSpPr>
            <p:spPr>
              <a:xfrm>
                <a:off x="5059440" y="2481120"/>
                <a:ext cx="320364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18040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a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0784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23528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op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17" name=""/>
              <p:cNvCxnSpPr>
                <a:stCxn id="1014" idx="3"/>
                <a:endCxn id="1015" idx="1"/>
              </p:cNvCxnSpPr>
              <p:nvPr/>
            </p:nvCxnSpPr>
            <p:spPr>
              <a:xfrm>
                <a:off x="608652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018" name=""/>
              <p:cNvCxnSpPr>
                <a:stCxn id="1015" idx="3"/>
                <a:endCxn id="1016" idx="1"/>
              </p:cNvCxnSpPr>
              <p:nvPr/>
            </p:nvCxnSpPr>
            <p:spPr>
              <a:xfrm>
                <a:off x="711396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cxnSp>
          <p:nvCxnSpPr>
            <p:cNvPr id="1019" name=""/>
            <p:cNvCxnSpPr>
              <a:stCxn id="1002" idx="0"/>
              <a:endCxn id="1004" idx="3"/>
            </p:cNvCxnSpPr>
            <p:nvPr/>
          </p:nvCxnSpPr>
          <p:spPr>
            <a:xfrm flipV="1" rot="16200000">
              <a:off x="5828760" y="3432960"/>
              <a:ext cx="394200" cy="1451880"/>
            </a:xfrm>
            <a:prstGeom prst="curvedConnector2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20" name=""/>
            <p:cNvCxnSpPr>
              <a:stCxn id="1004" idx="1"/>
              <a:endCxn id="1006" idx="1"/>
            </p:cNvCxnSpPr>
            <p:nvPr/>
          </p:nvCxnSpPr>
          <p:spPr>
            <a:xfrm rot="10800000">
              <a:off x="1672560" y="3025080"/>
              <a:ext cx="1028880" cy="937440"/>
            </a:xfrm>
            <a:prstGeom prst="curvedConnector5">
              <a:avLst>
                <a:gd name="adj1" fmla="val 122261"/>
                <a:gd name="adj2" fmla="val 49980"/>
                <a:gd name="adj3" fmla="val 122261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21" name=""/>
            <p:cNvCxnSpPr>
              <a:stCxn id="1009" idx="3"/>
              <a:endCxn id="1014" idx="1"/>
            </p:cNvCxnSpPr>
            <p:nvPr/>
          </p:nvCxnSpPr>
          <p:spPr>
            <a:xfrm>
              <a:off x="4757400" y="3025440"/>
              <a:ext cx="423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22" name=""/>
            <p:cNvCxnSpPr>
              <a:stCxn id="1016" idx="3"/>
              <a:endCxn id="1003" idx="3"/>
            </p:cNvCxnSpPr>
            <p:nvPr/>
          </p:nvCxnSpPr>
          <p:spPr>
            <a:xfrm>
              <a:off x="8141760" y="3024000"/>
              <a:ext cx="5454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023" name=""/>
          <p:cNvSpPr/>
          <p:nvPr/>
        </p:nvSpPr>
        <p:spPr>
          <a:xfrm>
            <a:off x="1295280" y="48769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x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world to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ligh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pply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cli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lip to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7800" y="4876920"/>
            <a:ext cx="35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ra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onvert to pix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apply textur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o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test pixel 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Akeley Taxonom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 - Generate geometric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 - Traverse data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 - Transform primitives world to scr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 - Rasterize triangles to pix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 - Display framebuffer on output de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457200" y="1981080"/>
            <a:ext cx="8534160" cy="1692000"/>
            <a:chOff x="457200" y="1981080"/>
            <a:chExt cx="8534160" cy="1692000"/>
          </a:xfrm>
        </p:grpSpPr>
        <p:sp>
          <p:nvSpPr>
            <p:cNvPr id="1028" name=""/>
            <p:cNvSpPr/>
            <p:nvPr/>
          </p:nvSpPr>
          <p:spPr>
            <a:xfrm>
              <a:off x="4965840" y="3188520"/>
              <a:ext cx="1693800" cy="2430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37040" y="2302920"/>
              <a:ext cx="160920" cy="261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53080" y="1981080"/>
              <a:ext cx="3847680" cy="12394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275280" y="230292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46120" y="2302920"/>
              <a:ext cx="152964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81440" y="222228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57200" y="2141640"/>
              <a:ext cx="1610280" cy="40248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" y="2786040"/>
              <a:ext cx="161028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36" name=""/>
            <p:cNvCxnSpPr>
              <a:stCxn id="1034" idx="2"/>
              <a:endCxn id="1035" idx="0"/>
            </p:cNvCxnSpPr>
            <p:nvPr/>
          </p:nvCxnSpPr>
          <p:spPr>
            <a:xfrm>
              <a:off x="1261800" y="2544480"/>
              <a:ext cx="1080" cy="241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37" name=""/>
            <p:cNvCxnSpPr>
              <a:stCxn id="1035" idx="2"/>
              <a:endCxn id="1028" idx="2"/>
            </p:cNvCxnSpPr>
            <p:nvPr/>
          </p:nvCxnSpPr>
          <p:spPr>
            <a:xfrm flipH="1" rot="16200000">
              <a:off x="3414960" y="1034280"/>
              <a:ext cx="243720" cy="4551480"/>
            </a:xfrm>
            <a:prstGeom prst="curvedConnector5">
              <a:avLst>
                <a:gd name="adj1" fmla="val 199260"/>
                <a:gd name="adj2" fmla="val 50000"/>
                <a:gd name="adj3" fmla="val 19926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38" name=""/>
            <p:cNvCxnSpPr>
              <a:stCxn id="1031" idx="3"/>
              <a:endCxn id="1032" idx="1"/>
            </p:cNvCxnSpPr>
            <p:nvPr/>
          </p:nvCxnSpPr>
          <p:spPr>
            <a:xfrm>
              <a:off x="4885200" y="2503800"/>
              <a:ext cx="1612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39" name=""/>
            <p:cNvCxnSpPr>
              <a:stCxn id="1032" idx="3"/>
              <a:endCxn id="1033" idx="1"/>
            </p:cNvCxnSpPr>
            <p:nvPr/>
          </p:nvCxnSpPr>
          <p:spPr>
            <a:xfrm flipV="1">
              <a:off x="6576120" y="2422800"/>
              <a:ext cx="805680" cy="810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40" name=""/>
            <p:cNvSpPr/>
            <p:nvPr/>
          </p:nvSpPr>
          <p:spPr>
            <a:xfrm>
              <a:off x="3025440" y="2514240"/>
              <a:ext cx="2844720" cy="925560"/>
            </a:xfrm>
            <a:custGeom>
              <a:avLst/>
              <a:gdLst/>
              <a:ahLst/>
              <a:rect l="l" t="t" r="r" b="b"/>
              <a:pathLst>
                <a:path w="1696" h="552">
                  <a:moveTo>
                    <a:pt x="1657" y="552"/>
                  </a:moveTo>
                  <a:cubicBezTo>
                    <a:pt x="1696" y="470"/>
                    <a:pt x="1676" y="336"/>
                    <a:pt x="1578" y="305"/>
                  </a:cubicBezTo>
                  <a:cubicBezTo>
                    <a:pt x="1514" y="263"/>
                    <a:pt x="1449" y="239"/>
                    <a:pt x="1373" y="231"/>
                  </a:cubicBezTo>
                  <a:cubicBezTo>
                    <a:pt x="1058" y="236"/>
                    <a:pt x="747" y="250"/>
                    <a:pt x="436" y="300"/>
                  </a:cubicBezTo>
                  <a:cubicBezTo>
                    <a:pt x="342" y="297"/>
                    <a:pt x="228" y="302"/>
                    <a:pt x="131" y="284"/>
                  </a:cubicBezTo>
                  <a:cubicBezTo>
                    <a:pt x="104" y="279"/>
                    <a:pt x="66" y="268"/>
                    <a:pt x="46" y="247"/>
                  </a:cubicBezTo>
                  <a:cubicBezTo>
                    <a:pt x="32" y="232"/>
                    <a:pt x="9" y="200"/>
                    <a:pt x="9" y="200"/>
                  </a:cubicBezTo>
                  <a:cubicBezTo>
                    <a:pt x="0" y="171"/>
                    <a:pt x="4" y="190"/>
                    <a:pt x="4" y="142"/>
                  </a:cubicBezTo>
                  <a:cubicBezTo>
                    <a:pt x="12" y="92"/>
                    <a:pt x="32" y="71"/>
                    <a:pt x="67" y="36"/>
                  </a:cubicBezTo>
                  <a:cubicBezTo>
                    <a:pt x="71" y="32"/>
                    <a:pt x="73" y="25"/>
                    <a:pt x="78" y="21"/>
                  </a:cubicBezTo>
                  <a:cubicBezTo>
                    <a:pt x="87" y="14"/>
                    <a:pt x="98" y="9"/>
                    <a:pt x="109" y="5"/>
                  </a:cubicBezTo>
                  <a:cubicBezTo>
                    <a:pt x="116" y="2"/>
                    <a:pt x="127" y="1"/>
                    <a:pt x="13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7427880" y="3657600"/>
            <a:ext cx="692280" cy="2828520"/>
            <a:chOff x="7427880" y="3657600"/>
            <a:chExt cx="692280" cy="2828520"/>
          </a:xfrm>
        </p:grpSpPr>
        <p:pic>
          <p:nvPicPr>
            <p:cNvPr id="1042" name="D" descr=""/>
            <p:cNvPicPr/>
            <p:nvPr/>
          </p:nvPicPr>
          <p:blipFill>
            <a:blip r:embed="rId1"/>
            <a:stretch/>
          </p:blipFill>
          <p:spPr>
            <a:xfrm>
              <a:off x="7427880" y="5960880"/>
              <a:ext cx="6922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G" descr=""/>
            <p:cNvPicPr/>
            <p:nvPr/>
          </p:nvPicPr>
          <p:blipFill>
            <a:blip r:embed="rId2"/>
            <a:stretch/>
          </p:blipFill>
          <p:spPr>
            <a:xfrm>
              <a:off x="7427880" y="365760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R" descr=""/>
            <p:cNvPicPr/>
            <p:nvPr/>
          </p:nvPicPr>
          <p:blipFill>
            <a:blip r:embed="rId3"/>
            <a:stretch/>
          </p:blipFill>
          <p:spPr>
            <a:xfrm>
              <a:off x="7427880" y="538488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T" descr=""/>
            <p:cNvPicPr/>
            <p:nvPr/>
          </p:nvPicPr>
          <p:blipFill>
            <a:blip r:embed="rId4"/>
            <a:stretch/>
          </p:blipFill>
          <p:spPr>
            <a:xfrm>
              <a:off x="7427880" y="423324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X" descr=""/>
            <p:cNvPicPr/>
            <p:nvPr/>
          </p:nvPicPr>
          <p:blipFill>
            <a:blip r:embed="rId5"/>
            <a:stretch/>
          </p:blipFill>
          <p:spPr>
            <a:xfrm>
              <a:off x="7427880" y="4809240"/>
              <a:ext cx="68508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Hard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 types of hardware are comm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-TXRD : all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-X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-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R-D : all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4952880" y="2514600"/>
            <a:ext cx="2895480" cy="2288880"/>
            <a:chOff x="4952880" y="2514600"/>
            <a:chExt cx="2895480" cy="2288880"/>
          </a:xfrm>
        </p:grpSpPr>
        <p:pic>
          <p:nvPicPr>
            <p:cNvPr id="1050" name="D" descr=""/>
            <p:cNvPicPr/>
            <p:nvPr/>
          </p:nvPicPr>
          <p:blipFill>
            <a:blip r:embed="rId1"/>
            <a:stretch/>
          </p:blipFill>
          <p:spPr>
            <a:xfrm>
              <a:off x="7175520" y="2514600"/>
              <a:ext cx="67284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R" descr=""/>
            <p:cNvPicPr/>
            <p:nvPr/>
          </p:nvPicPr>
          <p:blipFill>
            <a:blip r:embed="rId2"/>
            <a:stretch/>
          </p:blipFill>
          <p:spPr>
            <a:xfrm>
              <a:off x="6434640" y="2514600"/>
              <a:ext cx="66528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T" descr=""/>
            <p:cNvPicPr/>
            <p:nvPr/>
          </p:nvPicPr>
          <p:blipFill>
            <a:blip r:embed="rId3"/>
            <a:stretch/>
          </p:blipFill>
          <p:spPr>
            <a:xfrm>
              <a:off x="4952880" y="2514600"/>
              <a:ext cx="66492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X" descr=""/>
            <p:cNvPicPr/>
            <p:nvPr/>
          </p:nvPicPr>
          <p:blipFill>
            <a:blip r:embed="rId4"/>
            <a:stretch/>
          </p:blipFill>
          <p:spPr>
            <a:xfrm>
              <a:off x="5693400" y="251460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D" descr=""/>
            <p:cNvPicPr/>
            <p:nvPr/>
          </p:nvPicPr>
          <p:blipFill>
            <a:blip r:embed="rId5"/>
            <a:stretch/>
          </p:blipFill>
          <p:spPr>
            <a:xfrm>
              <a:off x="7175520" y="310716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R" descr=""/>
            <p:cNvPicPr/>
            <p:nvPr/>
          </p:nvPicPr>
          <p:blipFill>
            <a:blip r:embed="rId6"/>
            <a:stretch/>
          </p:blipFill>
          <p:spPr>
            <a:xfrm>
              <a:off x="6434640" y="310716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X" descr=""/>
            <p:cNvPicPr/>
            <p:nvPr/>
          </p:nvPicPr>
          <p:blipFill>
            <a:blip r:embed="rId7"/>
            <a:stretch/>
          </p:blipFill>
          <p:spPr>
            <a:xfrm>
              <a:off x="5693400" y="310716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D" descr=""/>
            <p:cNvPicPr/>
            <p:nvPr/>
          </p:nvPicPr>
          <p:blipFill>
            <a:blip r:embed="rId8"/>
            <a:stretch/>
          </p:blipFill>
          <p:spPr>
            <a:xfrm>
              <a:off x="7175520" y="369972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R" descr=""/>
            <p:cNvPicPr/>
            <p:nvPr/>
          </p:nvPicPr>
          <p:blipFill>
            <a:blip r:embed="rId9"/>
            <a:stretch/>
          </p:blipFill>
          <p:spPr>
            <a:xfrm>
              <a:off x="6434640" y="369972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D" descr=""/>
            <p:cNvPicPr/>
            <p:nvPr/>
          </p:nvPicPr>
          <p:blipFill>
            <a:blip r:embed="rId10"/>
            <a:stretch/>
          </p:blipFill>
          <p:spPr>
            <a:xfrm>
              <a:off x="7175520" y="4293000"/>
              <a:ext cx="672840" cy="510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nchmar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ust, but verify.” - an ex-presid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angle rate: speed at which primitives are transformed (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l rate: speed at which primitives are rasterized (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h complexity: number of times pixel fi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zation, fastp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rate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quantiza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the result of a buffer-swap occurring at the next vertical retra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essary to avoid image artifacts such as te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100Hz display refre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4" name=""/>
          <p:cNvGrpSpPr/>
          <p:nvPr/>
        </p:nvGrpSpPr>
        <p:grpSpPr>
          <a:xfrm>
            <a:off x="3962520" y="1905120"/>
            <a:ext cx="4114800" cy="3428640"/>
            <a:chOff x="3962520" y="1905120"/>
            <a:chExt cx="4114800" cy="3428640"/>
          </a:xfrm>
        </p:grpSpPr>
        <p:grpSp>
          <p:nvGrpSpPr>
            <p:cNvPr id="1065" name=""/>
            <p:cNvGrpSpPr/>
            <p:nvPr/>
          </p:nvGrpSpPr>
          <p:grpSpPr>
            <a:xfrm>
              <a:off x="3962520" y="1905120"/>
              <a:ext cx="1371600" cy="3428280"/>
              <a:chOff x="3962520" y="1905120"/>
              <a:chExt cx="1371600" cy="3428280"/>
            </a:xfrm>
          </p:grpSpPr>
          <p:sp>
            <p:nvSpPr>
              <p:cNvPr id="1066" name=""/>
              <p:cNvSpPr/>
              <p:nvPr/>
            </p:nvSpPr>
            <p:spPr>
              <a:xfrm>
                <a:off x="3962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419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876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3341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5791320" y="1905120"/>
              <a:ext cx="1371600" cy="3428280"/>
              <a:chOff x="5791320" y="1905120"/>
              <a:chExt cx="1371600" cy="3428280"/>
            </a:xfrm>
          </p:grpSpPr>
          <p:sp>
            <p:nvSpPr>
              <p:cNvPr id="1071" name=""/>
              <p:cNvSpPr/>
              <p:nvPr/>
            </p:nvSpPr>
            <p:spPr>
              <a:xfrm>
                <a:off x="57913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248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705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162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76201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0773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3962520" y="2133720"/>
            <a:ext cx="380880" cy="380880"/>
            <a:chOff x="3962520" y="2133720"/>
            <a:chExt cx="380880" cy="380880"/>
          </a:xfrm>
        </p:grpSpPr>
        <p:sp>
          <p:nvSpPr>
            <p:cNvPr id="1079" name=""/>
            <p:cNvSpPr/>
            <p:nvPr/>
          </p:nvSpPr>
          <p:spPr>
            <a:xfrm>
              <a:off x="3962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962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1679040" y="27432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3962520" y="3352680"/>
            <a:ext cx="533160" cy="381240"/>
            <a:chOff x="3962520" y="3352680"/>
            <a:chExt cx="533160" cy="381240"/>
          </a:xfrm>
        </p:grpSpPr>
        <p:sp>
          <p:nvSpPr>
            <p:cNvPr id="1083" name=""/>
            <p:cNvSpPr/>
            <p:nvPr/>
          </p:nvSpPr>
          <p:spPr>
            <a:xfrm>
              <a:off x="39625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9625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4876920" y="3352680"/>
            <a:ext cx="533160" cy="381240"/>
            <a:chOff x="4876920" y="3352680"/>
            <a:chExt cx="533160" cy="381240"/>
          </a:xfrm>
        </p:grpSpPr>
        <p:sp>
          <p:nvSpPr>
            <p:cNvPr id="1086" name=""/>
            <p:cNvSpPr/>
            <p:nvPr/>
          </p:nvSpPr>
          <p:spPr>
            <a:xfrm>
              <a:off x="48769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8769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5791320" y="3352680"/>
            <a:ext cx="533160" cy="381240"/>
            <a:chOff x="5791320" y="3352680"/>
            <a:chExt cx="533160" cy="381240"/>
          </a:xfrm>
        </p:grpSpPr>
        <p:sp>
          <p:nvSpPr>
            <p:cNvPr id="1089" name=""/>
            <p:cNvSpPr/>
            <p:nvPr/>
          </p:nvSpPr>
          <p:spPr>
            <a:xfrm>
              <a:off x="57913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913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4419720" y="2743200"/>
            <a:ext cx="380880" cy="380880"/>
            <a:chOff x="4419720" y="2743200"/>
            <a:chExt cx="380880" cy="380880"/>
          </a:xfrm>
        </p:grpSpPr>
        <p:sp>
          <p:nvSpPr>
            <p:cNvPr id="1092" name=""/>
            <p:cNvSpPr/>
            <p:nvPr/>
          </p:nvSpPr>
          <p:spPr>
            <a:xfrm>
              <a:off x="44197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197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4876920" y="2743200"/>
            <a:ext cx="380880" cy="380880"/>
            <a:chOff x="4876920" y="2743200"/>
            <a:chExt cx="380880" cy="380880"/>
          </a:xfrm>
        </p:grpSpPr>
        <p:sp>
          <p:nvSpPr>
            <p:cNvPr id="1095" name=""/>
            <p:cNvSpPr/>
            <p:nvPr/>
          </p:nvSpPr>
          <p:spPr>
            <a:xfrm>
              <a:off x="48769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769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5334120" y="2743200"/>
            <a:ext cx="380880" cy="380880"/>
            <a:chOff x="5334120" y="2743200"/>
            <a:chExt cx="380880" cy="380880"/>
          </a:xfrm>
        </p:grpSpPr>
        <p:sp>
          <p:nvSpPr>
            <p:cNvPr id="1098" name=""/>
            <p:cNvSpPr/>
            <p:nvPr/>
          </p:nvSpPr>
          <p:spPr>
            <a:xfrm>
              <a:off x="53341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341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791320" y="2743200"/>
            <a:ext cx="380880" cy="380880"/>
            <a:chOff x="5791320" y="2743200"/>
            <a:chExt cx="380880" cy="380880"/>
          </a:xfrm>
        </p:grpSpPr>
        <p:sp>
          <p:nvSpPr>
            <p:cNvPr id="1101" name=""/>
            <p:cNvSpPr/>
            <p:nvPr/>
          </p:nvSpPr>
          <p:spPr>
            <a:xfrm>
              <a:off x="57913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913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3962520" y="3962520"/>
            <a:ext cx="837720" cy="380880"/>
            <a:chOff x="3962520" y="3962520"/>
            <a:chExt cx="837720" cy="380880"/>
          </a:xfrm>
        </p:grpSpPr>
        <p:sp>
          <p:nvSpPr>
            <p:cNvPr id="1104" name=""/>
            <p:cNvSpPr/>
            <p:nvPr/>
          </p:nvSpPr>
          <p:spPr>
            <a:xfrm>
              <a:off x="39625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9625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4876920" y="3962520"/>
            <a:ext cx="837720" cy="380880"/>
            <a:chOff x="4876920" y="3962520"/>
            <a:chExt cx="837720" cy="380880"/>
          </a:xfrm>
        </p:grpSpPr>
        <p:sp>
          <p:nvSpPr>
            <p:cNvPr id="1107" name=""/>
            <p:cNvSpPr/>
            <p:nvPr/>
          </p:nvSpPr>
          <p:spPr>
            <a:xfrm>
              <a:off x="48769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8769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5791320" y="3962520"/>
            <a:ext cx="837720" cy="380880"/>
            <a:chOff x="5791320" y="3962520"/>
            <a:chExt cx="837720" cy="380880"/>
          </a:xfrm>
        </p:grpSpPr>
        <p:sp>
          <p:nvSpPr>
            <p:cNvPr id="1110" name=""/>
            <p:cNvSpPr/>
            <p:nvPr/>
          </p:nvSpPr>
          <p:spPr>
            <a:xfrm>
              <a:off x="57913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913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5334120" y="4572000"/>
            <a:ext cx="990000" cy="380880"/>
            <a:chOff x="5334120" y="4572000"/>
            <a:chExt cx="990000" cy="380880"/>
          </a:xfrm>
        </p:grpSpPr>
        <p:sp>
          <p:nvSpPr>
            <p:cNvPr id="1113" name=""/>
            <p:cNvSpPr/>
            <p:nvPr/>
          </p:nvSpPr>
          <p:spPr>
            <a:xfrm>
              <a:off x="53341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3341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3962520" y="4572000"/>
            <a:ext cx="990000" cy="380880"/>
            <a:chOff x="3962520" y="4572000"/>
            <a:chExt cx="990000" cy="380880"/>
          </a:xfrm>
        </p:grpSpPr>
        <p:sp>
          <p:nvSpPr>
            <p:cNvPr id="1116" name=""/>
            <p:cNvSpPr/>
            <p:nvPr/>
          </p:nvSpPr>
          <p:spPr>
            <a:xfrm>
              <a:off x="39625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625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6705720" y="4572000"/>
            <a:ext cx="990000" cy="380880"/>
            <a:chOff x="6705720" y="4572000"/>
            <a:chExt cx="990000" cy="380880"/>
          </a:xfrm>
        </p:grpSpPr>
        <p:sp>
          <p:nvSpPr>
            <p:cNvPr id="1119" name=""/>
            <p:cNvSpPr/>
            <p:nvPr/>
          </p:nvSpPr>
          <p:spPr>
            <a:xfrm>
              <a:off x="67057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7057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1678680" y="3352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78680" y="3962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78680" y="4572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665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22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79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37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4943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951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408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65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323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3962520" y="2743200"/>
            <a:ext cx="380880" cy="380880"/>
            <a:chOff x="3962520" y="2743200"/>
            <a:chExt cx="380880" cy="380880"/>
          </a:xfrm>
        </p:grpSpPr>
        <p:sp>
          <p:nvSpPr>
            <p:cNvPr id="1134" name=""/>
            <p:cNvSpPr/>
            <p:nvPr/>
          </p:nvSpPr>
          <p:spPr>
            <a:xfrm>
              <a:off x="39625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625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4343400" y="2133720"/>
            <a:ext cx="380880" cy="380880"/>
            <a:chOff x="4343400" y="2133720"/>
            <a:chExt cx="380880" cy="380880"/>
          </a:xfrm>
        </p:grpSpPr>
        <p:sp>
          <p:nvSpPr>
            <p:cNvPr id="1137" name=""/>
            <p:cNvSpPr/>
            <p:nvPr/>
          </p:nvSpPr>
          <p:spPr>
            <a:xfrm>
              <a:off x="4343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43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4724280" y="2133720"/>
            <a:ext cx="381240" cy="380880"/>
            <a:chOff x="4724280" y="2133720"/>
            <a:chExt cx="381240" cy="380880"/>
          </a:xfrm>
        </p:grpSpPr>
        <p:sp>
          <p:nvSpPr>
            <p:cNvPr id="1140" name=""/>
            <p:cNvSpPr/>
            <p:nvPr/>
          </p:nvSpPr>
          <p:spPr>
            <a:xfrm>
              <a:off x="4724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24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5105520" y="2133720"/>
            <a:ext cx="380880" cy="380880"/>
            <a:chOff x="5105520" y="2133720"/>
            <a:chExt cx="380880" cy="380880"/>
          </a:xfrm>
        </p:grpSpPr>
        <p:sp>
          <p:nvSpPr>
            <p:cNvPr id="1143" name=""/>
            <p:cNvSpPr/>
            <p:nvPr/>
          </p:nvSpPr>
          <p:spPr>
            <a:xfrm>
              <a:off x="5105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05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486400" y="2133720"/>
            <a:ext cx="380880" cy="380880"/>
            <a:chOff x="5486400" y="2133720"/>
            <a:chExt cx="380880" cy="380880"/>
          </a:xfrm>
        </p:grpSpPr>
        <p:sp>
          <p:nvSpPr>
            <p:cNvPr id="1146" name=""/>
            <p:cNvSpPr/>
            <p:nvPr/>
          </p:nvSpPr>
          <p:spPr>
            <a:xfrm>
              <a:off x="5486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86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867280" y="2133720"/>
            <a:ext cx="381240" cy="380880"/>
            <a:chOff x="5867280" y="2133720"/>
            <a:chExt cx="381240" cy="380880"/>
          </a:xfrm>
        </p:grpSpPr>
        <p:sp>
          <p:nvSpPr>
            <p:cNvPr id="1149" name=""/>
            <p:cNvSpPr/>
            <p:nvPr/>
          </p:nvSpPr>
          <p:spPr>
            <a:xfrm>
              <a:off x="5867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867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1069200" y="21337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-sync 12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1676520" y="5867280"/>
            <a:ext cx="6324480" cy="533520"/>
            <a:chOff x="1676520" y="5867280"/>
            <a:chExt cx="6324480" cy="533520"/>
          </a:xfrm>
        </p:grpSpPr>
        <p:sp>
          <p:nvSpPr>
            <p:cNvPr id="1153" name=""/>
            <p:cNvSpPr/>
            <p:nvPr/>
          </p:nvSpPr>
          <p:spPr>
            <a:xfrm>
              <a:off x="1676520" y="5867280"/>
              <a:ext cx="632448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1981080" y="5943600"/>
              <a:ext cx="381240" cy="380880"/>
              <a:chOff x="1981080" y="5943600"/>
              <a:chExt cx="381240" cy="380880"/>
            </a:xfrm>
          </p:grpSpPr>
          <p:sp>
            <p:nvSpPr>
              <p:cNvPr id="1155" name=""/>
              <p:cNvSpPr/>
              <p:nvPr/>
            </p:nvSpPr>
            <p:spPr>
              <a:xfrm>
                <a:off x="1981080" y="594360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981080" y="6134040"/>
                <a:ext cx="381240" cy="0"/>
              </a:xfrm>
              <a:prstGeom prst="line">
                <a:avLst/>
              </a:prstGeom>
              <a:ln w="76320">
                <a:solidFill>
                  <a:srgbClr val="fec5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1981080" y="58672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ne graphics 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334120" y="5867280"/>
              <a:ext cx="25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/100 seco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path: the most optimized path through graphics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: float verts, float norms, AGBR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ss fast path: float verts, float norms, RGBA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1" name=""/>
          <p:cNvGraphicFramePr/>
          <p:nvPr/>
        </p:nvGraphicFramePr>
        <p:xfrm>
          <a:off x="1828800" y="1828800"/>
          <a:ext cx="571500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715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 is often synonymous with ideal p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usage of graphics falls on a continu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quantify what hardware ca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&amp;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2057400" y="3124080"/>
            <a:ext cx="5867280" cy="2133360"/>
            <a:chOff x="2057400" y="3124080"/>
            <a:chExt cx="5867280" cy="2133360"/>
          </a:xfrm>
        </p:grpSpPr>
        <p:sp>
          <p:nvSpPr>
            <p:cNvPr id="1167" name=""/>
            <p:cNvSpPr/>
            <p:nvPr/>
          </p:nvSpPr>
          <p:spPr>
            <a:xfrm>
              <a:off x="2057400" y="3124080"/>
              <a:ext cx="5867280" cy="21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819160" y="3962160"/>
              <a:ext cx="4190760" cy="304920"/>
            </a:xfrm>
            <a:prstGeom prst="rect">
              <a:avLst/>
            </a:prstGeom>
            <a:gradFill rotWithShape="0">
              <a:gsLst>
                <a:gs pos="0">
                  <a:srgbClr val="fec524"/>
                </a:gs>
                <a:gs pos="100000">
                  <a:srgbClr val="79509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057400" y="31240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ast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hard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249240" y="312408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low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soft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285640" y="42670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553080" y="42670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4724280" y="4267080"/>
              <a:ext cx="10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895480" y="4724280"/>
              <a:ext cx="44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ere is your applicatio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76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77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our Gu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latform architecture &amp; componen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ments: triangle rate, fill rate, misc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roduce &amp; maxim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Test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uplicate performance numbers simply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build a simple test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SPECglperf™ - http://www.spec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ximize performance in an app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Use fast API exten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Create an “is-fast” test, use what is verified as f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“Is-Fast”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each platform to determine fast path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ce, per-machine, test primitives and m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array format, texture format, display list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e data in 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 hardware changes or time-to-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 data from database a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database or re-generat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83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“Is-Fast”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seudo-cod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" y="2438280"/>
            <a:ext cx="7178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 new_machine() || hardware_changed() 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_interesting_modes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_in_data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 have database en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_performance_data_from_data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 render with modes &amp; primitives that are ‘’fast’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391520" y="380880"/>
            <a:ext cx="121896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hink Globally, Act Locall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nk globall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now the platforms &amp; graphics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hardware effectively in your a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hardware uti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ct locall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in-cache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hardware &amp; graphics fastpat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quality vs. 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92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3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"/>
          <p:cNvGrpSpPr/>
          <p:nvPr/>
        </p:nvGrpSpPr>
        <p:grpSpPr>
          <a:xfrm>
            <a:off x="1457280" y="1523880"/>
            <a:ext cx="2017440" cy="1371600"/>
            <a:chOff x="1457280" y="1523880"/>
            <a:chExt cx="2017440" cy="1371600"/>
          </a:xfrm>
        </p:grpSpPr>
        <p:grpSp>
          <p:nvGrpSpPr>
            <p:cNvPr id="1195" name=""/>
            <p:cNvGrpSpPr/>
            <p:nvPr/>
          </p:nvGrpSpPr>
          <p:grpSpPr>
            <a:xfrm>
              <a:off x="2143080" y="1676520"/>
              <a:ext cx="1027800" cy="761760"/>
              <a:chOff x="2143080" y="1676520"/>
              <a:chExt cx="1027800" cy="761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2143080" y="1676520"/>
                <a:ext cx="102780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228760" y="1752480"/>
                <a:ext cx="85680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2143080" y="2514600"/>
              <a:ext cx="942120" cy="304920"/>
              <a:chOff x="2143080" y="2514600"/>
              <a:chExt cx="942120" cy="304920"/>
            </a:xfrm>
          </p:grpSpPr>
          <p:sp>
            <p:nvSpPr>
              <p:cNvPr id="1199" name=""/>
              <p:cNvSpPr/>
              <p:nvPr/>
            </p:nvSpPr>
            <p:spPr>
              <a:xfrm>
                <a:off x="2143080" y="2514600"/>
                <a:ext cx="942120" cy="30492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"/>
              <p:cNvGrpSpPr/>
              <p:nvPr/>
            </p:nvGrpSpPr>
            <p:grpSpPr>
              <a:xfrm>
                <a:off x="2228400" y="2590920"/>
                <a:ext cx="770760" cy="152280"/>
                <a:chOff x="2228400" y="2590920"/>
                <a:chExt cx="770760" cy="1522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222840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22840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14080" y="259092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14080" y="266688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39940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39940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48508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48508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571120" y="259092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571120" y="266688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65644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65644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74212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74212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828160" y="259092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828160" y="266688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91348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91348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9" name=""/>
            <p:cNvGrpSpPr/>
            <p:nvPr/>
          </p:nvGrpSpPr>
          <p:grpSpPr>
            <a:xfrm>
              <a:off x="3256920" y="2590920"/>
              <a:ext cx="217800" cy="304560"/>
              <a:chOff x="3256920" y="2590920"/>
              <a:chExt cx="217800" cy="304560"/>
            </a:xfrm>
          </p:grpSpPr>
          <p:sp>
            <p:nvSpPr>
              <p:cNvPr id="1220" name=""/>
              <p:cNvSpPr/>
              <p:nvPr/>
            </p:nvSpPr>
            <p:spPr>
              <a:xfrm>
                <a:off x="3256920" y="2590920"/>
                <a:ext cx="217800" cy="3045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318840" y="259092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>
              <a:off x="3085560" y="2438280"/>
              <a:ext cx="342720" cy="1526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1457280" y="1523880"/>
              <a:ext cx="599400" cy="1295640"/>
              <a:chOff x="1457280" y="1523880"/>
              <a:chExt cx="599400" cy="1295640"/>
            </a:xfrm>
          </p:grpSpPr>
          <p:sp>
            <p:nvSpPr>
              <p:cNvPr id="1224" name=""/>
              <p:cNvSpPr/>
              <p:nvPr/>
            </p:nvSpPr>
            <p:spPr>
              <a:xfrm>
                <a:off x="1457280" y="1523880"/>
                <a:ext cx="599400" cy="1295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542960" y="160020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542960" y="182880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7" name=""/>
          <p:cNvGrpSpPr/>
          <p:nvPr/>
        </p:nvGrpSpPr>
        <p:grpSpPr>
          <a:xfrm>
            <a:off x="3686040" y="1523880"/>
            <a:ext cx="2017440" cy="1371600"/>
            <a:chOff x="3686040" y="1523880"/>
            <a:chExt cx="2017440" cy="1371600"/>
          </a:xfrm>
        </p:grpSpPr>
        <p:grpSp>
          <p:nvGrpSpPr>
            <p:cNvPr id="1228" name=""/>
            <p:cNvGrpSpPr/>
            <p:nvPr/>
          </p:nvGrpSpPr>
          <p:grpSpPr>
            <a:xfrm>
              <a:off x="4371840" y="1676520"/>
              <a:ext cx="1027800" cy="761760"/>
              <a:chOff x="4371840" y="1676520"/>
              <a:chExt cx="1027800" cy="761760"/>
            </a:xfrm>
          </p:grpSpPr>
          <p:sp>
            <p:nvSpPr>
              <p:cNvPr id="1229" name=""/>
              <p:cNvSpPr/>
              <p:nvPr/>
            </p:nvSpPr>
            <p:spPr>
              <a:xfrm>
                <a:off x="4371840" y="1676520"/>
                <a:ext cx="102780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457520" y="1752480"/>
                <a:ext cx="85680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4371840" y="2514600"/>
              <a:ext cx="942120" cy="304920"/>
              <a:chOff x="4371840" y="2514600"/>
              <a:chExt cx="942120" cy="304920"/>
            </a:xfrm>
          </p:grpSpPr>
          <p:sp>
            <p:nvSpPr>
              <p:cNvPr id="1232" name=""/>
              <p:cNvSpPr/>
              <p:nvPr/>
            </p:nvSpPr>
            <p:spPr>
              <a:xfrm>
                <a:off x="4371840" y="2514600"/>
                <a:ext cx="942120" cy="30492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3" name=""/>
              <p:cNvGrpSpPr/>
              <p:nvPr/>
            </p:nvGrpSpPr>
            <p:grpSpPr>
              <a:xfrm>
                <a:off x="4457160" y="2590920"/>
                <a:ext cx="770760" cy="152280"/>
                <a:chOff x="4457160" y="2590920"/>
                <a:chExt cx="770760" cy="15228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445716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45716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542840" y="259092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542840" y="266688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62816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462816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71384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471384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799880" y="259092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99880" y="266688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88520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88520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97088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97088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5056920" y="259092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056920" y="266688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14224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14224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2" name=""/>
            <p:cNvGrpSpPr/>
            <p:nvPr/>
          </p:nvGrpSpPr>
          <p:grpSpPr>
            <a:xfrm>
              <a:off x="5485680" y="2590920"/>
              <a:ext cx="217800" cy="304560"/>
              <a:chOff x="5485680" y="2590920"/>
              <a:chExt cx="217800" cy="304560"/>
            </a:xfrm>
          </p:grpSpPr>
          <p:sp>
            <p:nvSpPr>
              <p:cNvPr id="1253" name=""/>
              <p:cNvSpPr/>
              <p:nvPr/>
            </p:nvSpPr>
            <p:spPr>
              <a:xfrm>
                <a:off x="5485680" y="2590920"/>
                <a:ext cx="217800" cy="3045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547600" y="259092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5" name=""/>
            <p:cNvSpPr/>
            <p:nvPr/>
          </p:nvSpPr>
          <p:spPr>
            <a:xfrm>
              <a:off x="5314320" y="2438280"/>
              <a:ext cx="342720" cy="1526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6" name=""/>
            <p:cNvGrpSpPr/>
            <p:nvPr/>
          </p:nvGrpSpPr>
          <p:grpSpPr>
            <a:xfrm>
              <a:off x="3686040" y="1523880"/>
              <a:ext cx="599400" cy="1295640"/>
              <a:chOff x="3686040" y="1523880"/>
              <a:chExt cx="599400" cy="1295640"/>
            </a:xfrm>
          </p:grpSpPr>
          <p:sp>
            <p:nvSpPr>
              <p:cNvPr id="1257" name=""/>
              <p:cNvSpPr/>
              <p:nvPr/>
            </p:nvSpPr>
            <p:spPr>
              <a:xfrm>
                <a:off x="3686040" y="1523880"/>
                <a:ext cx="599400" cy="1295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771720" y="160020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771720" y="182880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5915160" y="1523880"/>
            <a:ext cx="2017080" cy="1371600"/>
            <a:chOff x="5915160" y="1523880"/>
            <a:chExt cx="2017080" cy="1371600"/>
          </a:xfrm>
        </p:grpSpPr>
        <p:grpSp>
          <p:nvGrpSpPr>
            <p:cNvPr id="1261" name=""/>
            <p:cNvGrpSpPr/>
            <p:nvPr/>
          </p:nvGrpSpPr>
          <p:grpSpPr>
            <a:xfrm>
              <a:off x="6600960" y="1676520"/>
              <a:ext cx="1027800" cy="761760"/>
              <a:chOff x="6600960" y="1676520"/>
              <a:chExt cx="1027800" cy="761760"/>
            </a:xfrm>
          </p:grpSpPr>
          <p:sp>
            <p:nvSpPr>
              <p:cNvPr id="1262" name=""/>
              <p:cNvSpPr/>
              <p:nvPr/>
            </p:nvSpPr>
            <p:spPr>
              <a:xfrm>
                <a:off x="6600960" y="1676520"/>
                <a:ext cx="102780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686640" y="1752480"/>
                <a:ext cx="85680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600960" y="2514600"/>
              <a:ext cx="942120" cy="304920"/>
              <a:chOff x="6600960" y="2514600"/>
              <a:chExt cx="942120" cy="304920"/>
            </a:xfrm>
          </p:grpSpPr>
          <p:sp>
            <p:nvSpPr>
              <p:cNvPr id="1265" name=""/>
              <p:cNvSpPr/>
              <p:nvPr/>
            </p:nvSpPr>
            <p:spPr>
              <a:xfrm>
                <a:off x="6600960" y="2514600"/>
                <a:ext cx="942120" cy="30492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6686280" y="2590920"/>
                <a:ext cx="770760" cy="152280"/>
                <a:chOff x="6686280" y="2590920"/>
                <a:chExt cx="770760" cy="1522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68628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68628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1960" y="259092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771960" y="266688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85728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685728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94296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94296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7029000" y="259092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7029000" y="266688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11432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711432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720000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720000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7286040" y="259092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286040" y="266688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371360" y="259092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371360" y="266688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5" name=""/>
            <p:cNvGrpSpPr/>
            <p:nvPr/>
          </p:nvGrpSpPr>
          <p:grpSpPr>
            <a:xfrm>
              <a:off x="7714440" y="2590920"/>
              <a:ext cx="217800" cy="304560"/>
              <a:chOff x="7714440" y="2590920"/>
              <a:chExt cx="217800" cy="304560"/>
            </a:xfrm>
          </p:grpSpPr>
          <p:sp>
            <p:nvSpPr>
              <p:cNvPr id="1286" name=""/>
              <p:cNvSpPr/>
              <p:nvPr/>
            </p:nvSpPr>
            <p:spPr>
              <a:xfrm>
                <a:off x="7714440" y="2590920"/>
                <a:ext cx="217800" cy="3045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776360" y="259092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>
              <a:off x="7543440" y="2438280"/>
              <a:ext cx="342720" cy="1526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5915160" y="1523880"/>
              <a:ext cx="599400" cy="1295640"/>
              <a:chOff x="5915160" y="1523880"/>
              <a:chExt cx="599400" cy="1295640"/>
            </a:xfrm>
          </p:grpSpPr>
          <p:sp>
            <p:nvSpPr>
              <p:cNvPr id="1290" name=""/>
              <p:cNvSpPr/>
              <p:nvPr/>
            </p:nvSpPr>
            <p:spPr>
              <a:xfrm>
                <a:off x="5915160" y="1523880"/>
                <a:ext cx="599400" cy="1295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000840" y="160020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000840" y="182880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"/>
          <p:cNvGrpSpPr/>
          <p:nvPr/>
        </p:nvGrpSpPr>
        <p:grpSpPr>
          <a:xfrm>
            <a:off x="7201080" y="2286000"/>
            <a:ext cx="2017080" cy="1371600"/>
            <a:chOff x="7201080" y="2286000"/>
            <a:chExt cx="2017080" cy="1371600"/>
          </a:xfrm>
        </p:grpSpPr>
        <p:grpSp>
          <p:nvGrpSpPr>
            <p:cNvPr id="1294" name=""/>
            <p:cNvGrpSpPr/>
            <p:nvPr/>
          </p:nvGrpSpPr>
          <p:grpSpPr>
            <a:xfrm>
              <a:off x="7886880" y="2438640"/>
              <a:ext cx="1027800" cy="761760"/>
              <a:chOff x="7886880" y="2438640"/>
              <a:chExt cx="1027800" cy="761760"/>
            </a:xfrm>
          </p:grpSpPr>
          <p:sp>
            <p:nvSpPr>
              <p:cNvPr id="1295" name=""/>
              <p:cNvSpPr/>
              <p:nvPr/>
            </p:nvSpPr>
            <p:spPr>
              <a:xfrm>
                <a:off x="7886880" y="2438640"/>
                <a:ext cx="102780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972560" y="2514600"/>
                <a:ext cx="85680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7886880" y="3276720"/>
              <a:ext cx="942120" cy="304920"/>
              <a:chOff x="7886880" y="3276720"/>
              <a:chExt cx="942120" cy="304920"/>
            </a:xfrm>
          </p:grpSpPr>
          <p:sp>
            <p:nvSpPr>
              <p:cNvPr id="1298" name=""/>
              <p:cNvSpPr/>
              <p:nvPr/>
            </p:nvSpPr>
            <p:spPr>
              <a:xfrm>
                <a:off x="7886880" y="3276720"/>
                <a:ext cx="942120" cy="30492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9" name=""/>
              <p:cNvGrpSpPr/>
              <p:nvPr/>
            </p:nvGrpSpPr>
            <p:grpSpPr>
              <a:xfrm>
                <a:off x="7972200" y="3353040"/>
                <a:ext cx="770760" cy="152280"/>
                <a:chOff x="7972200" y="3353040"/>
                <a:chExt cx="770760" cy="15228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7972200" y="33530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7972200" y="34290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8057880" y="335304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8057880" y="342900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8143200" y="33530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143200" y="34290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8228880" y="33530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228880" y="34290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314920" y="335304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8314920" y="342900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8400240" y="33530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400240" y="34290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8485920" y="33530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485920" y="34290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571960" y="335304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571960" y="342900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8657280" y="33530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8657280" y="34290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8" name=""/>
            <p:cNvGrpSpPr/>
            <p:nvPr/>
          </p:nvGrpSpPr>
          <p:grpSpPr>
            <a:xfrm>
              <a:off x="9000360" y="3353040"/>
              <a:ext cx="217800" cy="304560"/>
              <a:chOff x="9000360" y="3353040"/>
              <a:chExt cx="217800" cy="304560"/>
            </a:xfrm>
          </p:grpSpPr>
          <p:sp>
            <p:nvSpPr>
              <p:cNvPr id="1319" name=""/>
              <p:cNvSpPr/>
              <p:nvPr/>
            </p:nvSpPr>
            <p:spPr>
              <a:xfrm>
                <a:off x="9000360" y="3353040"/>
                <a:ext cx="217800" cy="3045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9062280" y="335304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8829360" y="3200400"/>
              <a:ext cx="342720" cy="1526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7201080" y="2286000"/>
              <a:ext cx="599400" cy="1295640"/>
              <a:chOff x="7201080" y="2286000"/>
              <a:chExt cx="599400" cy="1295640"/>
            </a:xfrm>
          </p:grpSpPr>
          <p:sp>
            <p:nvSpPr>
              <p:cNvPr id="1323" name=""/>
              <p:cNvSpPr/>
              <p:nvPr/>
            </p:nvSpPr>
            <p:spPr>
              <a:xfrm>
                <a:off x="7201080" y="2286000"/>
                <a:ext cx="599400" cy="1295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286760" y="236232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286760" y="259092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6" name=""/>
          <p:cNvGrpSpPr/>
          <p:nvPr/>
        </p:nvGrpSpPr>
        <p:grpSpPr>
          <a:xfrm>
            <a:off x="3429000" y="3048120"/>
            <a:ext cx="2017440" cy="1371600"/>
            <a:chOff x="3429000" y="3048120"/>
            <a:chExt cx="2017440" cy="1371600"/>
          </a:xfrm>
        </p:grpSpPr>
        <p:grpSp>
          <p:nvGrpSpPr>
            <p:cNvPr id="1327" name=""/>
            <p:cNvGrpSpPr/>
            <p:nvPr/>
          </p:nvGrpSpPr>
          <p:grpSpPr>
            <a:xfrm>
              <a:off x="4114800" y="3200760"/>
              <a:ext cx="1027800" cy="761760"/>
              <a:chOff x="4114800" y="3200760"/>
              <a:chExt cx="1027800" cy="761760"/>
            </a:xfrm>
          </p:grpSpPr>
          <p:sp>
            <p:nvSpPr>
              <p:cNvPr id="1328" name=""/>
              <p:cNvSpPr/>
              <p:nvPr/>
            </p:nvSpPr>
            <p:spPr>
              <a:xfrm>
                <a:off x="4114800" y="3200760"/>
                <a:ext cx="102780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200480" y="3276720"/>
                <a:ext cx="85680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4114800" y="4038840"/>
              <a:ext cx="942120" cy="304920"/>
              <a:chOff x="4114800" y="4038840"/>
              <a:chExt cx="942120" cy="304920"/>
            </a:xfrm>
          </p:grpSpPr>
          <p:sp>
            <p:nvSpPr>
              <p:cNvPr id="1331" name=""/>
              <p:cNvSpPr/>
              <p:nvPr/>
            </p:nvSpPr>
            <p:spPr>
              <a:xfrm>
                <a:off x="4114800" y="4038840"/>
                <a:ext cx="942120" cy="30492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32" name=""/>
              <p:cNvGrpSpPr/>
              <p:nvPr/>
            </p:nvGrpSpPr>
            <p:grpSpPr>
              <a:xfrm>
                <a:off x="4200120" y="4115160"/>
                <a:ext cx="770760" cy="152280"/>
                <a:chOff x="4200120" y="4115160"/>
                <a:chExt cx="770760" cy="15228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420012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420012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4285800" y="411516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4285800" y="419112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7112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37112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45680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445680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542840" y="411516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542840" y="419112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62816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62816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471384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471384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4799880" y="411516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4799880" y="419112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88520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488520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1" name=""/>
            <p:cNvGrpSpPr/>
            <p:nvPr/>
          </p:nvGrpSpPr>
          <p:grpSpPr>
            <a:xfrm>
              <a:off x="5228640" y="4115160"/>
              <a:ext cx="217800" cy="304560"/>
              <a:chOff x="5228640" y="4115160"/>
              <a:chExt cx="217800" cy="304560"/>
            </a:xfrm>
          </p:grpSpPr>
          <p:sp>
            <p:nvSpPr>
              <p:cNvPr id="1352" name=""/>
              <p:cNvSpPr/>
              <p:nvPr/>
            </p:nvSpPr>
            <p:spPr>
              <a:xfrm>
                <a:off x="5228640" y="4115160"/>
                <a:ext cx="217800" cy="3045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90560" y="411516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>
              <a:off x="5057280" y="3962520"/>
              <a:ext cx="342720" cy="1526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5" name=""/>
            <p:cNvGrpSpPr/>
            <p:nvPr/>
          </p:nvGrpSpPr>
          <p:grpSpPr>
            <a:xfrm>
              <a:off x="3429000" y="3048120"/>
              <a:ext cx="599400" cy="1295640"/>
              <a:chOff x="3429000" y="3048120"/>
              <a:chExt cx="599400" cy="1295640"/>
            </a:xfrm>
          </p:grpSpPr>
          <p:sp>
            <p:nvSpPr>
              <p:cNvPr id="1356" name=""/>
              <p:cNvSpPr/>
              <p:nvPr/>
            </p:nvSpPr>
            <p:spPr>
              <a:xfrm>
                <a:off x="3429000" y="3048120"/>
                <a:ext cx="599400" cy="1295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514680" y="312444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514680" y="335304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9" name=""/>
          <p:cNvGrpSpPr/>
          <p:nvPr/>
        </p:nvGrpSpPr>
        <p:grpSpPr>
          <a:xfrm>
            <a:off x="3429000" y="1600200"/>
            <a:ext cx="2017440" cy="1371600"/>
            <a:chOff x="3429000" y="1600200"/>
            <a:chExt cx="2017440" cy="1371600"/>
          </a:xfrm>
        </p:grpSpPr>
        <p:grpSp>
          <p:nvGrpSpPr>
            <p:cNvPr id="1360" name=""/>
            <p:cNvGrpSpPr/>
            <p:nvPr/>
          </p:nvGrpSpPr>
          <p:grpSpPr>
            <a:xfrm>
              <a:off x="4114800" y="1752840"/>
              <a:ext cx="1027800" cy="761760"/>
              <a:chOff x="4114800" y="1752840"/>
              <a:chExt cx="1027800" cy="761760"/>
            </a:xfrm>
          </p:grpSpPr>
          <p:sp>
            <p:nvSpPr>
              <p:cNvPr id="1361" name=""/>
              <p:cNvSpPr/>
              <p:nvPr/>
            </p:nvSpPr>
            <p:spPr>
              <a:xfrm>
                <a:off x="4114800" y="1752840"/>
                <a:ext cx="102780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200480" y="1828800"/>
                <a:ext cx="85680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4114800" y="2590920"/>
              <a:ext cx="942120" cy="304920"/>
              <a:chOff x="4114800" y="2590920"/>
              <a:chExt cx="942120" cy="304920"/>
            </a:xfrm>
          </p:grpSpPr>
          <p:sp>
            <p:nvSpPr>
              <p:cNvPr id="1364" name=""/>
              <p:cNvSpPr/>
              <p:nvPr/>
            </p:nvSpPr>
            <p:spPr>
              <a:xfrm>
                <a:off x="4114800" y="2590920"/>
                <a:ext cx="942120" cy="30492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65" name=""/>
              <p:cNvGrpSpPr/>
              <p:nvPr/>
            </p:nvGrpSpPr>
            <p:grpSpPr>
              <a:xfrm>
                <a:off x="4200120" y="2667240"/>
                <a:ext cx="770760" cy="152280"/>
                <a:chOff x="4200120" y="2667240"/>
                <a:chExt cx="770760" cy="1522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420012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420012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285800" y="266724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4285800" y="274320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437112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437112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445680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445680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542840" y="266724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4542840" y="274320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462816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62816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71384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71384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799880" y="266724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799880" y="274320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88520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88520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4" name=""/>
            <p:cNvGrpSpPr/>
            <p:nvPr/>
          </p:nvGrpSpPr>
          <p:grpSpPr>
            <a:xfrm>
              <a:off x="5228640" y="2667240"/>
              <a:ext cx="217800" cy="304560"/>
              <a:chOff x="5228640" y="2667240"/>
              <a:chExt cx="217800" cy="3045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228640" y="2667240"/>
                <a:ext cx="217800" cy="3045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290560" y="266724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7" name=""/>
            <p:cNvSpPr/>
            <p:nvPr/>
          </p:nvSpPr>
          <p:spPr>
            <a:xfrm>
              <a:off x="5057280" y="2514600"/>
              <a:ext cx="342720" cy="1526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3429000" y="1600200"/>
              <a:ext cx="599400" cy="1295640"/>
              <a:chOff x="3429000" y="1600200"/>
              <a:chExt cx="599400" cy="1295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3429000" y="1600200"/>
                <a:ext cx="599400" cy="1295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514680" y="167652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514680" y="190512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2" name=""/>
          <p:cNvGrpSpPr/>
          <p:nvPr/>
        </p:nvGrpSpPr>
        <p:grpSpPr>
          <a:xfrm>
            <a:off x="1114560" y="1600200"/>
            <a:ext cx="2017080" cy="1371600"/>
            <a:chOff x="1114560" y="1600200"/>
            <a:chExt cx="2017080" cy="1371600"/>
          </a:xfrm>
        </p:grpSpPr>
        <p:grpSp>
          <p:nvGrpSpPr>
            <p:cNvPr id="1393" name=""/>
            <p:cNvGrpSpPr/>
            <p:nvPr/>
          </p:nvGrpSpPr>
          <p:grpSpPr>
            <a:xfrm>
              <a:off x="1800360" y="1752840"/>
              <a:ext cx="1027800" cy="761760"/>
              <a:chOff x="1800360" y="1752840"/>
              <a:chExt cx="1027800" cy="761760"/>
            </a:xfrm>
          </p:grpSpPr>
          <p:sp>
            <p:nvSpPr>
              <p:cNvPr id="1394" name=""/>
              <p:cNvSpPr/>
              <p:nvPr/>
            </p:nvSpPr>
            <p:spPr>
              <a:xfrm>
                <a:off x="1800360" y="1752840"/>
                <a:ext cx="102780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886040" y="1828800"/>
                <a:ext cx="85680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1800360" y="2590920"/>
              <a:ext cx="942120" cy="304920"/>
              <a:chOff x="1800360" y="2590920"/>
              <a:chExt cx="942120" cy="304920"/>
            </a:xfrm>
          </p:grpSpPr>
          <p:sp>
            <p:nvSpPr>
              <p:cNvPr id="1397" name=""/>
              <p:cNvSpPr/>
              <p:nvPr/>
            </p:nvSpPr>
            <p:spPr>
              <a:xfrm>
                <a:off x="1800360" y="2590920"/>
                <a:ext cx="942120" cy="30492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98" name=""/>
              <p:cNvGrpSpPr/>
              <p:nvPr/>
            </p:nvGrpSpPr>
            <p:grpSpPr>
              <a:xfrm>
                <a:off x="1885680" y="2667240"/>
                <a:ext cx="770760" cy="152280"/>
                <a:chOff x="1885680" y="2667240"/>
                <a:chExt cx="770760" cy="15228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188568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188568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1971360" y="266724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1971360" y="274320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205668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205668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214236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214236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2228400" y="266724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228400" y="274320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231372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231372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239940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39940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2485440" y="266724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485440" y="274320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2570760" y="266724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2570760" y="274320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7" name=""/>
            <p:cNvGrpSpPr/>
            <p:nvPr/>
          </p:nvGrpSpPr>
          <p:grpSpPr>
            <a:xfrm>
              <a:off x="2913840" y="2667240"/>
              <a:ext cx="217800" cy="304560"/>
              <a:chOff x="2913840" y="2667240"/>
              <a:chExt cx="217800" cy="304560"/>
            </a:xfrm>
          </p:grpSpPr>
          <p:sp>
            <p:nvSpPr>
              <p:cNvPr id="1418" name=""/>
              <p:cNvSpPr/>
              <p:nvPr/>
            </p:nvSpPr>
            <p:spPr>
              <a:xfrm>
                <a:off x="2913840" y="2667240"/>
                <a:ext cx="217800" cy="3045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975760" y="266724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0" name=""/>
            <p:cNvSpPr/>
            <p:nvPr/>
          </p:nvSpPr>
          <p:spPr>
            <a:xfrm>
              <a:off x="2742840" y="2514600"/>
              <a:ext cx="342720" cy="1526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1114560" y="1600200"/>
              <a:ext cx="599400" cy="1295640"/>
              <a:chOff x="1114560" y="1600200"/>
              <a:chExt cx="599400" cy="1295640"/>
            </a:xfrm>
          </p:grpSpPr>
          <p:sp>
            <p:nvSpPr>
              <p:cNvPr id="1422" name=""/>
              <p:cNvSpPr/>
              <p:nvPr/>
            </p:nvSpPr>
            <p:spPr>
              <a:xfrm>
                <a:off x="1114560" y="1600200"/>
                <a:ext cx="599400" cy="1295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200240" y="167652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200240" y="190512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1114560" y="3048120"/>
            <a:ext cx="2017080" cy="1371600"/>
            <a:chOff x="1114560" y="3048120"/>
            <a:chExt cx="2017080" cy="1371600"/>
          </a:xfrm>
        </p:grpSpPr>
        <p:grpSp>
          <p:nvGrpSpPr>
            <p:cNvPr id="1426" name=""/>
            <p:cNvGrpSpPr/>
            <p:nvPr/>
          </p:nvGrpSpPr>
          <p:grpSpPr>
            <a:xfrm>
              <a:off x="1800360" y="3200760"/>
              <a:ext cx="1027800" cy="761760"/>
              <a:chOff x="1800360" y="3200760"/>
              <a:chExt cx="1027800" cy="761760"/>
            </a:xfrm>
          </p:grpSpPr>
          <p:sp>
            <p:nvSpPr>
              <p:cNvPr id="1427" name=""/>
              <p:cNvSpPr/>
              <p:nvPr/>
            </p:nvSpPr>
            <p:spPr>
              <a:xfrm>
                <a:off x="1800360" y="3200760"/>
                <a:ext cx="102780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886040" y="3276720"/>
                <a:ext cx="85680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1800360" y="4038840"/>
              <a:ext cx="942120" cy="304920"/>
              <a:chOff x="1800360" y="4038840"/>
              <a:chExt cx="942120" cy="304920"/>
            </a:xfrm>
          </p:grpSpPr>
          <p:sp>
            <p:nvSpPr>
              <p:cNvPr id="1430" name=""/>
              <p:cNvSpPr/>
              <p:nvPr/>
            </p:nvSpPr>
            <p:spPr>
              <a:xfrm>
                <a:off x="1800360" y="4038840"/>
                <a:ext cx="942120" cy="30492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31" name=""/>
              <p:cNvGrpSpPr/>
              <p:nvPr/>
            </p:nvGrpSpPr>
            <p:grpSpPr>
              <a:xfrm>
                <a:off x="1885680" y="4115160"/>
                <a:ext cx="770760" cy="152280"/>
                <a:chOff x="1885680" y="4115160"/>
                <a:chExt cx="770760" cy="15228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188568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188568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1971360" y="411516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1971360" y="419112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205668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205668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14236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214236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228400" y="411516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2228400" y="419112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231372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231372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239940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239940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2485440" y="411516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2485440" y="419112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2570760" y="411516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2570760" y="419112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0" name=""/>
            <p:cNvGrpSpPr/>
            <p:nvPr/>
          </p:nvGrpSpPr>
          <p:grpSpPr>
            <a:xfrm>
              <a:off x="2913840" y="4115160"/>
              <a:ext cx="217800" cy="304560"/>
              <a:chOff x="2913840" y="4115160"/>
              <a:chExt cx="217800" cy="304560"/>
            </a:xfrm>
          </p:grpSpPr>
          <p:sp>
            <p:nvSpPr>
              <p:cNvPr id="1451" name=""/>
              <p:cNvSpPr/>
              <p:nvPr/>
            </p:nvSpPr>
            <p:spPr>
              <a:xfrm>
                <a:off x="2913840" y="4115160"/>
                <a:ext cx="217800" cy="3045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975760" y="411516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742840" y="3962520"/>
              <a:ext cx="342720" cy="1526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1114560" y="3048120"/>
              <a:ext cx="599400" cy="1295640"/>
              <a:chOff x="1114560" y="3048120"/>
              <a:chExt cx="599400" cy="1295640"/>
            </a:xfrm>
          </p:grpSpPr>
          <p:sp>
            <p:nvSpPr>
              <p:cNvPr id="1455" name=""/>
              <p:cNvSpPr/>
              <p:nvPr/>
            </p:nvSpPr>
            <p:spPr>
              <a:xfrm>
                <a:off x="1114560" y="3048120"/>
                <a:ext cx="599400" cy="1295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200240" y="312444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200240" y="3353040"/>
                <a:ext cx="428040" cy="15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8" name=""/>
          <p:cNvSpPr/>
          <p:nvPr/>
        </p:nvSpPr>
        <p:spPr>
          <a:xfrm>
            <a:off x="1886040" y="1828800"/>
            <a:ext cx="857160" cy="6094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200480" y="1828800"/>
            <a:ext cx="85716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972560" y="2819520"/>
            <a:ext cx="428400" cy="304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200480" y="32767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1371600" y="1143000"/>
            <a:ext cx="5829120" cy="3657600"/>
            <a:chOff x="1371600" y="1143000"/>
            <a:chExt cx="5829120" cy="3657600"/>
          </a:xfrm>
        </p:grpSpPr>
        <p:grpSp>
          <p:nvGrpSpPr>
            <p:cNvPr id="1463" name=""/>
            <p:cNvGrpSpPr/>
            <p:nvPr/>
          </p:nvGrpSpPr>
          <p:grpSpPr>
            <a:xfrm>
              <a:off x="1371600" y="1143000"/>
              <a:ext cx="4971600" cy="3657600"/>
              <a:chOff x="1371600" y="1143000"/>
              <a:chExt cx="4971600" cy="3657600"/>
            </a:xfrm>
          </p:grpSpPr>
          <p:sp>
            <p:nvSpPr>
              <p:cNvPr id="1464" name=""/>
              <p:cNvSpPr/>
              <p:nvPr/>
            </p:nvSpPr>
            <p:spPr>
              <a:xfrm>
                <a:off x="1371600" y="1143000"/>
                <a:ext cx="4971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371600" y="4800600"/>
                <a:ext cx="4971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343200" y="1143000"/>
                <a:ext cx="0" cy="3657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771360" y="4343400"/>
                <a:ext cx="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371600" y="4343400"/>
                <a:ext cx="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371600" y="1143000"/>
                <a:ext cx="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771360" y="1143000"/>
                <a:ext cx="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1" name=""/>
            <p:cNvSpPr/>
            <p:nvPr/>
          </p:nvSpPr>
          <p:spPr>
            <a:xfrm>
              <a:off x="6343560" y="3048120"/>
              <a:ext cx="857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7972560" y="2514600"/>
            <a:ext cx="428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400960" y="2514600"/>
            <a:ext cx="4287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886040" y="32767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400960" y="2819520"/>
            <a:ext cx="4287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425680" y="914400"/>
            <a:ext cx="363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425680" y="914400"/>
            <a:ext cx="363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339640" y="4572000"/>
            <a:ext cx="363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25800" y="914400"/>
            <a:ext cx="363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997160" y="4572000"/>
            <a:ext cx="363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23920" y="5257800"/>
            <a:ext cx="61549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luster of Workstations performing Spatial Ti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"/>
          <p:cNvGrpSpPr/>
          <p:nvPr/>
        </p:nvGrpSpPr>
        <p:grpSpPr>
          <a:xfrm>
            <a:off x="7115040" y="2590920"/>
            <a:ext cx="1028520" cy="761760"/>
            <a:chOff x="7115040" y="2590920"/>
            <a:chExt cx="1028520" cy="761760"/>
          </a:xfrm>
        </p:grpSpPr>
        <p:sp>
          <p:nvSpPr>
            <p:cNvPr id="1483" name=""/>
            <p:cNvSpPr/>
            <p:nvPr/>
          </p:nvSpPr>
          <p:spPr>
            <a:xfrm>
              <a:off x="7115040" y="2590920"/>
              <a:ext cx="102852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20072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5315040" y="1981080"/>
            <a:ext cx="1028160" cy="762120"/>
            <a:chOff x="5315040" y="1981080"/>
            <a:chExt cx="1028160" cy="762120"/>
          </a:xfrm>
        </p:grpSpPr>
        <p:sp>
          <p:nvSpPr>
            <p:cNvPr id="1486" name=""/>
            <p:cNvSpPr/>
            <p:nvPr/>
          </p:nvSpPr>
          <p:spPr>
            <a:xfrm>
              <a:off x="5315040" y="198108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400720" y="205740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5315040" y="4267080"/>
            <a:ext cx="1028160" cy="762120"/>
            <a:chOff x="5315040" y="4267080"/>
            <a:chExt cx="1028160" cy="762120"/>
          </a:xfrm>
        </p:grpSpPr>
        <p:sp>
          <p:nvSpPr>
            <p:cNvPr id="1489" name=""/>
            <p:cNvSpPr/>
            <p:nvPr/>
          </p:nvSpPr>
          <p:spPr>
            <a:xfrm>
              <a:off x="5315040" y="426708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400720" y="434340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5315040" y="990720"/>
            <a:ext cx="1028160" cy="761760"/>
            <a:chOff x="5315040" y="990720"/>
            <a:chExt cx="1028160" cy="761760"/>
          </a:xfrm>
        </p:grpSpPr>
        <p:sp>
          <p:nvSpPr>
            <p:cNvPr id="1492" name=""/>
            <p:cNvSpPr/>
            <p:nvPr/>
          </p:nvSpPr>
          <p:spPr>
            <a:xfrm>
              <a:off x="5315040" y="990720"/>
              <a:ext cx="102816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400720" y="10666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7029360" y="3429000"/>
            <a:ext cx="1331640" cy="457200"/>
            <a:chOff x="7029360" y="3429000"/>
            <a:chExt cx="1331640" cy="457200"/>
          </a:xfrm>
        </p:grpSpPr>
        <p:grpSp>
          <p:nvGrpSpPr>
            <p:cNvPr id="1495" name=""/>
            <p:cNvGrpSpPr/>
            <p:nvPr/>
          </p:nvGrpSpPr>
          <p:grpSpPr>
            <a:xfrm>
              <a:off x="7029360" y="3504960"/>
              <a:ext cx="942120" cy="304920"/>
              <a:chOff x="7029360" y="3504960"/>
              <a:chExt cx="942120" cy="304920"/>
            </a:xfrm>
          </p:grpSpPr>
          <p:sp>
            <p:nvSpPr>
              <p:cNvPr id="1496" name=""/>
              <p:cNvSpPr/>
              <p:nvPr/>
            </p:nvSpPr>
            <p:spPr>
              <a:xfrm>
                <a:off x="7029360" y="3504960"/>
                <a:ext cx="942120" cy="30492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7" name=""/>
              <p:cNvGrpSpPr/>
              <p:nvPr/>
            </p:nvGrpSpPr>
            <p:grpSpPr>
              <a:xfrm>
                <a:off x="7114680" y="3581280"/>
                <a:ext cx="770760" cy="152280"/>
                <a:chOff x="7114680" y="3581280"/>
                <a:chExt cx="770760" cy="1522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7114680" y="35812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114680" y="365724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200360" y="35812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200360" y="365724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7285680" y="35812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285680" y="365724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371360" y="35812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371360" y="365724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7457400" y="35812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457400" y="365724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542720" y="35812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542720" y="365724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628400" y="35812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628400" y="365724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714440" y="35812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714440" y="3657240"/>
                  <a:ext cx="8532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799760" y="35812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7799760" y="3657240"/>
                  <a:ext cx="85680" cy="76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6" name=""/>
            <p:cNvGrpSpPr/>
            <p:nvPr/>
          </p:nvGrpSpPr>
          <p:grpSpPr>
            <a:xfrm>
              <a:off x="8143200" y="3581280"/>
              <a:ext cx="217800" cy="304920"/>
              <a:chOff x="8143200" y="3581280"/>
              <a:chExt cx="217800" cy="304920"/>
            </a:xfrm>
          </p:grpSpPr>
          <p:sp>
            <p:nvSpPr>
              <p:cNvPr id="1517" name=""/>
              <p:cNvSpPr/>
              <p:nvPr/>
            </p:nvSpPr>
            <p:spPr>
              <a:xfrm>
                <a:off x="8143200" y="358128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205120" y="358128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19" name=""/>
            <p:cNvSpPr/>
            <p:nvPr/>
          </p:nvSpPr>
          <p:spPr>
            <a:xfrm>
              <a:off x="7971840" y="342900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3000240" y="990720"/>
            <a:ext cx="1457640" cy="41907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171960" y="1143000"/>
            <a:ext cx="488880" cy="216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400720" y="1066680"/>
            <a:ext cx="85716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400720" y="2057400"/>
            <a:ext cx="85716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201080" y="2971800"/>
            <a:ext cx="4284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201080" y="2666880"/>
            <a:ext cx="428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29480" y="2666880"/>
            <a:ext cx="4287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400720" y="434340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629480" y="2971800"/>
            <a:ext cx="4287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171960" y="1752480"/>
            <a:ext cx="488880" cy="216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171960" y="1447920"/>
            <a:ext cx="488880" cy="2156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171960" y="2133720"/>
            <a:ext cx="488880" cy="2156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171960" y="2743200"/>
            <a:ext cx="488880" cy="216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171960" y="2438280"/>
            <a:ext cx="488880" cy="216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71960" y="4114800"/>
            <a:ext cx="488880" cy="216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171960" y="4724280"/>
            <a:ext cx="488880" cy="216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171960" y="4419720"/>
            <a:ext cx="488880" cy="2156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772080" y="4114800"/>
            <a:ext cx="4888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171960" y="3124080"/>
            <a:ext cx="488880" cy="216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171960" y="3733920"/>
            <a:ext cx="488880" cy="2156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171960" y="3429000"/>
            <a:ext cx="488880" cy="216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772080" y="2133720"/>
            <a:ext cx="4888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772080" y="3124080"/>
            <a:ext cx="48888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72080" y="1143000"/>
            <a:ext cx="4888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4457520" y="1371600"/>
            <a:ext cx="857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54440" y="1143000"/>
            <a:ext cx="363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4457520" y="2362320"/>
            <a:ext cx="857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654440" y="2133720"/>
            <a:ext cx="363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4457520" y="4648320"/>
            <a:ext cx="857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654440" y="4419720"/>
            <a:ext cx="363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457520" y="2971800"/>
            <a:ext cx="2657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540480" y="2743200"/>
            <a:ext cx="363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5315040" y="3200400"/>
            <a:ext cx="1028160" cy="762120"/>
            <a:chOff x="5315040" y="3200400"/>
            <a:chExt cx="1028160" cy="762120"/>
          </a:xfrm>
        </p:grpSpPr>
        <p:sp>
          <p:nvSpPr>
            <p:cNvPr id="1553" name=""/>
            <p:cNvSpPr/>
            <p:nvPr/>
          </p:nvSpPr>
          <p:spPr>
            <a:xfrm>
              <a:off x="5315040" y="320040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400720" y="32767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5" name=""/>
          <p:cNvSpPr/>
          <p:nvPr/>
        </p:nvSpPr>
        <p:spPr>
          <a:xfrm>
            <a:off x="5400720" y="32767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4457520" y="3581280"/>
            <a:ext cx="857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654440" y="3352680"/>
            <a:ext cx="363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421720" y="5715000"/>
            <a:ext cx="5667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ingle-System Image performing Spatial Ti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3086280" y="990720"/>
            <a:ext cx="857160" cy="6094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8400960" y="2209680"/>
            <a:ext cx="1028520" cy="762120"/>
            <a:chOff x="8400960" y="2209680"/>
            <a:chExt cx="1028520" cy="762120"/>
          </a:xfrm>
        </p:grpSpPr>
        <p:sp>
          <p:nvSpPr>
            <p:cNvPr id="1561" name=""/>
            <p:cNvSpPr/>
            <p:nvPr/>
          </p:nvSpPr>
          <p:spPr>
            <a:xfrm>
              <a:off x="8400960" y="2209680"/>
              <a:ext cx="102852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486640" y="228600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8400960" y="1371600"/>
            <a:ext cx="1028520" cy="762120"/>
            <a:chOff x="8400960" y="1371600"/>
            <a:chExt cx="1028520" cy="762120"/>
          </a:xfrm>
        </p:grpSpPr>
        <p:sp>
          <p:nvSpPr>
            <p:cNvPr id="1564" name=""/>
            <p:cNvSpPr/>
            <p:nvPr/>
          </p:nvSpPr>
          <p:spPr>
            <a:xfrm>
              <a:off x="8400960" y="1371600"/>
              <a:ext cx="102852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86640" y="14479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7286760" y="2209680"/>
            <a:ext cx="1028160" cy="762120"/>
            <a:chOff x="7286760" y="2209680"/>
            <a:chExt cx="1028160" cy="762120"/>
          </a:xfrm>
        </p:grpSpPr>
        <p:sp>
          <p:nvSpPr>
            <p:cNvPr id="1567" name=""/>
            <p:cNvSpPr/>
            <p:nvPr/>
          </p:nvSpPr>
          <p:spPr>
            <a:xfrm>
              <a:off x="7286760" y="220968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372440" y="228600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5486400" y="2209680"/>
            <a:ext cx="1331640" cy="1219320"/>
            <a:chOff x="5486400" y="2209680"/>
            <a:chExt cx="1331640" cy="1219320"/>
          </a:xfrm>
        </p:grpSpPr>
        <p:grpSp>
          <p:nvGrpSpPr>
            <p:cNvPr id="1570" name=""/>
            <p:cNvGrpSpPr/>
            <p:nvPr/>
          </p:nvGrpSpPr>
          <p:grpSpPr>
            <a:xfrm>
              <a:off x="5486400" y="2209680"/>
              <a:ext cx="1028160" cy="762120"/>
              <a:chOff x="5486400" y="2209680"/>
              <a:chExt cx="1028160" cy="762120"/>
            </a:xfrm>
          </p:grpSpPr>
          <p:sp>
            <p:nvSpPr>
              <p:cNvPr id="1571" name=""/>
              <p:cNvSpPr/>
              <p:nvPr/>
            </p:nvSpPr>
            <p:spPr>
              <a:xfrm>
                <a:off x="5486400" y="22096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572080" y="22860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5486400" y="3048120"/>
              <a:ext cx="942120" cy="304560"/>
              <a:chOff x="5486400" y="3048120"/>
              <a:chExt cx="942120" cy="304560"/>
            </a:xfrm>
          </p:grpSpPr>
          <p:sp>
            <p:nvSpPr>
              <p:cNvPr id="1574" name=""/>
              <p:cNvSpPr/>
              <p:nvPr/>
            </p:nvSpPr>
            <p:spPr>
              <a:xfrm>
                <a:off x="5486400" y="304812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5" name=""/>
              <p:cNvGrpSpPr/>
              <p:nvPr/>
            </p:nvGrpSpPr>
            <p:grpSpPr>
              <a:xfrm>
                <a:off x="5571720" y="3124080"/>
                <a:ext cx="770760" cy="151560"/>
                <a:chOff x="5571720" y="3124080"/>
                <a:chExt cx="770760" cy="15156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557172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557172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5657400" y="312408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5657400" y="31996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574272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574272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582840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582840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5914440" y="312408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5914440" y="31996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599976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599976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08544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08544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6171480" y="312408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6171480" y="31996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625680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625680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4" name=""/>
            <p:cNvGrpSpPr/>
            <p:nvPr/>
          </p:nvGrpSpPr>
          <p:grpSpPr>
            <a:xfrm>
              <a:off x="6600240" y="3124080"/>
              <a:ext cx="217800" cy="304920"/>
              <a:chOff x="6600240" y="3124080"/>
              <a:chExt cx="217800" cy="304920"/>
            </a:xfrm>
          </p:grpSpPr>
          <p:sp>
            <p:nvSpPr>
              <p:cNvPr id="1595" name=""/>
              <p:cNvSpPr/>
              <p:nvPr/>
            </p:nvSpPr>
            <p:spPr>
              <a:xfrm>
                <a:off x="6600240" y="312408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62160" y="312408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7" name=""/>
            <p:cNvSpPr/>
            <p:nvPr/>
          </p:nvSpPr>
          <p:spPr>
            <a:xfrm>
              <a:off x="6428880" y="297180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8" name=""/>
          <p:cNvSpPr/>
          <p:nvPr/>
        </p:nvSpPr>
        <p:spPr>
          <a:xfrm>
            <a:off x="5057640" y="990720"/>
            <a:ext cx="857520" cy="6094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229360" y="1447920"/>
            <a:ext cx="857160" cy="610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400720" y="182880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72080" y="228600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1542960" y="2209680"/>
            <a:ext cx="1331640" cy="1219320"/>
            <a:chOff x="1542960" y="2209680"/>
            <a:chExt cx="1331640" cy="1219320"/>
          </a:xfrm>
        </p:grpSpPr>
        <p:grpSp>
          <p:nvGrpSpPr>
            <p:cNvPr id="1603" name=""/>
            <p:cNvGrpSpPr/>
            <p:nvPr/>
          </p:nvGrpSpPr>
          <p:grpSpPr>
            <a:xfrm>
              <a:off x="1542960" y="2209680"/>
              <a:ext cx="1027800" cy="762120"/>
              <a:chOff x="1542960" y="2209680"/>
              <a:chExt cx="1027800" cy="762120"/>
            </a:xfrm>
          </p:grpSpPr>
          <p:sp>
            <p:nvSpPr>
              <p:cNvPr id="1604" name=""/>
              <p:cNvSpPr/>
              <p:nvPr/>
            </p:nvSpPr>
            <p:spPr>
              <a:xfrm>
                <a:off x="1542960" y="2209680"/>
                <a:ext cx="102780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628640" y="2286000"/>
                <a:ext cx="856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1542960" y="3048120"/>
              <a:ext cx="942120" cy="304560"/>
              <a:chOff x="1542960" y="3048120"/>
              <a:chExt cx="942120" cy="304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1542960" y="304812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1628280" y="3124080"/>
                <a:ext cx="770760" cy="151560"/>
                <a:chOff x="1628280" y="3124080"/>
                <a:chExt cx="770760" cy="15156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162828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162828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1713960" y="312408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1713960" y="31996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179928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179928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188496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188496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1971000" y="312408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1971000" y="31996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205632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205632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214200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214200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2228040" y="312408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2228040" y="31996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231336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231336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7" name=""/>
            <p:cNvGrpSpPr/>
            <p:nvPr/>
          </p:nvGrpSpPr>
          <p:grpSpPr>
            <a:xfrm>
              <a:off x="2656800" y="3124080"/>
              <a:ext cx="217800" cy="304920"/>
              <a:chOff x="2656800" y="3124080"/>
              <a:chExt cx="217800" cy="304920"/>
            </a:xfrm>
          </p:grpSpPr>
          <p:sp>
            <p:nvSpPr>
              <p:cNvPr id="1628" name=""/>
              <p:cNvSpPr/>
              <p:nvPr/>
            </p:nvSpPr>
            <p:spPr>
              <a:xfrm>
                <a:off x="2656800" y="312408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718720" y="312408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>
              <a:off x="2485440" y="297180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28640" y="2590920"/>
              <a:ext cx="4280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Console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628640" y="2286000"/>
              <a:ext cx="42804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Console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057040" y="2286000"/>
              <a:ext cx="42804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Console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040" y="2590920"/>
              <a:ext cx="4280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Console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514680" y="2209680"/>
            <a:ext cx="1331640" cy="1219320"/>
            <a:chOff x="3514680" y="2209680"/>
            <a:chExt cx="1331640" cy="1219320"/>
          </a:xfrm>
        </p:grpSpPr>
        <p:grpSp>
          <p:nvGrpSpPr>
            <p:cNvPr id="1636" name=""/>
            <p:cNvGrpSpPr/>
            <p:nvPr/>
          </p:nvGrpSpPr>
          <p:grpSpPr>
            <a:xfrm>
              <a:off x="3514680" y="2209680"/>
              <a:ext cx="1028160" cy="762120"/>
              <a:chOff x="3514680" y="2209680"/>
              <a:chExt cx="1028160" cy="762120"/>
            </a:xfrm>
          </p:grpSpPr>
          <p:sp>
            <p:nvSpPr>
              <p:cNvPr id="1637" name=""/>
              <p:cNvSpPr/>
              <p:nvPr/>
            </p:nvSpPr>
            <p:spPr>
              <a:xfrm>
                <a:off x="3514680" y="22096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600360" y="22860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3514680" y="3048120"/>
              <a:ext cx="942120" cy="304560"/>
              <a:chOff x="3514680" y="3048120"/>
              <a:chExt cx="942120" cy="304560"/>
            </a:xfrm>
          </p:grpSpPr>
          <p:sp>
            <p:nvSpPr>
              <p:cNvPr id="1640" name=""/>
              <p:cNvSpPr/>
              <p:nvPr/>
            </p:nvSpPr>
            <p:spPr>
              <a:xfrm>
                <a:off x="3514680" y="304812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41" name=""/>
              <p:cNvGrpSpPr/>
              <p:nvPr/>
            </p:nvGrpSpPr>
            <p:grpSpPr>
              <a:xfrm>
                <a:off x="3600000" y="3124080"/>
                <a:ext cx="770760" cy="151560"/>
                <a:chOff x="3600000" y="3124080"/>
                <a:chExt cx="770760" cy="15156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360000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60000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685680" y="312408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685680" y="31996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77100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77100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385668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385668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942720" y="312408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942720" y="31996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402804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402804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411372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411372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4199760" y="312408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199760" y="319968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4285080" y="312408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4285080" y="319968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0" name=""/>
            <p:cNvGrpSpPr/>
            <p:nvPr/>
          </p:nvGrpSpPr>
          <p:grpSpPr>
            <a:xfrm>
              <a:off x="4628520" y="3124080"/>
              <a:ext cx="217800" cy="304920"/>
              <a:chOff x="4628520" y="3124080"/>
              <a:chExt cx="217800" cy="304920"/>
            </a:xfrm>
          </p:grpSpPr>
          <p:sp>
            <p:nvSpPr>
              <p:cNvPr id="1661" name=""/>
              <p:cNvSpPr/>
              <p:nvPr/>
            </p:nvSpPr>
            <p:spPr>
              <a:xfrm>
                <a:off x="4628520" y="312408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690440" y="312408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3" name=""/>
            <p:cNvSpPr/>
            <p:nvPr/>
          </p:nvSpPr>
          <p:spPr>
            <a:xfrm>
              <a:off x="4457160" y="297180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4" name=""/>
          <p:cNvSpPr/>
          <p:nvPr/>
        </p:nvSpPr>
        <p:spPr>
          <a:xfrm>
            <a:off x="3086280" y="990720"/>
            <a:ext cx="857160" cy="6094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57640" y="1447920"/>
            <a:ext cx="857160" cy="610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429000" y="182880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600360" y="2286000"/>
            <a:ext cx="857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8" name=""/>
          <p:cNvGrpSpPr/>
          <p:nvPr/>
        </p:nvGrpSpPr>
        <p:grpSpPr>
          <a:xfrm>
            <a:off x="7286760" y="1371600"/>
            <a:ext cx="1028160" cy="762120"/>
            <a:chOff x="7286760" y="1371600"/>
            <a:chExt cx="1028160" cy="762120"/>
          </a:xfrm>
        </p:grpSpPr>
        <p:sp>
          <p:nvSpPr>
            <p:cNvPr id="1669" name=""/>
            <p:cNvSpPr/>
            <p:nvPr/>
          </p:nvSpPr>
          <p:spPr>
            <a:xfrm>
              <a:off x="7286760" y="137160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372440" y="14479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7286760" y="3048120"/>
            <a:ext cx="942480" cy="304560"/>
            <a:chOff x="7286760" y="3048120"/>
            <a:chExt cx="942480" cy="304560"/>
          </a:xfrm>
        </p:grpSpPr>
        <p:sp>
          <p:nvSpPr>
            <p:cNvPr id="1672" name=""/>
            <p:cNvSpPr/>
            <p:nvPr/>
          </p:nvSpPr>
          <p:spPr>
            <a:xfrm>
              <a:off x="7286760" y="3048120"/>
              <a:ext cx="942480" cy="304560"/>
            </a:xfrm>
            <a:prstGeom prst="rect">
              <a:avLst/>
            </a:prstGeom>
            <a:solidFill>
              <a:srgbClr val="863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3" name=""/>
            <p:cNvGrpSpPr/>
            <p:nvPr/>
          </p:nvGrpSpPr>
          <p:grpSpPr>
            <a:xfrm>
              <a:off x="7372080" y="3124080"/>
              <a:ext cx="771120" cy="151560"/>
              <a:chOff x="7372080" y="3124080"/>
              <a:chExt cx="771120" cy="151560"/>
            </a:xfrm>
          </p:grpSpPr>
          <p:sp>
            <p:nvSpPr>
              <p:cNvPr id="1674" name=""/>
              <p:cNvSpPr/>
              <p:nvPr/>
            </p:nvSpPr>
            <p:spPr>
              <a:xfrm>
                <a:off x="7372080" y="3124080"/>
                <a:ext cx="85680" cy="75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372080" y="319968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457760" y="3124080"/>
                <a:ext cx="85320" cy="75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457760" y="319968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543080" y="3124080"/>
                <a:ext cx="85680" cy="75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543080" y="319968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629120" y="3124080"/>
                <a:ext cx="85680" cy="75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629120" y="319968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714800" y="3124080"/>
                <a:ext cx="85320" cy="75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714800" y="319968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800480" y="3124080"/>
                <a:ext cx="85680" cy="75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800480" y="319968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886160" y="3124080"/>
                <a:ext cx="85680" cy="75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886160" y="319968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72200" y="3124080"/>
                <a:ext cx="85320" cy="75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72200" y="319968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057520" y="3124080"/>
                <a:ext cx="85680" cy="75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057520" y="319968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2" name=""/>
          <p:cNvGrpSpPr/>
          <p:nvPr/>
        </p:nvGrpSpPr>
        <p:grpSpPr>
          <a:xfrm>
            <a:off x="8400960" y="3124080"/>
            <a:ext cx="217440" cy="304920"/>
            <a:chOff x="8400960" y="3124080"/>
            <a:chExt cx="217440" cy="304920"/>
          </a:xfrm>
        </p:grpSpPr>
        <p:sp>
          <p:nvSpPr>
            <p:cNvPr id="1693" name=""/>
            <p:cNvSpPr/>
            <p:nvPr/>
          </p:nvSpPr>
          <p:spPr>
            <a:xfrm>
              <a:off x="8400960" y="3124080"/>
              <a:ext cx="217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462880" y="3124080"/>
              <a:ext cx="93240" cy="11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8229600" y="2971800"/>
            <a:ext cx="34308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44" y="96"/>
                </a:moveTo>
                <a:cubicBezTo>
                  <a:pt x="168" y="80"/>
                  <a:pt x="192" y="64"/>
                  <a:pt x="192" y="48"/>
                </a:cubicBezTo>
                <a:cubicBezTo>
                  <a:pt x="192" y="32"/>
                  <a:pt x="168" y="0"/>
                  <a:pt x="144" y="0"/>
                </a:cubicBezTo>
                <a:cubicBezTo>
                  <a:pt x="120" y="0"/>
                  <a:pt x="72" y="40"/>
                  <a:pt x="48" y="48"/>
                </a:cubicBezTo>
                <a:cubicBezTo>
                  <a:pt x="24" y="56"/>
                  <a:pt x="8" y="48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372440" y="1447920"/>
            <a:ext cx="857160" cy="6094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486640" y="1447920"/>
            <a:ext cx="857520" cy="610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372440" y="228600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8486640" y="2286000"/>
            <a:ext cx="857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200240" y="3581280"/>
            <a:ext cx="1886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pa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ling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Recompos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171960" y="3581280"/>
            <a:ext cx="1885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i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143680" y="3581280"/>
            <a:ext cx="1885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olu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ling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Recompos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458120" y="3581280"/>
            <a:ext cx="1886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309480" y="4724280"/>
            <a:ext cx="347256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raphics Scaling Techniq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s &amp; Bal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minate them (sort of - move them aroun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hardware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lly utiliz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Yin &amp; Ya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in and yang are the two primal cosmic principles of the univers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best state for everything in the universe is a state of harmony represented by a balance of yin and ya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ptics Dictionary -- http://skepdic.com/yinyang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59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rite Once Run Everywher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y application ran fast on that platform! Why is this one so slow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require different tu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implement hardware differ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: Architecture &amp;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: Storage capacities, buffers, &amp; c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: Bandwidth &amp;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: time required to communicate a unit of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: data transferred per unit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 bottleneck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 bottleneck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495680" y="4191120"/>
            <a:ext cx="5486400" cy="457200"/>
            <a:chOff x="4495680" y="4191120"/>
            <a:chExt cx="5486400" cy="457200"/>
          </a:xfrm>
        </p:grpSpPr>
        <p:sp>
          <p:nvSpPr>
            <p:cNvPr id="66" name=""/>
            <p:cNvSpPr/>
            <p:nvPr/>
          </p:nvSpPr>
          <p:spPr>
            <a:xfrm>
              <a:off x="63244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16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88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960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532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104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0676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5248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528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100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7280" y="419112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495680" y="4800600"/>
            <a:ext cx="5486400" cy="457200"/>
            <a:chOff x="4495680" y="4800600"/>
            <a:chExt cx="5486400" cy="457200"/>
          </a:xfrm>
        </p:grpSpPr>
        <p:sp>
          <p:nvSpPr>
            <p:cNvPr id="79" name=""/>
            <p:cNvSpPr/>
            <p:nvPr/>
          </p:nvSpPr>
          <p:spPr>
            <a:xfrm>
              <a:off x="63244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16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88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56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528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100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960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104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532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676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524880" y="48006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582720" y="5486400"/>
            <a:ext cx="3417840" cy="1557000"/>
            <a:chOff x="3582720" y="5486400"/>
            <a:chExt cx="3417840" cy="1557000"/>
          </a:xfrm>
        </p:grpSpPr>
        <p:sp>
          <p:nvSpPr>
            <p:cNvPr id="92" name=""/>
            <p:cNvSpPr/>
            <p:nvPr/>
          </p:nvSpPr>
          <p:spPr>
            <a:xfrm>
              <a:off x="3582720" y="5486400"/>
              <a:ext cx="3417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: unit of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: texture setup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: texture download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7600" y="5562360"/>
              <a:ext cx="304560" cy="304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oftware 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981080"/>
            <a:ext cx="8534160" cy="4267440"/>
            <a:chOff x="533520" y="1981080"/>
            <a:chExt cx="8534160" cy="4267440"/>
          </a:xfrm>
        </p:grpSpPr>
        <p:sp>
          <p:nvSpPr>
            <p:cNvPr id="96" name=""/>
            <p:cNvSpPr/>
            <p:nvPr/>
          </p:nvSpPr>
          <p:spPr>
            <a:xfrm>
              <a:off x="6019920" y="1981080"/>
              <a:ext cx="1447560" cy="5335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0120" y="3352680"/>
              <a:ext cx="1447560" cy="5335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53080" y="5334120"/>
              <a:ext cx="1447920" cy="533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520" y="4952880"/>
              <a:ext cx="1447560" cy="5335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981080" y="4267080"/>
              <a:ext cx="144792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715000" y="2514600"/>
              <a:ext cx="99072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095880" y="3581280"/>
              <a:ext cx="1524240" cy="381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6019560" y="4419720"/>
              <a:ext cx="114300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2666880"/>
              <a:ext cx="144756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1980720" y="2971800"/>
              <a:ext cx="160020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2971800"/>
              <a:ext cx="2740320" cy="2049480"/>
            </a:xfrm>
            <a:custGeom>
              <a:avLst/>
              <a:gdLst/>
              <a:ahLst/>
              <a:rect l="l" t="t" r="r" b="b"/>
              <a:pathLst>
                <a:path w="2443" h="1901">
                  <a:moveTo>
                    <a:pt x="713" y="1831"/>
                  </a:moveTo>
                  <a:cubicBezTo>
                    <a:pt x="773" y="1852"/>
                    <a:pt x="832" y="1885"/>
                    <a:pt x="892" y="1901"/>
                  </a:cubicBezTo>
                  <a:cubicBezTo>
                    <a:pt x="965" y="1898"/>
                    <a:pt x="1037" y="1897"/>
                    <a:pt x="1110" y="1893"/>
                  </a:cubicBezTo>
                  <a:cubicBezTo>
                    <a:pt x="1135" y="1891"/>
                    <a:pt x="1181" y="1870"/>
                    <a:pt x="1181" y="1870"/>
                  </a:cubicBezTo>
                  <a:cubicBezTo>
                    <a:pt x="1224" y="1841"/>
                    <a:pt x="1260" y="1812"/>
                    <a:pt x="1290" y="1769"/>
                  </a:cubicBezTo>
                  <a:cubicBezTo>
                    <a:pt x="1335" y="1783"/>
                    <a:pt x="1306" y="1771"/>
                    <a:pt x="1368" y="1815"/>
                  </a:cubicBezTo>
                  <a:cubicBezTo>
                    <a:pt x="1400" y="1838"/>
                    <a:pt x="1522" y="1863"/>
                    <a:pt x="1562" y="1870"/>
                  </a:cubicBezTo>
                  <a:cubicBezTo>
                    <a:pt x="1630" y="1867"/>
                    <a:pt x="1697" y="1867"/>
                    <a:pt x="1765" y="1862"/>
                  </a:cubicBezTo>
                  <a:cubicBezTo>
                    <a:pt x="1846" y="1856"/>
                    <a:pt x="1899" y="1778"/>
                    <a:pt x="1960" y="1737"/>
                  </a:cubicBezTo>
                  <a:cubicBezTo>
                    <a:pt x="1977" y="1711"/>
                    <a:pt x="2022" y="1667"/>
                    <a:pt x="2022" y="1667"/>
                  </a:cubicBezTo>
                  <a:cubicBezTo>
                    <a:pt x="2038" y="1621"/>
                    <a:pt x="2088" y="1612"/>
                    <a:pt x="2131" y="1597"/>
                  </a:cubicBezTo>
                  <a:cubicBezTo>
                    <a:pt x="2137" y="1595"/>
                    <a:pt x="2187" y="1560"/>
                    <a:pt x="2201" y="1550"/>
                  </a:cubicBezTo>
                  <a:cubicBezTo>
                    <a:pt x="2263" y="1507"/>
                    <a:pt x="2318" y="1462"/>
                    <a:pt x="2365" y="1402"/>
                  </a:cubicBezTo>
                  <a:cubicBezTo>
                    <a:pt x="2378" y="1366"/>
                    <a:pt x="2389" y="1340"/>
                    <a:pt x="2396" y="1301"/>
                  </a:cubicBezTo>
                  <a:cubicBezTo>
                    <a:pt x="2386" y="1226"/>
                    <a:pt x="2380" y="1184"/>
                    <a:pt x="2326" y="1130"/>
                  </a:cubicBezTo>
                  <a:cubicBezTo>
                    <a:pt x="2343" y="1079"/>
                    <a:pt x="2387" y="1038"/>
                    <a:pt x="2412" y="989"/>
                  </a:cubicBezTo>
                  <a:cubicBezTo>
                    <a:pt x="2421" y="948"/>
                    <a:pt x="2436" y="913"/>
                    <a:pt x="2443" y="872"/>
                  </a:cubicBezTo>
                  <a:cubicBezTo>
                    <a:pt x="2435" y="769"/>
                    <a:pt x="2428" y="714"/>
                    <a:pt x="2373" y="631"/>
                  </a:cubicBezTo>
                  <a:cubicBezTo>
                    <a:pt x="2362" y="614"/>
                    <a:pt x="2352" y="596"/>
                    <a:pt x="2334" y="584"/>
                  </a:cubicBezTo>
                  <a:cubicBezTo>
                    <a:pt x="2285" y="551"/>
                    <a:pt x="2211" y="539"/>
                    <a:pt x="2154" y="522"/>
                  </a:cubicBezTo>
                  <a:cubicBezTo>
                    <a:pt x="2117" y="396"/>
                    <a:pt x="2162" y="228"/>
                    <a:pt x="2069" y="116"/>
                  </a:cubicBezTo>
                  <a:cubicBezTo>
                    <a:pt x="2028" y="67"/>
                    <a:pt x="1905" y="39"/>
                    <a:pt x="1843" y="23"/>
                  </a:cubicBezTo>
                  <a:cubicBezTo>
                    <a:pt x="1817" y="16"/>
                    <a:pt x="1765" y="0"/>
                    <a:pt x="1765" y="0"/>
                  </a:cubicBezTo>
                  <a:cubicBezTo>
                    <a:pt x="1744" y="2"/>
                    <a:pt x="1723" y="2"/>
                    <a:pt x="1703" y="7"/>
                  </a:cubicBezTo>
                  <a:cubicBezTo>
                    <a:pt x="1678" y="14"/>
                    <a:pt x="1654" y="47"/>
                    <a:pt x="1632" y="62"/>
                  </a:cubicBezTo>
                  <a:cubicBezTo>
                    <a:pt x="1589" y="55"/>
                    <a:pt x="1550" y="42"/>
                    <a:pt x="1508" y="31"/>
                  </a:cubicBezTo>
                  <a:cubicBezTo>
                    <a:pt x="1373" y="37"/>
                    <a:pt x="1342" y="27"/>
                    <a:pt x="1243" y="62"/>
                  </a:cubicBezTo>
                  <a:cubicBezTo>
                    <a:pt x="1225" y="68"/>
                    <a:pt x="1187" y="97"/>
                    <a:pt x="1173" y="116"/>
                  </a:cubicBezTo>
                  <a:cubicBezTo>
                    <a:pt x="1162" y="131"/>
                    <a:pt x="1142" y="163"/>
                    <a:pt x="1142" y="163"/>
                  </a:cubicBezTo>
                  <a:cubicBezTo>
                    <a:pt x="1139" y="173"/>
                    <a:pt x="1137" y="184"/>
                    <a:pt x="1134" y="194"/>
                  </a:cubicBezTo>
                  <a:cubicBezTo>
                    <a:pt x="1129" y="210"/>
                    <a:pt x="1118" y="241"/>
                    <a:pt x="1118" y="241"/>
                  </a:cubicBezTo>
                  <a:cubicBezTo>
                    <a:pt x="1056" y="219"/>
                    <a:pt x="999" y="190"/>
                    <a:pt x="939" y="163"/>
                  </a:cubicBezTo>
                  <a:cubicBezTo>
                    <a:pt x="882" y="138"/>
                    <a:pt x="813" y="129"/>
                    <a:pt x="752" y="116"/>
                  </a:cubicBezTo>
                  <a:cubicBezTo>
                    <a:pt x="732" y="119"/>
                    <a:pt x="689" y="120"/>
                    <a:pt x="666" y="132"/>
                  </a:cubicBezTo>
                  <a:cubicBezTo>
                    <a:pt x="630" y="150"/>
                    <a:pt x="606" y="187"/>
                    <a:pt x="573" y="210"/>
                  </a:cubicBezTo>
                  <a:cubicBezTo>
                    <a:pt x="562" y="225"/>
                    <a:pt x="554" y="243"/>
                    <a:pt x="542" y="257"/>
                  </a:cubicBezTo>
                  <a:cubicBezTo>
                    <a:pt x="522" y="281"/>
                    <a:pt x="515" y="275"/>
                    <a:pt x="503" y="303"/>
                  </a:cubicBezTo>
                  <a:cubicBezTo>
                    <a:pt x="478" y="360"/>
                    <a:pt x="506" y="343"/>
                    <a:pt x="464" y="358"/>
                  </a:cubicBezTo>
                  <a:cubicBezTo>
                    <a:pt x="404" y="342"/>
                    <a:pt x="336" y="363"/>
                    <a:pt x="277" y="381"/>
                  </a:cubicBezTo>
                  <a:cubicBezTo>
                    <a:pt x="269" y="389"/>
                    <a:pt x="262" y="399"/>
                    <a:pt x="253" y="405"/>
                  </a:cubicBezTo>
                  <a:cubicBezTo>
                    <a:pt x="246" y="410"/>
                    <a:pt x="236" y="407"/>
                    <a:pt x="230" y="413"/>
                  </a:cubicBezTo>
                  <a:cubicBezTo>
                    <a:pt x="129" y="514"/>
                    <a:pt x="233" y="438"/>
                    <a:pt x="168" y="483"/>
                  </a:cubicBezTo>
                  <a:cubicBezTo>
                    <a:pt x="165" y="491"/>
                    <a:pt x="164" y="499"/>
                    <a:pt x="160" y="506"/>
                  </a:cubicBezTo>
                  <a:cubicBezTo>
                    <a:pt x="156" y="514"/>
                    <a:pt x="148" y="520"/>
                    <a:pt x="144" y="529"/>
                  </a:cubicBezTo>
                  <a:cubicBezTo>
                    <a:pt x="125" y="572"/>
                    <a:pt x="113" y="625"/>
                    <a:pt x="105" y="670"/>
                  </a:cubicBezTo>
                  <a:cubicBezTo>
                    <a:pt x="100" y="698"/>
                    <a:pt x="90" y="755"/>
                    <a:pt x="90" y="755"/>
                  </a:cubicBezTo>
                  <a:cubicBezTo>
                    <a:pt x="93" y="776"/>
                    <a:pt x="102" y="797"/>
                    <a:pt x="98" y="818"/>
                  </a:cubicBezTo>
                  <a:cubicBezTo>
                    <a:pt x="96" y="827"/>
                    <a:pt x="81" y="826"/>
                    <a:pt x="74" y="833"/>
                  </a:cubicBezTo>
                  <a:cubicBezTo>
                    <a:pt x="62" y="845"/>
                    <a:pt x="56" y="865"/>
                    <a:pt x="51" y="880"/>
                  </a:cubicBezTo>
                  <a:cubicBezTo>
                    <a:pt x="48" y="890"/>
                    <a:pt x="46" y="901"/>
                    <a:pt x="43" y="911"/>
                  </a:cubicBezTo>
                  <a:cubicBezTo>
                    <a:pt x="38" y="927"/>
                    <a:pt x="27" y="958"/>
                    <a:pt x="27" y="958"/>
                  </a:cubicBezTo>
                  <a:cubicBezTo>
                    <a:pt x="20" y="1031"/>
                    <a:pt x="0" y="1148"/>
                    <a:pt x="59" y="1207"/>
                  </a:cubicBezTo>
                  <a:cubicBezTo>
                    <a:pt x="83" y="1231"/>
                    <a:pt x="149" y="1253"/>
                    <a:pt x="183" y="1262"/>
                  </a:cubicBezTo>
                  <a:cubicBezTo>
                    <a:pt x="155" y="1272"/>
                    <a:pt x="141" y="1289"/>
                    <a:pt x="129" y="1317"/>
                  </a:cubicBezTo>
                  <a:cubicBezTo>
                    <a:pt x="122" y="1332"/>
                    <a:pt x="118" y="1348"/>
                    <a:pt x="113" y="1363"/>
                  </a:cubicBezTo>
                  <a:cubicBezTo>
                    <a:pt x="110" y="1371"/>
                    <a:pt x="105" y="1387"/>
                    <a:pt x="105" y="1387"/>
                  </a:cubicBezTo>
                  <a:cubicBezTo>
                    <a:pt x="100" y="1435"/>
                    <a:pt x="90" y="1479"/>
                    <a:pt x="82" y="1527"/>
                  </a:cubicBezTo>
                  <a:cubicBezTo>
                    <a:pt x="91" y="1596"/>
                    <a:pt x="97" y="1640"/>
                    <a:pt x="136" y="1698"/>
                  </a:cubicBezTo>
                  <a:cubicBezTo>
                    <a:pt x="166" y="1742"/>
                    <a:pt x="268" y="1753"/>
                    <a:pt x="308" y="1761"/>
                  </a:cubicBezTo>
                  <a:cubicBezTo>
                    <a:pt x="419" y="1784"/>
                    <a:pt x="531" y="1812"/>
                    <a:pt x="643" y="1831"/>
                  </a:cubicBezTo>
                  <a:cubicBezTo>
                    <a:pt x="703" y="1822"/>
                    <a:pt x="681" y="1815"/>
                    <a:pt x="713" y="1831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81280" y="5715000"/>
              <a:ext cx="1447920" cy="533520"/>
            </a:xfrm>
            <a:prstGeom prst="rect">
              <a:avLst/>
            </a:prstGeom>
            <a:solidFill>
              <a:srgbClr val="063ff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343400" y="5028840"/>
              <a:ext cx="152280" cy="68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18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PCI, AG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1828800"/>
            <a:ext cx="3200400" cy="4571640"/>
            <a:chOff x="533520" y="1828800"/>
            <a:chExt cx="3200400" cy="4571640"/>
          </a:xfrm>
        </p:grpSpPr>
        <p:sp>
          <p:nvSpPr>
            <p:cNvPr id="111" name=""/>
            <p:cNvSpPr/>
            <p:nvPr/>
          </p:nvSpPr>
          <p:spPr>
            <a:xfrm>
              <a:off x="60948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60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1522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10666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289548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6" name=""/>
            <p:cNvCxnSpPr>
              <a:stCxn id="117" idx="0"/>
              <a:endCxn id="111" idx="2"/>
            </p:cNvCxnSpPr>
            <p:nvPr/>
          </p:nvCxnSpPr>
          <p:spPr>
            <a:xfrm flipV="1" rot="16200000">
              <a:off x="131400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8" name=""/>
            <p:cNvCxnSpPr>
              <a:stCxn id="119" idx="0"/>
              <a:endCxn id="112" idx="2"/>
            </p:cNvCxnSpPr>
            <p:nvPr/>
          </p:nvCxnSpPr>
          <p:spPr>
            <a:xfrm flipH="1" flipV="1" rot="5400000">
              <a:off x="2495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0" name=""/>
            <p:cNvCxnSpPr>
              <a:stCxn id="121" idx="2"/>
              <a:endCxn id="122" idx="0"/>
            </p:cNvCxnSpPr>
            <p:nvPr/>
          </p:nvCxnSpPr>
          <p:spPr>
            <a:xfrm flipV="1" rot="10800000">
              <a:off x="2133000" y="4038120"/>
              <a:ext cx="1080" cy="381960"/>
            </a:xfrm>
            <a:prstGeom prst="bentConnector2">
              <a:avLst/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3" name=""/>
            <p:cNvSpPr/>
            <p:nvPr/>
          </p:nvSpPr>
          <p:spPr>
            <a:xfrm rot="16200000">
              <a:off x="19810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33520" y="4419720"/>
              <a:ext cx="3200040" cy="380880"/>
              <a:chOff x="533520" y="4419720"/>
              <a:chExt cx="320004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533520" y="4419720"/>
                <a:ext cx="3200040" cy="38088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C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352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3380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3336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3328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29" name=""/>
            <p:cNvCxnSpPr>
              <a:stCxn id="113" idx="3"/>
              <a:endCxn id="125" idx="2"/>
            </p:cNvCxnSpPr>
            <p:nvPr/>
          </p:nvCxnSpPr>
          <p:spPr>
            <a:xfrm flipH="1" flipV="1" rot="5400000">
              <a:off x="656640" y="4903200"/>
              <a:ext cx="380160" cy="17388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0" name=""/>
            <p:cNvCxnSpPr>
              <a:stCxn id="114" idx="3"/>
              <a:endCxn id="126" idx="2"/>
            </p:cNvCxnSpPr>
            <p:nvPr/>
          </p:nvCxnSpPr>
          <p:spPr>
            <a:xfrm flipH="1" flipV="1" rot="5400000">
              <a:off x="15138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1" name=""/>
            <p:cNvCxnSpPr>
              <a:stCxn id="123" idx="3"/>
              <a:endCxn id="127" idx="2"/>
            </p:cNvCxnSpPr>
            <p:nvPr/>
          </p:nvCxnSpPr>
          <p:spPr>
            <a:xfrm flipV="1" rot="16200000">
              <a:off x="2371320" y="4961880"/>
              <a:ext cx="380160" cy="5616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2" name=""/>
            <p:cNvCxnSpPr>
              <a:stCxn id="115" idx="3"/>
              <a:endCxn id="128" idx="2"/>
            </p:cNvCxnSpPr>
            <p:nvPr/>
          </p:nvCxnSpPr>
          <p:spPr>
            <a:xfrm flipV="1" rot="16200000">
              <a:off x="3228480" y="4904640"/>
              <a:ext cx="380160" cy="17064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3" name=""/>
            <p:cNvGrpSpPr/>
            <p:nvPr/>
          </p:nvGrpSpPr>
          <p:grpSpPr>
            <a:xfrm>
              <a:off x="1676520" y="3276720"/>
              <a:ext cx="914400" cy="761760"/>
              <a:chOff x="1676520" y="3276720"/>
              <a:chExt cx="914400" cy="761760"/>
            </a:xfrm>
          </p:grpSpPr>
          <p:sp>
            <p:nvSpPr>
              <p:cNvPr id="121" name=""/>
              <p:cNvSpPr/>
              <p:nvPr/>
            </p:nvSpPr>
            <p:spPr>
              <a:xfrm>
                <a:off x="1676520" y="3276720"/>
                <a:ext cx="914400" cy="76176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l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65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37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4572000" y="1828800"/>
            <a:ext cx="3124080" cy="4571640"/>
            <a:chOff x="4572000" y="1828800"/>
            <a:chExt cx="3124080" cy="4571640"/>
          </a:xfrm>
        </p:grpSpPr>
        <p:sp>
          <p:nvSpPr>
            <p:cNvPr id="135" name=""/>
            <p:cNvSpPr/>
            <p:nvPr/>
          </p:nvSpPr>
          <p:spPr>
            <a:xfrm>
              <a:off x="457200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38680" y="3276720"/>
              <a:ext cx="914400" cy="76176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676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419076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495252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6200000">
              <a:off x="685764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42" idx="0"/>
              <a:endCxn id="135" idx="2"/>
            </p:cNvCxnSpPr>
            <p:nvPr/>
          </p:nvCxnSpPr>
          <p:spPr>
            <a:xfrm flipV="1" rot="16200000">
              <a:off x="5276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3" name=""/>
            <p:cNvCxnSpPr>
              <a:stCxn id="144" idx="0"/>
              <a:endCxn id="137" idx="2"/>
            </p:cNvCxnSpPr>
            <p:nvPr/>
          </p:nvCxnSpPr>
          <p:spPr>
            <a:xfrm flipH="1" flipV="1" rot="5400000">
              <a:off x="645732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5" name=""/>
            <p:cNvCxnSpPr>
              <a:stCxn id="146" idx="2"/>
              <a:endCxn id="147" idx="0"/>
            </p:cNvCxnSpPr>
            <p:nvPr/>
          </p:nvCxnSpPr>
          <p:spPr>
            <a:xfrm flipH="1" rot="16200000">
              <a:off x="6609960" y="3752280"/>
              <a:ext cx="381960" cy="9532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 rot="16200000">
              <a:off x="571464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4419720"/>
              <a:ext cx="1981080" cy="38088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7960" y="4419720"/>
              <a:ext cx="648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9596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38" idx="3"/>
              <a:endCxn id="150" idx="2"/>
            </p:cNvCxnSpPr>
            <p:nvPr/>
          </p:nvCxnSpPr>
          <p:spPr>
            <a:xfrm flipH="1" flipV="1" rot="5400000">
              <a:off x="4695120" y="4903200"/>
              <a:ext cx="380160" cy="17388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39" idx="3"/>
              <a:endCxn id="151" idx="2"/>
            </p:cNvCxnSpPr>
            <p:nvPr/>
          </p:nvCxnSpPr>
          <p:spPr>
            <a:xfrm flipH="1" flipV="1" rot="5400000">
              <a:off x="54000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5" name=""/>
            <p:cNvCxnSpPr>
              <a:stCxn id="148" idx="3"/>
              <a:endCxn id="152" idx="2"/>
            </p:cNvCxnSpPr>
            <p:nvPr/>
          </p:nvCxnSpPr>
          <p:spPr>
            <a:xfrm flipV="1" rot="16200000">
              <a:off x="6104880" y="4961880"/>
              <a:ext cx="380160" cy="5652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6" name=""/>
            <p:cNvCxnSpPr>
              <a:stCxn id="140" idx="3"/>
              <a:endCxn id="147" idx="2"/>
            </p:cNvCxnSpPr>
            <p:nvPr/>
          </p:nvCxnSpPr>
          <p:spPr>
            <a:xfrm flipV="1" rot="16200000">
              <a:off x="7181280" y="4895280"/>
              <a:ext cx="380160" cy="18972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2" name=""/>
            <p:cNvSpPr/>
            <p:nvPr/>
          </p:nvSpPr>
          <p:spPr>
            <a:xfrm>
              <a:off x="56386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86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8000" y="4419720"/>
              <a:ext cx="838080" cy="38088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2"/>
              <a:endCxn id="149" idx="0"/>
            </p:cNvCxnSpPr>
            <p:nvPr/>
          </p:nvCxnSpPr>
          <p:spPr>
            <a:xfrm rot="5400000">
              <a:off x="5523480" y="4076280"/>
              <a:ext cx="381960" cy="305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8:15:11Z</dcterms:created>
  <dc:creator>3bob</dc:creator>
  <dc:description/>
  <dc:language>en-US</dc:language>
  <cp:lastModifiedBy>rpk</cp:lastModifiedBy>
  <cp:lastPrinted>1998-03-16T09:55:00Z</cp:lastPrinted>
  <dcterms:modified xsi:type="dcterms:W3CDTF">2000-06-12T18:53:38Z</dcterms:modified>
  <cp:revision>141</cp:revision>
  <dc:subject/>
  <dc:title>S99 Arial, Bld, YW8, 37 points, 105% line spacing</dc:title>
</cp:coreProperties>
</file>