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360" rIns="9036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360" rIns="90360" tIns="44280" bIns="442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2160" y="8839080"/>
            <a:ext cx="2971800" cy="45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360" rIns="9036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E1E-2D69-4C2C-BB4D-07A6E4EB7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basic stages introduced in section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BFD0-128D-48F7-9A87-D8023C249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B675-4D24-444F-93AE-DB1B48C6E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EE4A-BDD5-40C6-9632-E3B541E7E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05AF-4687-4346-9C0A-3205B0BB8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8CDB-1524-4CE9-862D-8DC53A3519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08E1-9D9D-4E70-98D3-89D04E237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3FF6-28F1-4F68-852F-13E2B00FD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D5DB-A0EF-4FA4-B82A-3E60707C3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2AE2-C31A-41A1-BF7F-96E1D4684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875A-5FDA-4576-80F7-B4E87EBEC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E9CC-04EB-4B19-92BC-48389B715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3276-20BA-4F96-9E0C-75E9296CA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D9C7-E759-45A6-9AFC-327860D96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oftware and System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omas J. Tru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: GTX-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creen space operations performed by one or more rendering engines within graphics subsystem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bject-space to screen-space transforms and lighting performed by host CPU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: GT-X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creen space operations performed by one or more rendering engines within graphics subsystem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ransforms and lighting performed by one or more geometry engines with graphics subsystem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4648320"/>
            <a:ext cx="9907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 Delicate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191120"/>
            <a:ext cx="6705720" cy="457200"/>
          </a:xfrm>
          <a:prstGeom prst="cube">
            <a:avLst>
              <a:gd name="adj" fmla="val 62962"/>
            </a:avLst>
          </a:prstGeom>
          <a:solidFill>
            <a:srgbClr val="030e9b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91680" y="2198160"/>
            <a:ext cx="2169000" cy="2134800"/>
            <a:chOff x="391680" y="2198160"/>
            <a:chExt cx="2169000" cy="2134800"/>
          </a:xfrm>
        </p:grpSpPr>
        <p:sp>
          <p:nvSpPr>
            <p:cNvPr id="218" name=""/>
            <p:cNvSpPr/>
            <p:nvPr/>
          </p:nvSpPr>
          <p:spPr>
            <a:xfrm rot="2700000">
              <a:off x="744480" y="2080800"/>
              <a:ext cx="98640" cy="1039320"/>
            </a:xfrm>
            <a:prstGeom prst="parallelogram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700000">
              <a:off x="520920" y="2787840"/>
              <a:ext cx="1979640" cy="99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31360" y="3073320"/>
              <a:ext cx="244800" cy="244800"/>
              <a:chOff x="531360" y="3073320"/>
              <a:chExt cx="244800" cy="244800"/>
            </a:xfrm>
          </p:grpSpPr>
          <p:sp>
            <p:nvSpPr>
              <p:cNvPr id="221" name=""/>
              <p:cNvSpPr/>
              <p:nvPr/>
            </p:nvSpPr>
            <p:spPr>
              <a:xfrm rot="2700000">
                <a:off x="529920" y="3146040"/>
                <a:ext cx="247320" cy="98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700000">
                <a:off x="559080" y="307620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700000">
                <a:off x="628920" y="31456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700000">
                <a:off x="699120" y="32158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76160" y="3318120"/>
              <a:ext cx="384840" cy="384480"/>
              <a:chOff x="776160" y="3318120"/>
              <a:chExt cx="384840" cy="384480"/>
            </a:xfrm>
          </p:grpSpPr>
          <p:sp>
            <p:nvSpPr>
              <p:cNvPr id="226" name=""/>
              <p:cNvSpPr/>
              <p:nvPr/>
            </p:nvSpPr>
            <p:spPr>
              <a:xfrm rot="2700000">
                <a:off x="745560" y="3461040"/>
                <a:ext cx="445320" cy="98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700000">
                <a:off x="803880" y="332100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700000">
                <a:off x="873720" y="339084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700000">
                <a:off x="943560" y="34606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700000">
                <a:off x="1013760" y="353052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700000">
                <a:off x="1083600" y="360072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161000" y="3702960"/>
              <a:ext cx="244800" cy="244800"/>
              <a:chOff x="1161000" y="3702960"/>
              <a:chExt cx="244800" cy="244800"/>
            </a:xfrm>
          </p:grpSpPr>
          <p:sp>
            <p:nvSpPr>
              <p:cNvPr id="233" name=""/>
              <p:cNvSpPr/>
              <p:nvPr/>
            </p:nvSpPr>
            <p:spPr>
              <a:xfrm rot="2700000">
                <a:off x="1159560" y="3775680"/>
                <a:ext cx="247320" cy="98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188720" y="370584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00000">
                <a:off x="1258560" y="37756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0000">
                <a:off x="1328760" y="38458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2700000">
              <a:off x="1058040" y="2423880"/>
              <a:ext cx="34596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700000">
              <a:off x="917640" y="2984400"/>
              <a:ext cx="34596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700000">
              <a:off x="1512720" y="3088800"/>
              <a:ext cx="34632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700000">
              <a:off x="1967760" y="3404160"/>
              <a:ext cx="34596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700000">
              <a:off x="1477440" y="3544200"/>
              <a:ext cx="34632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700000">
              <a:off x="1270800" y="2746080"/>
              <a:ext cx="445320" cy="19764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cubicBezTo>
                    <a:pt x="40" y="8"/>
                    <a:pt x="80" y="16"/>
                    <a:pt x="96" y="48"/>
                  </a:cubicBezTo>
                  <a:cubicBezTo>
                    <a:pt x="112" y="80"/>
                    <a:pt x="40" y="168"/>
                    <a:pt x="96" y="192"/>
                  </a:cubicBezTo>
                  <a:cubicBezTo>
                    <a:pt x="152" y="216"/>
                    <a:pt x="376" y="192"/>
                    <a:pt x="432" y="192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700000">
              <a:off x="1086480" y="2704320"/>
              <a:ext cx="148320" cy="24732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0" y="0"/>
                  </a:moveTo>
                  <a:cubicBezTo>
                    <a:pt x="8" y="36"/>
                    <a:pt x="16" y="72"/>
                    <a:pt x="48" y="96"/>
                  </a:cubicBezTo>
                  <a:cubicBezTo>
                    <a:pt x="80" y="120"/>
                    <a:pt x="168" y="120"/>
                    <a:pt x="192" y="144"/>
                  </a:cubicBezTo>
                  <a:cubicBezTo>
                    <a:pt x="216" y="168"/>
                    <a:pt x="192" y="224"/>
                    <a:pt x="192" y="240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700000">
              <a:off x="1282320" y="3138480"/>
              <a:ext cx="247320" cy="148320"/>
            </a:xfrm>
            <a:custGeom>
              <a:avLst/>
              <a:gdLst/>
              <a:ahLst/>
              <a:rect l="l" t="t" r="r" b="b"/>
              <a:pathLst>
                <a:path w="288" h="168">
                  <a:moveTo>
                    <a:pt x="0" y="144"/>
                  </a:moveTo>
                  <a:cubicBezTo>
                    <a:pt x="96" y="156"/>
                    <a:pt x="192" y="168"/>
                    <a:pt x="240" y="144"/>
                  </a:cubicBezTo>
                  <a:cubicBezTo>
                    <a:pt x="288" y="120"/>
                    <a:pt x="280" y="24"/>
                    <a:pt x="288" y="0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700000">
              <a:off x="1831680" y="3352680"/>
              <a:ext cx="198000" cy="720"/>
            </a:xfrm>
            <a:custGeom>
              <a:avLst/>
              <a:gdLst/>
              <a:ahLst/>
              <a:rect l="l" t="t" r="r" b="b"/>
              <a:pathLst>
                <a:path w="192" h="1">
                  <a:moveTo>
                    <a:pt x="0" y="0"/>
                  </a:moveTo>
                  <a:cubicBezTo>
                    <a:pt x="80" y="0"/>
                    <a:pt x="160" y="0"/>
                    <a:pt x="192" y="0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700000">
              <a:off x="1706400" y="3358800"/>
              <a:ext cx="98640" cy="198000"/>
            </a:xfrm>
            <a:custGeom>
              <a:avLst/>
              <a:gdLst/>
              <a:ahLst/>
              <a:rect l="l" t="t" r="r" b="b"/>
              <a:pathLst>
                <a:path w="144" h="224">
                  <a:moveTo>
                    <a:pt x="0" y="32"/>
                  </a:moveTo>
                  <a:cubicBezTo>
                    <a:pt x="36" y="16"/>
                    <a:pt x="72" y="0"/>
                    <a:pt x="96" y="32"/>
                  </a:cubicBezTo>
                  <a:cubicBezTo>
                    <a:pt x="120" y="64"/>
                    <a:pt x="136" y="192"/>
                    <a:pt x="144" y="224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700000">
              <a:off x="1829880" y="3498480"/>
              <a:ext cx="131760" cy="198000"/>
            </a:xfrm>
            <a:custGeom>
              <a:avLst/>
              <a:gdLst/>
              <a:ahLst/>
              <a:rect l="l" t="t" r="r" b="b"/>
              <a:pathLst>
                <a:path w="128" h="192">
                  <a:moveTo>
                    <a:pt x="16" y="192"/>
                  </a:moveTo>
                  <a:cubicBezTo>
                    <a:pt x="8" y="152"/>
                    <a:pt x="0" y="112"/>
                    <a:pt x="16" y="96"/>
                  </a:cubicBezTo>
                  <a:cubicBezTo>
                    <a:pt x="32" y="80"/>
                    <a:pt x="96" y="112"/>
                    <a:pt x="112" y="96"/>
                  </a:cubicBezTo>
                  <a:cubicBezTo>
                    <a:pt x="128" y="80"/>
                    <a:pt x="120" y="40"/>
                    <a:pt x="112" y="0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8" name="floppy1" descr=""/>
          <p:cNvPicPr/>
          <p:nvPr/>
        </p:nvPicPr>
        <p:blipFill>
          <a:blip r:embed="rId1"/>
          <a:stretch/>
        </p:blipFill>
        <p:spPr>
          <a:xfrm>
            <a:off x="6219720" y="2914560"/>
            <a:ext cx="1324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uning Proc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2440" y="2133720"/>
            <a:ext cx="7009200" cy="4190400"/>
            <a:chOff x="532440" y="2133720"/>
            <a:chExt cx="7009200" cy="4190400"/>
          </a:xfrm>
        </p:grpSpPr>
        <p:sp>
          <p:nvSpPr>
            <p:cNvPr id="251" name=""/>
            <p:cNvSpPr/>
            <p:nvPr/>
          </p:nvSpPr>
          <p:spPr>
            <a:xfrm>
              <a:off x="1295280" y="2133720"/>
              <a:ext cx="4343040" cy="7617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Quantif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95280" y="3276360"/>
              <a:ext cx="4419360" cy="7617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ystem Evalu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95280" y="4419360"/>
              <a:ext cx="4495320" cy="7617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Graphics 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5280" y="5562360"/>
              <a:ext cx="4495320" cy="7617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Bottleneck Elimin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6198200">
              <a:off x="456120" y="2285640"/>
              <a:ext cx="1066320" cy="914040"/>
            </a:xfrm>
            <a:custGeom>
              <a:avLst/>
              <a:gdLst>
                <a:gd name="textAreaLeft" fmla="*/ 360 w 1066320"/>
                <a:gd name="textAreaRight" fmla="*/ 1067040 w 10663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6198200">
              <a:off x="456120" y="3657240"/>
              <a:ext cx="1066320" cy="914040"/>
            </a:xfrm>
            <a:custGeom>
              <a:avLst/>
              <a:gdLst>
                <a:gd name="textAreaLeft" fmla="*/ 360 w 1066320"/>
                <a:gd name="textAreaRight" fmla="*/ 1067040 w 10663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rot="16198200">
              <a:off x="456120" y="5028840"/>
              <a:ext cx="1066320" cy="914040"/>
            </a:xfrm>
            <a:custGeom>
              <a:avLst/>
              <a:gdLst>
                <a:gd name="textAreaLeft" fmla="*/ 360 w 1066320"/>
                <a:gd name="textAreaRight" fmla="*/ 1067040 w 10663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5539200">
              <a:off x="4457880" y="3161160"/>
              <a:ext cx="3732120" cy="2285640"/>
            </a:xfrm>
            <a:custGeom>
              <a:avLst/>
              <a:gdLst>
                <a:gd name="textAreaLeft" fmla="*/ -360 w 3732120"/>
                <a:gd name="textAreaRight" fmla="*/ 3732120 w 3732120"/>
                <a:gd name="textAreaTop" fmla="*/ 0 h 2285640"/>
                <a:gd name="textAreaBottom" fmla="*/ 2285640 h 22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06" y="10258"/>
                  </a:moveTo>
                  <a:arcTo wR="-7514" hR="-7514" stAng="-10551833" swAng="-11005912"/>
                  <a:lnTo>
                    <a:pt x="1" y="10667"/>
                  </a:lnTo>
                  <a:arcTo wR="10800" hR="10800" stAng="-10757745" swAng="11005912"/>
                  <a:lnTo>
                    <a:pt x="24265" y="11774"/>
                  </a:lnTo>
                  <a:lnTo>
                    <a:pt x="19620" y="15792"/>
                  </a:lnTo>
                  <a:lnTo>
                    <a:pt x="15601" y="11147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antif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haracteriz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mitive Typ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mitive Cou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309760" cy="3176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2448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antif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387440" y="2224080"/>
          <a:ext cx="682632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2224080"/>
                    <a:ext cx="682632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ystem Evalu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hysical memor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k bandwidth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configur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etwork characteristic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deal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ep graphics pipeline ful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CPU utilization running application cod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graphics utiliz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 Boun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subsystem processes data slower than CPU can feed it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subsystem issues an interrupt which causes the CPU to stall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 processing within application stops until graphics subsystem can again accept dat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 Boun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Limit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ited by the rate at which vertices can be transformed and clipp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ll Limit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ited by the rate at which transformed vertices can be rasteriz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Pipe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80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PU Boun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at 100% utilization but can’t feed graphics fast enough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subsystem at less than 100% utiliz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ll CPU cycles consumed by data processing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1800720"/>
            <a:ext cx="685800" cy="33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4600" y="1905120"/>
            <a:ext cx="2438280" cy="1066680"/>
          </a:xfrm>
          <a:prstGeom prst="flowChartDecision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2074680"/>
            <a:ext cx="1371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move graphics API ca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133720" y="2438280"/>
            <a:ext cx="38088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52520" y="2438280"/>
            <a:ext cx="381240" cy="0"/>
          </a:xfrm>
          <a:prstGeom prst="line">
            <a:avLst/>
          </a:prstGeom>
          <a:ln w="2844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334120" y="1979640"/>
            <a:ext cx="1675800" cy="839160"/>
            <a:chOff x="5334120" y="1979640"/>
            <a:chExt cx="1675800" cy="839160"/>
          </a:xfrm>
        </p:grpSpPr>
        <p:sp>
          <p:nvSpPr>
            <p:cNvPr id="286" name=""/>
            <p:cNvSpPr/>
            <p:nvPr/>
          </p:nvSpPr>
          <p:spPr>
            <a:xfrm>
              <a:off x="5334120" y="1981080"/>
              <a:ext cx="1675800" cy="837720"/>
            </a:xfrm>
            <a:prstGeom prst="flowChartProcess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1979640"/>
              <a:ext cx="1675800" cy="81900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Graphics Performance Probl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248520" y="2819520"/>
            <a:ext cx="0" cy="3808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348880"/>
            <a:ext cx="1905120" cy="33228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phics bound: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4876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2044800"/>
            <a:ext cx="1600200" cy="85068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erformance Problem Not Graph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4876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5371560"/>
            <a:ext cx="1752840" cy="57564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phics bound: fill limi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8769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74800"/>
            <a:ext cx="1752480" cy="57564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phics bound: geometry limi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3200400"/>
            <a:ext cx="64008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581280"/>
            <a:ext cx="1828800" cy="1371600"/>
          </a:xfrm>
          <a:prstGeom prst="flowChartDecision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1080" y="3903480"/>
            <a:ext cx="1179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move rendering ca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3200400"/>
            <a:ext cx="0" cy="3808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4952880"/>
            <a:ext cx="0" cy="3812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4952880"/>
            <a:ext cx="0" cy="3812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4952880"/>
            <a:ext cx="0" cy="3812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48769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5371560"/>
            <a:ext cx="1523880" cy="57564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allen off fast p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3581280"/>
            <a:ext cx="1828800" cy="1371600"/>
          </a:xfrm>
          <a:prstGeom prst="flowChartDecision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46240" y="3827520"/>
            <a:ext cx="1177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hrink graphics win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3581280"/>
            <a:ext cx="1828800" cy="1371600"/>
          </a:xfrm>
          <a:prstGeom prst="flowChartDecision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3903480"/>
            <a:ext cx="1128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duce geometry l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3583080"/>
            <a:ext cx="1828800" cy="1369800"/>
          </a:xfrm>
          <a:prstGeom prst="flowChartDecision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3736080"/>
            <a:ext cx="11793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se system monitoring t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3200400"/>
            <a:ext cx="0" cy="3808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3200400"/>
            <a:ext cx="0" cy="3808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72400" y="3200400"/>
            <a:ext cx="0" cy="3808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22096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4724280"/>
            <a:ext cx="12952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b404"/>
                </a:solidFill>
                <a:latin typeface="Arial"/>
              </a:rPr>
              <a:t>Excessive or unexpected CPU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1828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6324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6248520"/>
            <a:ext cx="2438280" cy="33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d96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rame rate incre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6324480"/>
            <a:ext cx="15264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6248520"/>
            <a:ext cx="2743200" cy="33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d96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o change in frame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4952880"/>
            <a:ext cx="0" cy="3812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XR-D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(aka Dumb Frame Buffer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does everything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ypically CPU boun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remedy, buy a “real” graphics boar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X-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creen space operations performed by graphic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bject-space to screen-space transform on host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n easily become CPU boun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Roughly 100 single-precision floating point operations are required to transform, light, clip test, project and map an object-space vertex to screen-space.”  - K. Akeley &amp; T. Jermol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fast-path and slow-path issu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7543800" y="2057400"/>
            <a:ext cx="1219320" cy="1219320"/>
            <a:chOff x="7543800" y="2057400"/>
            <a:chExt cx="1219320" cy="1219320"/>
          </a:xfrm>
        </p:grpSpPr>
        <p:sp>
          <p:nvSpPr>
            <p:cNvPr id="329" name=""/>
            <p:cNvSpPr/>
            <p:nvPr/>
          </p:nvSpPr>
          <p:spPr>
            <a:xfrm>
              <a:off x="7543800" y="2057400"/>
              <a:ext cx="1219320" cy="1219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0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620120" y="2133720"/>
              <a:ext cx="106668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X-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Graphics Boun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per-pixel opera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depth complex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native-format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7543800" y="2057400"/>
            <a:ext cx="1219320" cy="1219320"/>
            <a:chOff x="7543800" y="2057400"/>
            <a:chExt cx="1219320" cy="1219320"/>
          </a:xfrm>
        </p:grpSpPr>
        <p:sp>
          <p:nvSpPr>
            <p:cNvPr id="334" name=""/>
            <p:cNvSpPr/>
            <p:nvPr/>
          </p:nvSpPr>
          <p:spPr>
            <a:xfrm>
              <a:off x="7543800" y="2057400"/>
              <a:ext cx="1219320" cy="1219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620120" y="2133720"/>
              <a:ext cx="106668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X-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CPU Boun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scene complex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more efficient graphics algorith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-X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ransformations, lighting and rasterization performed by graphic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n be CPU or graphics bound.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fast-path and slow-path issu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ubject to host bandwidth limitation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7543800" y="1981080"/>
            <a:ext cx="1219320" cy="1219320"/>
            <a:chOff x="7543800" y="1981080"/>
            <a:chExt cx="1219320" cy="1219320"/>
          </a:xfrm>
        </p:grpSpPr>
        <p:sp>
          <p:nvSpPr>
            <p:cNvPr id="341" name=""/>
            <p:cNvSpPr/>
            <p:nvPr/>
          </p:nvSpPr>
          <p:spPr>
            <a:xfrm>
              <a:off x="7543800" y="1981080"/>
              <a:ext cx="1219320" cy="1219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2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620120" y="2057400"/>
              <a:ext cx="106668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-X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Graphics Boun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ve lighting back to CPU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native data formats within applic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display lists or vertex arr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less expensive lighting mod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7620120" y="1981080"/>
            <a:ext cx="1218960" cy="1219320"/>
            <a:chOff x="7620120" y="1981080"/>
            <a:chExt cx="1218960" cy="1219320"/>
          </a:xfrm>
        </p:grpSpPr>
        <p:sp>
          <p:nvSpPr>
            <p:cNvPr id="346" name=""/>
            <p:cNvSpPr/>
            <p:nvPr/>
          </p:nvSpPr>
          <p:spPr>
            <a:xfrm>
              <a:off x="7620120" y="1981080"/>
              <a:ext cx="1218960" cy="1219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7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696080" y="2057400"/>
              <a:ext cx="106632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-X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CPU Boun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ve lighting from CPU to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 matrix operations in graphics hardwa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ile in search of computational performance issu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7467480" y="1981080"/>
            <a:ext cx="1219320" cy="1219320"/>
            <a:chOff x="7467480" y="1981080"/>
            <a:chExt cx="1219320" cy="1219320"/>
          </a:xfrm>
        </p:grpSpPr>
        <p:sp>
          <p:nvSpPr>
            <p:cNvPr id="351" name=""/>
            <p:cNvSpPr/>
            <p:nvPr/>
          </p:nvSpPr>
          <p:spPr>
            <a:xfrm>
              <a:off x="7467480" y="1981080"/>
              <a:ext cx="1219320" cy="1219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2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543800" y="2057400"/>
              <a:ext cx="106668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ing, crucial to effective tun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l always exist, tune to bal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lways a bad th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93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94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38098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109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Disable unnecessary rendering features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I Function Call Overhea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57200" y="2209680"/>
            <a:ext cx="8381880" cy="3527280"/>
            <a:chOff x="457200" y="2209680"/>
            <a:chExt cx="8381880" cy="3527280"/>
          </a:xfrm>
        </p:grpSpPr>
        <p:sp>
          <p:nvSpPr>
            <p:cNvPr id="372" name=""/>
            <p:cNvSpPr/>
            <p:nvPr/>
          </p:nvSpPr>
          <p:spPr>
            <a:xfrm>
              <a:off x="2971800" y="2209680"/>
              <a:ext cx="58672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dependent Triang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YZW + RGBA + XYZ + STR) * 9  vertices: </a:t>
              </a:r>
              <a:r>
                <a:rPr b="0" lang="en-US" sz="1600" spc="-1" strike="noStrike">
                  <a:solidFill>
                    <a:srgbClr val="fce15a"/>
                  </a:solidFill>
                  <a:latin typeface="Arial"/>
                </a:rPr>
                <a:t>36 function cal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71800" y="3124080"/>
              <a:ext cx="586728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riangle Stri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YZW + RGBA + XYZ + STR) * 5  vertices: </a:t>
              </a:r>
              <a:r>
                <a:rPr b="0" lang="en-US" sz="1600" spc="-1" strike="noStrike">
                  <a:solidFill>
                    <a:srgbClr val="fce15a"/>
                  </a:solidFill>
                  <a:latin typeface="Arial"/>
                </a:rPr>
                <a:t>20 function cal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8120" y="4038480"/>
              <a:ext cx="2819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ertex Arr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e15a"/>
                  </a:solidFill>
                  <a:latin typeface="Arial"/>
                </a:rPr>
                <a:t>5 function cal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57200" y="2286000"/>
              <a:ext cx="2286000" cy="566640"/>
              <a:chOff x="457200" y="2286000"/>
              <a:chExt cx="2286000" cy="566640"/>
            </a:xfrm>
          </p:grpSpPr>
          <p:sp>
            <p:nvSpPr>
              <p:cNvPr id="376" name=""/>
              <p:cNvSpPr/>
              <p:nvPr/>
            </p:nvSpPr>
            <p:spPr>
              <a:xfrm>
                <a:off x="457200" y="2286000"/>
                <a:ext cx="743040" cy="566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14360" y="2286000"/>
                <a:ext cx="1428840" cy="566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0800000">
                <a:off x="913680" y="2286000"/>
                <a:ext cx="1028520" cy="566640"/>
              </a:xfrm>
              <a:prstGeom prst="triangle">
                <a:avLst>
                  <a:gd name="adj" fmla="val 67593"/>
                </a:avLst>
              </a:prstGeom>
              <a:solidFill>
                <a:srgbClr val="99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57200" y="3200400"/>
              <a:ext cx="2330280" cy="566640"/>
              <a:chOff x="457200" y="3200400"/>
              <a:chExt cx="2330280" cy="566640"/>
            </a:xfrm>
          </p:grpSpPr>
          <p:sp>
            <p:nvSpPr>
              <p:cNvPr id="380" name=""/>
              <p:cNvSpPr/>
              <p:nvPr/>
            </p:nvSpPr>
            <p:spPr>
              <a:xfrm>
                <a:off x="457200" y="3200400"/>
                <a:ext cx="785520" cy="566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42720" y="3200400"/>
                <a:ext cx="1544760" cy="566640"/>
              </a:xfrm>
              <a:prstGeom prst="triangle">
                <a:avLst>
                  <a:gd name="adj" fmla="val 48764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0800000">
                <a:off x="842040" y="3200400"/>
                <a:ext cx="1144080" cy="566640"/>
              </a:xfrm>
              <a:prstGeom prst="triangle">
                <a:avLst>
                  <a:gd name="adj" fmla="val 64894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57200" y="4114800"/>
              <a:ext cx="2330280" cy="566640"/>
              <a:chOff x="457200" y="4114800"/>
              <a:chExt cx="2330280" cy="566640"/>
            </a:xfrm>
          </p:grpSpPr>
          <p:sp>
            <p:nvSpPr>
              <p:cNvPr id="384" name=""/>
              <p:cNvSpPr/>
              <p:nvPr/>
            </p:nvSpPr>
            <p:spPr>
              <a:xfrm>
                <a:off x="457200" y="4114800"/>
                <a:ext cx="785520" cy="566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42720" y="4114800"/>
                <a:ext cx="1544760" cy="566640"/>
              </a:xfrm>
              <a:prstGeom prst="triangle">
                <a:avLst>
                  <a:gd name="adj" fmla="val 48764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0800000">
                <a:off x="841680" y="4114800"/>
                <a:ext cx="1144440" cy="566640"/>
              </a:xfrm>
              <a:prstGeom prst="triangle">
                <a:avLst>
                  <a:gd name="adj" fmla="val 64894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3048120" y="5029200"/>
              <a:ext cx="2819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isplay Li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ce15a"/>
                  </a:solidFill>
                  <a:latin typeface="Arial"/>
                </a:rPr>
                <a:t>1 function ca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33520" y="5104800"/>
              <a:ext cx="2330280" cy="567360"/>
              <a:chOff x="533520" y="5104800"/>
              <a:chExt cx="2330280" cy="567360"/>
            </a:xfrm>
          </p:grpSpPr>
          <p:sp>
            <p:nvSpPr>
              <p:cNvPr id="389" name=""/>
              <p:cNvSpPr/>
              <p:nvPr/>
            </p:nvSpPr>
            <p:spPr>
              <a:xfrm>
                <a:off x="533520" y="5105160"/>
                <a:ext cx="785520" cy="56700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19040" y="5105160"/>
                <a:ext cx="1544760" cy="567000"/>
              </a:xfrm>
              <a:prstGeom prst="triangle">
                <a:avLst>
                  <a:gd name="adj" fmla="val 48764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0800000">
                <a:off x="918000" y="5104800"/>
                <a:ext cx="1144440" cy="567000"/>
              </a:xfrm>
              <a:prstGeom prst="triangle">
                <a:avLst>
                  <a:gd name="adj" fmla="val 64894"/>
                </a:avLst>
              </a:prstGeom>
              <a:solidFill>
                <a:srgbClr val="99cc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20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aw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ble x1 = -0.5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ble x2 =  0.5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ble y1 = -0.5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ble y2 =  0.5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Clear (GL_COLOR_BUFFER_BIT | GL_DEPTH_BUFFER_BIT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Begin(GL_QUADS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Vertex2f(x1, y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Vertex2f(x1, y2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Vertex2f(x2, y2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Vertex2f(x2, y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End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XSwapBuffers(dpy, win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57320" y="1981080"/>
            <a:ext cx="42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3:       glVertex2f(x1, y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ld         qword ptr [ebp-18h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st         dword ptr [ebp-24h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v         esi,es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sh        ec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stp        dword ptr [esp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ld         qword ptr [ebp-8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st         dword ptr [ebp-28h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sh        ec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stp        dword ptr [esp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l        dword ptr [__imp__glVertex2f@8 (0042b478)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4:       glVertex2f(x1, y2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ld         qword ptr [ebp-20h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st         dword ptr [ebp-2Ch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v         esi,es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sh        ec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stp        dword ptr [esp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ld         qword ptr [ebp-8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st         dword ptr [ebp-30h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sh        ec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fstp        dword ptr [esp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word ptr [__imp__glVertex2f@8 (0042b478)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c0c0c0"/>
          </a:solidFill>
          <a:ln w="9360">
            <a:solidFill>
              <a:srgbClr val="979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123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8098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5562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138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Memory</a:t>
            </a: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Don’t allocate memory in rendering loop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copying and repackaging of graphics dat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rganize graphics data to maximize bandwidth and avoid fragment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allocate memory in rendering loop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Avoid copying and repackaging of graphics dat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793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rganize graphics data to maximize bandwidth and avoid fragment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allocate memory in rendering loop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copying and repackaging of graphics dat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Organize graphics data to maximize bandwidth and avoid fragment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ndwidth and Frag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57200" y="2532240"/>
            <a:ext cx="2286000" cy="566640"/>
            <a:chOff x="457200" y="2532240"/>
            <a:chExt cx="2286000" cy="566640"/>
          </a:xfrm>
        </p:grpSpPr>
        <p:sp>
          <p:nvSpPr>
            <p:cNvPr id="409" name=""/>
            <p:cNvSpPr/>
            <p:nvPr/>
          </p:nvSpPr>
          <p:spPr>
            <a:xfrm>
              <a:off x="457200" y="2532240"/>
              <a:ext cx="743040" cy="566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14360" y="2532240"/>
              <a:ext cx="1428840" cy="566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0800000">
              <a:off x="913680" y="2532240"/>
              <a:ext cx="1028520" cy="566640"/>
            </a:xfrm>
            <a:prstGeom prst="triangle">
              <a:avLst>
                <a:gd name="adj" fmla="val 67593"/>
              </a:avLst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80880" y="3751200"/>
            <a:ext cx="2330280" cy="566640"/>
            <a:chOff x="380880" y="3751200"/>
            <a:chExt cx="2330280" cy="566640"/>
          </a:xfrm>
        </p:grpSpPr>
        <p:sp>
          <p:nvSpPr>
            <p:cNvPr id="413" name=""/>
            <p:cNvSpPr/>
            <p:nvPr/>
          </p:nvSpPr>
          <p:spPr>
            <a:xfrm>
              <a:off x="380880" y="3751200"/>
              <a:ext cx="785520" cy="566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66400" y="3751200"/>
              <a:ext cx="1544760" cy="566640"/>
            </a:xfrm>
            <a:prstGeom prst="triangle">
              <a:avLst>
                <a:gd name="adj" fmla="val 48764"/>
              </a:avLst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0800000">
              <a:off x="766080" y="3751200"/>
              <a:ext cx="1144080" cy="566640"/>
            </a:xfrm>
            <a:prstGeom prst="triangle">
              <a:avLst>
                <a:gd name="adj" fmla="val 64894"/>
              </a:avLst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57200" y="4970520"/>
            <a:ext cx="2330280" cy="566640"/>
            <a:chOff x="457200" y="4970520"/>
            <a:chExt cx="2330280" cy="566640"/>
          </a:xfrm>
        </p:grpSpPr>
        <p:sp>
          <p:nvSpPr>
            <p:cNvPr id="417" name=""/>
            <p:cNvSpPr/>
            <p:nvPr/>
          </p:nvSpPr>
          <p:spPr>
            <a:xfrm>
              <a:off x="457200" y="4970520"/>
              <a:ext cx="785520" cy="566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42720" y="4970520"/>
              <a:ext cx="1544760" cy="566640"/>
            </a:xfrm>
            <a:prstGeom prst="triangle">
              <a:avLst>
                <a:gd name="adj" fmla="val 48764"/>
              </a:avLst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841680" y="4970520"/>
              <a:ext cx="1144440" cy="566640"/>
            </a:xfrm>
            <a:prstGeom prst="triangle">
              <a:avLst>
                <a:gd name="adj" fmla="val 64894"/>
              </a:avLst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200400" y="253224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pendent Tria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 vertices: </a:t>
            </a:r>
            <a:r>
              <a:rPr b="0" lang="en-US" sz="1600" spc="-1" strike="noStrike">
                <a:solidFill>
                  <a:srgbClr val="fce15a"/>
                </a:solidFill>
                <a:latin typeface="Arial"/>
              </a:rPr>
              <a:t>504 by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76720" y="3751200"/>
            <a:ext cx="2133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iangle Str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vertices: </a:t>
            </a:r>
            <a:r>
              <a:rPr b="0" lang="en-US" sz="1600" spc="-1" strike="noStrike">
                <a:solidFill>
                  <a:srgbClr val="fce15a"/>
                </a:solidFill>
                <a:latin typeface="Arial"/>
              </a:rPr>
              <a:t>280 by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76720" y="4818240"/>
            <a:ext cx="2133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tex Arr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vertices: </a:t>
            </a:r>
            <a:r>
              <a:rPr b="0" lang="en-US" sz="1600" spc="-1" strike="noStrike">
                <a:solidFill>
                  <a:srgbClr val="fce15a"/>
                </a:solidFill>
                <a:latin typeface="Arial"/>
              </a:rPr>
              <a:t>280 by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6037200"/>
            <a:ext cx="4876560" cy="363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ex = RGBA+XYZW+XYZ+STR = 56 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477120" y="2209680"/>
            <a:ext cx="1981080" cy="1000080"/>
            <a:chOff x="6477120" y="2209680"/>
            <a:chExt cx="1981080" cy="1000080"/>
          </a:xfrm>
        </p:grpSpPr>
        <p:sp>
          <p:nvSpPr>
            <p:cNvPr id="425" name=""/>
            <p:cNvSpPr/>
            <p:nvPr/>
          </p:nvSpPr>
          <p:spPr>
            <a:xfrm>
              <a:off x="6477120" y="2209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00600" y="2209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2334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00600" y="2334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24440" y="2209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48280" y="2209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24440" y="2334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48280" y="2334600"/>
              <a:ext cx="12384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7120" y="2459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00600" y="2459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7120" y="2584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00600" y="2584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24440" y="2459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48280" y="2459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24440" y="2584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48280" y="2584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2120" y="2209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5960" y="2209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2120" y="2334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5960" y="2334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19800" y="2209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43640" y="2209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19800" y="2334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43640" y="2334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72120" y="2459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95960" y="2459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72120" y="2584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95960" y="2584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19800" y="2459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3640" y="2459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19800" y="2584440"/>
              <a:ext cx="12348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3640" y="2584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67480" y="2209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91320" y="2209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67480" y="2334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91320" y="2334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15160" y="2209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39000" y="2209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15160" y="2334600"/>
              <a:ext cx="12348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39000" y="2334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67480" y="2459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91320" y="2459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584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91320" y="2584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15160" y="2459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39000" y="2459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15160" y="2584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839000" y="2584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62840" y="2209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86680" y="2209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62840" y="2334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86680" y="2334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10520" y="22096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34360" y="22096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10520" y="2334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34360" y="2334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62840" y="2459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86680" y="2459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62840" y="2584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86680" y="2584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10520" y="2459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34360" y="2459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210520" y="2584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34360" y="2584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77120" y="2709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00600" y="2709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2834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00600" y="2834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24440" y="2709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48280" y="2709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440" y="2834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48280" y="2834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7120" y="2959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00600" y="2959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77120" y="3084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00600" y="3084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24440" y="2959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48280" y="2959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24440" y="3084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48280" y="3084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72120" y="2709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95960" y="2709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72120" y="2834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95960" y="2834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19800" y="2709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43640" y="2709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19800" y="2834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43640" y="2834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120" y="2959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95960" y="2959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72120" y="3084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95960" y="3084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19800" y="2959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43640" y="2959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19800" y="3084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43640" y="3084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67480" y="2709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91320" y="2709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67480" y="2834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91320" y="2834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15160" y="2709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39000" y="2709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15160" y="2834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39000" y="2834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67480" y="2959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91320" y="2959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7480" y="3084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91320" y="3084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15160" y="2959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39000" y="2959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15160" y="3084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39000" y="3084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62840" y="2709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86680" y="2709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62840" y="2834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086680" y="2834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10520" y="27097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34360" y="27097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10520" y="2834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34360" y="2834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62840" y="2959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86680" y="2959560"/>
              <a:ext cx="12384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62840" y="3084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86680" y="3084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10520" y="2959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34360" y="2959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10520" y="30848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34360" y="30848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77120" y="2209680"/>
              <a:ext cx="1981080" cy="1000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477120" y="3522600"/>
            <a:ext cx="1981080" cy="1000080"/>
            <a:chOff x="6477120" y="3522600"/>
            <a:chExt cx="1981080" cy="1000080"/>
          </a:xfrm>
        </p:grpSpPr>
        <p:sp>
          <p:nvSpPr>
            <p:cNvPr id="555" name=""/>
            <p:cNvSpPr/>
            <p:nvPr/>
          </p:nvSpPr>
          <p:spPr>
            <a:xfrm>
              <a:off x="6477120" y="3522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00600" y="3522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77120" y="3647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00600" y="3647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24440" y="3522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48280" y="3522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24440" y="3647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48280" y="3647520"/>
              <a:ext cx="12384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77120" y="3772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00600" y="3772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77120" y="38973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00600" y="38973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24440" y="3772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48280" y="3772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4440" y="38973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48280" y="38973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72120" y="3522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95960" y="3522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72120" y="3647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95960" y="3647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19800" y="3522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43640" y="3522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19800" y="3647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43640" y="3647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72120" y="3772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5960" y="3772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72120" y="38973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95960" y="38973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19800" y="3772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43640" y="3772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9800" y="3897360"/>
              <a:ext cx="12348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43640" y="38973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67480" y="3522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91320" y="3522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67480" y="3647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91320" y="3647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715160" y="3522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39000" y="3522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15160" y="3647520"/>
              <a:ext cx="12348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39000" y="3647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67480" y="3772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91320" y="3772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67480" y="38973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1320" y="38973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15160" y="3772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839000" y="3772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5160" y="38973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39000" y="38973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62840" y="3522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086680" y="3522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62840" y="3647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86680" y="3647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210520" y="352260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34360" y="352260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10520" y="364752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4360" y="364752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62840" y="3772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6680" y="3772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62840" y="38973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86680" y="38973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10520" y="37724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334360" y="37724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10520" y="38973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34360" y="38973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4022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00600" y="4022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77120" y="4147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00600" y="4147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24440" y="4022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48280" y="4022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24440" y="4147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48280" y="4147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77120" y="42724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00600" y="42724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77120" y="4397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00600" y="4397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24440" y="42724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48280" y="42724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24440" y="4397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48280" y="4397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2120" y="4022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95960" y="4022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72120" y="4147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95960" y="4147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19800" y="4022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43640" y="4022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19800" y="4147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43640" y="4147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72120" y="42724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95960" y="42724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72120" y="4397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95960" y="4397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19800" y="42724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43640" y="42724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19800" y="4397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43640" y="4397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67480" y="4022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91320" y="4022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67480" y="4147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91320" y="4147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715160" y="4022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39000" y="4022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15160" y="4147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39000" y="4147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67480" y="42724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91320" y="42724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67480" y="4397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91320" y="4397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15160" y="42724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39000" y="42724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15160" y="4397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39000" y="4397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62840" y="4022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86680" y="4022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62840" y="4147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86680" y="4147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10520" y="402264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34360" y="402264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210520" y="41475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34360" y="41475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62840" y="42724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86680" y="4272480"/>
              <a:ext cx="123840" cy="1249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962840" y="4397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86680" y="4397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427248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4360" y="427248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10520" y="4397760"/>
              <a:ext cx="12348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34360" y="4397760"/>
              <a:ext cx="123840" cy="1249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7120" y="3522600"/>
              <a:ext cx="1981080" cy="1000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477120" y="4665600"/>
            <a:ext cx="1981080" cy="1000080"/>
            <a:chOff x="6477120" y="4665600"/>
            <a:chExt cx="1981080" cy="1000080"/>
          </a:xfrm>
        </p:grpSpPr>
        <p:sp>
          <p:nvSpPr>
            <p:cNvPr id="685" name=""/>
            <p:cNvSpPr/>
            <p:nvPr/>
          </p:nvSpPr>
          <p:spPr>
            <a:xfrm>
              <a:off x="647712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0096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47712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0096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2480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4864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2480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4864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7712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60096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47712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60096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2480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4864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2480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4864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72480" y="4665600"/>
              <a:ext cx="12348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9596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72480" y="4790880"/>
              <a:ext cx="12348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09596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21980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34364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1980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4364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72480" y="4916160"/>
              <a:ext cx="12348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9596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72480" y="5040000"/>
              <a:ext cx="12348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9596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1980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4364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1980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4364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6748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9132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46748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9132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1516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3900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1516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83900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6748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9132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6748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9132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1516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3900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1516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83900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6284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8668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6284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8668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1052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34360" y="466560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21052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34360" y="479088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6284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8668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6284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08668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34360" y="491616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21052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334360" y="504000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77120" y="51656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00960" y="51656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7712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0096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24800" y="51656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48640" y="5165640"/>
              <a:ext cx="123840" cy="1252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2480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4864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7712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60096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7712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96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2480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84864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2480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4864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972480" y="5165640"/>
              <a:ext cx="123480" cy="1252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95960" y="5165640"/>
              <a:ext cx="123840" cy="1252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972480" y="5290920"/>
              <a:ext cx="12348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9596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19800" y="5165640"/>
              <a:ext cx="123840" cy="1252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3640" y="51656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21980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4364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972480" y="5416200"/>
              <a:ext cx="12348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9596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972480" y="5540040"/>
              <a:ext cx="12348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9596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1980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4364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1980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4364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67480" y="51656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91320" y="51656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6748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9132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15160" y="51656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39000" y="5165640"/>
              <a:ext cx="123840" cy="125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3900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6748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9132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46748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9132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1516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83900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516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3900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62840" y="51656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86680" y="51656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96284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8668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10520" y="51656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34360" y="516564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1052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34360" y="5290920"/>
              <a:ext cx="123840" cy="1252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6284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08668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6284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8668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1052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34360" y="5416200"/>
              <a:ext cx="123840" cy="1238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1052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34360" y="5540040"/>
              <a:ext cx="123840" cy="12564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77120" y="4665600"/>
              <a:ext cx="1981080" cy="1000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5257800" y="4572000"/>
            <a:ext cx="1600200" cy="1447920"/>
          </a:xfrm>
          <a:prstGeom prst="rect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295280" y="4572000"/>
            <a:ext cx="1600200" cy="1447920"/>
          </a:xfrm>
          <a:prstGeom prst="rect">
            <a:avLst/>
          </a:prstGeom>
          <a:solidFill>
            <a:srgbClr val="080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76720" y="2743200"/>
            <a:ext cx="160020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lementation a Team Effor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76720" y="5257800"/>
            <a:ext cx="1676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29200" y="3352680"/>
            <a:ext cx="990720" cy="10670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133360" y="3429000"/>
            <a:ext cx="990360" cy="990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533160" y="2779560"/>
            <a:ext cx="6310440" cy="3773520"/>
            <a:chOff x="533160" y="2779560"/>
            <a:chExt cx="6310440" cy="3773520"/>
          </a:xfrm>
        </p:grpSpPr>
        <p:sp>
          <p:nvSpPr>
            <p:cNvPr id="824" name=""/>
            <p:cNvSpPr/>
            <p:nvPr/>
          </p:nvSpPr>
          <p:spPr>
            <a:xfrm>
              <a:off x="1219680" y="2779560"/>
              <a:ext cx="3910680" cy="6861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Quantif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19680" y="3808440"/>
              <a:ext cx="3979080" cy="6861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ystem Evalu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19680" y="4837680"/>
              <a:ext cx="4047480" cy="6861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Graphics 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219680" y="5866920"/>
              <a:ext cx="4047480" cy="6861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Bottleneck Elimin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rot="16198200">
              <a:off x="464400" y="2916720"/>
              <a:ext cx="960120" cy="822960"/>
            </a:xfrm>
            <a:custGeom>
              <a:avLst/>
              <a:gdLst>
                <a:gd name="textAreaLeft" fmla="*/ -360 w 960120"/>
                <a:gd name="textAreaRight" fmla="*/ 960120 w 96012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rot="16198200">
              <a:off x="464400" y="4151880"/>
              <a:ext cx="960120" cy="822960"/>
            </a:xfrm>
            <a:custGeom>
              <a:avLst/>
              <a:gdLst>
                <a:gd name="textAreaLeft" fmla="*/ -360 w 960120"/>
                <a:gd name="textAreaRight" fmla="*/ 960120 w 96012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rot="16198200">
              <a:off x="464400" y="5386680"/>
              <a:ext cx="960120" cy="822960"/>
            </a:xfrm>
            <a:custGeom>
              <a:avLst/>
              <a:gdLst>
                <a:gd name="textAreaLeft" fmla="*/ -360 w 960120"/>
                <a:gd name="textAreaRight" fmla="*/ 960120 w 96012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rot="5539200">
              <a:off x="4067280" y="3704760"/>
              <a:ext cx="3360240" cy="2058120"/>
            </a:xfrm>
            <a:custGeom>
              <a:avLst/>
              <a:gdLst>
                <a:gd name="textAreaLeft" fmla="*/ 360 w 3360240"/>
                <a:gd name="textAreaRight" fmla="*/ 3360960 w 3360240"/>
                <a:gd name="textAreaTop" fmla="*/ 0 h 2058120"/>
                <a:gd name="textAreaBottom" fmla="*/ 2058480 h 20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06" y="10258"/>
                  </a:moveTo>
                  <a:arcTo wR="-7514" hR="-7514" stAng="-10551833" swAng="-11005912"/>
                  <a:lnTo>
                    <a:pt x="1" y="10667"/>
                  </a:lnTo>
                  <a:arcTo wR="10800" hR="10800" stAng="-10757745" swAng="11005912"/>
                  <a:lnTo>
                    <a:pt x="24265" y="11774"/>
                  </a:lnTo>
                  <a:lnTo>
                    <a:pt x="19620" y="15792"/>
                  </a:lnTo>
                  <a:lnTo>
                    <a:pt x="15601" y="11147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uning a Four Step Proces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2590920" y="2514600"/>
            <a:ext cx="4114800" cy="4114800"/>
            <a:chOff x="2590920" y="2514600"/>
            <a:chExt cx="4114800" cy="4114800"/>
          </a:xfrm>
        </p:grpSpPr>
        <p:sp>
          <p:nvSpPr>
            <p:cNvPr id="834" name=""/>
            <p:cNvSpPr/>
            <p:nvPr/>
          </p:nvSpPr>
          <p:spPr>
            <a:xfrm>
              <a:off x="2590920" y="2514600"/>
              <a:ext cx="4114800" cy="4114800"/>
            </a:xfrm>
            <a:prstGeom prst="ellips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6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35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2666880" y="2590920"/>
              <a:ext cx="3962520" cy="39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t’s all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exture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151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152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38098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5562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167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adback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c0c0c0"/>
          </a:solidFill>
          <a:ln w="9360">
            <a:solidFill>
              <a:srgbClr val="979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181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7391160" y="38098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1371600" y="556236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196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0e9b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Rasterize primitiv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315200" y="1971720"/>
            <a:ext cx="692280" cy="2828520"/>
            <a:chOff x="7315200" y="1971720"/>
            <a:chExt cx="692280" cy="2828520"/>
          </a:xfrm>
        </p:grpSpPr>
        <p:pic>
          <p:nvPicPr>
            <p:cNvPr id="201" name="D" descr=""/>
            <p:cNvPicPr/>
            <p:nvPr/>
          </p:nvPicPr>
          <p:blipFill>
            <a:blip r:embed="rId1"/>
            <a:stretch/>
          </p:blipFill>
          <p:spPr>
            <a:xfrm>
              <a:off x="7315200" y="427500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G" descr=""/>
            <p:cNvPicPr/>
            <p:nvPr/>
          </p:nvPicPr>
          <p:blipFill>
            <a:blip r:embed="rId2"/>
            <a:stretch/>
          </p:blipFill>
          <p:spPr>
            <a:xfrm>
              <a:off x="7315200" y="197172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R" descr=""/>
            <p:cNvPicPr/>
            <p:nvPr/>
          </p:nvPicPr>
          <p:blipFill>
            <a:blip r:embed="rId3"/>
            <a:stretch/>
          </p:blipFill>
          <p:spPr>
            <a:xfrm>
              <a:off x="7315200" y="36990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" descr=""/>
            <p:cNvPicPr/>
            <p:nvPr/>
          </p:nvPicPr>
          <p:blipFill>
            <a:blip r:embed="rId4"/>
            <a:stretch/>
          </p:blipFill>
          <p:spPr>
            <a:xfrm>
              <a:off x="7315200" y="254736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X" descr=""/>
            <p:cNvPicPr/>
            <p:nvPr/>
          </p:nvPicPr>
          <p:blipFill>
            <a:blip r:embed="rId5"/>
            <a:stretch/>
          </p:blipFill>
          <p:spPr>
            <a:xfrm>
              <a:off x="7315200" y="312336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 Basic Typ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-TXRD (all hardware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T-XR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TX-R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TXR-D (all software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: GTXR-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Does Everyth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23:01:36Z</dcterms:created>
  <dc:creator>true</dc:creator>
  <dc:description/>
  <dc:language>en-US</dc:language>
  <cp:lastModifiedBy>true</cp:lastModifiedBy>
  <cp:lastPrinted>1999-08-04T01:18:19Z</cp:lastPrinted>
  <dcterms:modified xsi:type="dcterms:W3CDTF">2000-07-20T16:19:39Z</dcterms:modified>
  <cp:revision>183</cp:revision>
  <dc:subject/>
  <dc:title>No Slide Title</dc:title>
</cp:coreProperties>
</file>