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96216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37720" y="685440"/>
            <a:ext cx="5257800" cy="350532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96216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24F7-0E93-401F-B52C-ED4B45426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87400" y="700200"/>
            <a:ext cx="5175360" cy="3449520"/>
          </a:xfrm>
          <a:prstGeom prst="rect">
            <a:avLst/>
          </a:prstGeom>
          <a:ln w="0">
            <a:noFill/>
          </a:ln>
        </p:spPr>
      </p:sp>
      <p:sp>
        <p:nvSpPr>
          <p:cNvPr id="153" name="PlaceHolder 2"/>
          <p:cNvSpPr>
            <a:spLocks noGrp="1"/>
          </p:cNvSpPr>
          <p:nvPr>
            <p:ph type="body"/>
          </p:nvPr>
        </p:nvSpPr>
        <p:spPr>
          <a:xfrm>
            <a:off x="926640" y="4387320"/>
            <a:ext cx="5095800" cy="415476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4E814-368F-4426-B80B-F8C71929E4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26CD46AB-B044-432B-97B1-CBD7309606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912174C2-BF7B-419D-ADB5-FDD1E801E5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74130BE9-EC51-47AA-8622-BCDD294235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AF9BBB8-B8A9-4718-A443-4150ED6451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375308AB-738D-428A-947B-AC0E1B114F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06B30BDA-2369-4BEB-A9FB-ED6470C6D9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0D369AE7-C11A-4633-9622-7D3382DD9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94275592-5BF9-4B3A-B943-060F8469A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7849D2D3-24C6-479F-910A-0E8C7E1703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9DCDE278-3747-4C09-820B-B2C22A527A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02E98B78-6BEC-4896-BA38-383636ACBE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7DFD-6B7F-4F4A-A79A-8286EA1829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14T16:04:28Z</dcterms:created>
  <dc:creator>Gary Clark</dc:creator>
  <dc:description/>
  <dc:language>en-US</dc:language>
  <cp:lastModifiedBy>Keith Cok</cp:lastModifiedBy>
  <cp:lastPrinted>1999-07-15T04:11:42Z</cp:lastPrinted>
  <dcterms:modified xsi:type="dcterms:W3CDTF">2000-07-20T17:12:40Z</dcterms:modified>
  <cp:revision>53</cp:revision>
  <dc:subject/>
  <dc:title>S95 Arial, Bld, YW8, 37 points, 105% line spacing</dc:title>
</cp:coreProperties>
</file>