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B567-5193-47D9-BDDA-BA76880D7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BCCD-958F-4D9E-B515-C691C2FFC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39FA-1D0A-4BBA-9F11-8FE6665E8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157A-5B88-45A5-B10D-F4458F0D4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7A47-4ECC-407E-86E2-DA06023B0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1F4A-6D92-4C41-9535-F4F6511B2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F3F6-C7A6-4A91-AA4D-B1125A2B1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882B-3AA4-4E63-8A8C-1D7D6DCF4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76BB-D135-4EF8-A913-61D4DCF70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6610-C2E1-410E-BD79-AEC93CA23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CD07-3C65-4AE9-9557-CFF6C880B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11FE-70DB-40E8-812D-AD334D316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3281-39E4-4711-86AD-50A4099F6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102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11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136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153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217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3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1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52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73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74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294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8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29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50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351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352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371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7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95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06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7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27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428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429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455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456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4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5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8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1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476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477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2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8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4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7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rc</cp:lastModifiedBy>
  <cp:lastPrinted>2000-06-06T19:18:09Z</cp:lastPrinted>
  <dcterms:modified xsi:type="dcterms:W3CDTF">2000-06-29T14:35:50Z</dcterms:modified>
  <cp:revision>32</cp:revision>
  <dc:subject/>
  <dc:title>Developing Efficient Graphics Software</dc:title>
</cp:coreProperties>
</file>