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288588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44560" y="688680"/>
            <a:ext cx="51703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ADA1-1F99-4A36-B9B0-AB17A2381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844560" y="689040"/>
            <a:ext cx="5170320" cy="34462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 to the siggraph course on Developing Efficient Graphics softwa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ughout this course, we’ll be covering a variety of topics  related to writing fast graphics softwa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f adsf asdf ds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F36A8-82EA-4DD1-96D2-43A7715ABA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A31AF-5472-47C9-8FED-19A6FDB24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3C64C-532A-4A49-BA42-D75C25AEE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604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260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48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604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260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7EB53-FCE0-43FC-B4D8-2335F57764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E2EC6-03DF-46D9-9E19-B8E2FCB746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62B40-6321-46E1-806E-AD15BD6AC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9CBE-83F8-473B-8826-7DC67B4DF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AB648-55E7-427F-9720-2559B3293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920" y="294840"/>
            <a:ext cx="836604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7884-7F42-4D0A-BE28-759ACFB46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9C8EB-6E15-49E5-B1C9-268A001A6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30E7-234C-449F-84C7-0C7D4793C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8FFA7-7615-486A-A4DD-35970B5F3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7320" y="160200"/>
            <a:ext cx="999000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4600" y="1833480"/>
            <a:ext cx="995832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570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7CD1-A327-431B-8BBC-02ED9C2BF3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7155000" y="5908680"/>
            <a:ext cx="283680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8777160" y="403200"/>
            <a:ext cx="124632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320" y="1824120"/>
            <a:ext cx="998676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ntent of Cours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application and hardwar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fy and optimiz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efficient software 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software and hardware component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: Agenda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1:35  General Performance Overview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2:15 Software and System Performa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00 Break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15 Software profiling / Performance analysi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40 Compiler and  language issu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:00 Graphics techniques and algorithm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:45 Wrap-up and question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peakers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gineers for SGI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izing, differentiating graphic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eith Cok, Bob Kuehne, Thomas True, Roger Corr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L conten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lity.sgi.com/cok_newport/s2000/index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29600" y="4419720"/>
            <a:ext cx="1219320" cy="121896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5:38:34Z</dcterms:created>
  <dc:creator>Keith Cok</dc:creator>
  <dc:description/>
  <dc:language>en-US</dc:language>
  <cp:lastModifiedBy>Keith Cok</cp:lastModifiedBy>
  <cp:lastPrinted>2000-06-06T21:04:26Z</cp:lastPrinted>
  <dcterms:modified xsi:type="dcterms:W3CDTF">2000-07-20T17:32:38Z</dcterms:modified>
  <cp:revision>17</cp:revision>
  <dc:subject/>
  <dc:title>Developing Efficient Graphics Software</dc:title>
</cp:coreProperties>
</file>