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FB19-138B-4460-8455-5C7B72ED2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BF60-F1EA-444C-9389-0C399B315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7B2A-86BA-4EEC-BEF8-0C4571A7D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42B0-9C5A-414C-B17A-A1F32749E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DA03-FD6F-4550-899B-15BAE7DEA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1302-9F69-46F3-B72C-BEA8792B5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40CD-4867-4AE9-B814-1C738BED9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39E5-CDE3-403D-A519-8E7EEEBEA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263E-DE15-4A8D-A2E7-905A17CA3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9F91-8DB4-4D27-A829-3896BC195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1790-97C5-4306-9FD4-A8338E237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2C5A-6E37-4775-9383-EF1546385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0E0-F0EC-49E7-AAF9-2276D42DC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oftware and System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omas J. Tru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4038480" cy="4343400"/>
          </a:xfrm>
          <a:custGeom>
            <a:avLst/>
            <a:gdLst/>
            <a:ahLst/>
            <a:rect l="l" t="t" r="r" b="b"/>
            <a:pathLst>
              <a:path w="2544" h="2736">
                <a:moveTo>
                  <a:pt x="0" y="0"/>
                </a:moveTo>
                <a:lnTo>
                  <a:pt x="2544" y="0"/>
                </a:lnTo>
                <a:lnTo>
                  <a:pt x="2544" y="1104"/>
                </a:lnTo>
                <a:lnTo>
                  <a:pt x="1296" y="1104"/>
                </a:lnTo>
                <a:lnTo>
                  <a:pt x="1296" y="2160"/>
                </a:lnTo>
                <a:lnTo>
                  <a:pt x="2544" y="2160"/>
                </a:lnTo>
                <a:lnTo>
                  <a:pt x="2544" y="2736"/>
                </a:lnTo>
                <a:lnTo>
                  <a:pt x="48" y="2736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301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302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317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32040" y="297072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1981080"/>
            <a:ext cx="4038480" cy="4343400"/>
          </a:xfrm>
          <a:custGeom>
            <a:avLst/>
            <a:gdLst/>
            <a:ahLst/>
            <a:rect l="l" t="t" r="r" b="b"/>
            <a:pathLst>
              <a:path w="2544" h="2736">
                <a:moveTo>
                  <a:pt x="0" y="0"/>
                </a:moveTo>
                <a:lnTo>
                  <a:pt x="2544" y="0"/>
                </a:lnTo>
                <a:lnTo>
                  <a:pt x="2544" y="1104"/>
                </a:lnTo>
                <a:lnTo>
                  <a:pt x="1296" y="1104"/>
                </a:lnTo>
                <a:lnTo>
                  <a:pt x="1296" y="2160"/>
                </a:lnTo>
                <a:lnTo>
                  <a:pt x="2544" y="2160"/>
                </a:lnTo>
                <a:lnTo>
                  <a:pt x="2544" y="2736"/>
                </a:lnTo>
                <a:lnTo>
                  <a:pt x="48" y="2736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30e9b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334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335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350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19520"/>
            <a:ext cx="990720" cy="685800"/>
          </a:xfrm>
          <a:prstGeom prst="rect">
            <a:avLst/>
          </a:prstGeom>
          <a:solidFill>
            <a:srgbClr val="080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4648320"/>
            <a:ext cx="9907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 Delicate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4191120"/>
            <a:ext cx="6705720" cy="457200"/>
          </a:xfrm>
          <a:prstGeom prst="cube">
            <a:avLst>
              <a:gd name="adj" fmla="val 62962"/>
            </a:avLst>
          </a:prstGeom>
          <a:solidFill>
            <a:srgbClr val="030e9b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91680" y="2198160"/>
            <a:ext cx="2169000" cy="2134800"/>
            <a:chOff x="391680" y="2198160"/>
            <a:chExt cx="2169000" cy="2134800"/>
          </a:xfrm>
        </p:grpSpPr>
        <p:sp>
          <p:nvSpPr>
            <p:cNvPr id="358" name=""/>
            <p:cNvSpPr/>
            <p:nvPr/>
          </p:nvSpPr>
          <p:spPr>
            <a:xfrm rot="2700000">
              <a:off x="744480" y="2080800"/>
              <a:ext cx="98640" cy="1039320"/>
            </a:xfrm>
            <a:prstGeom prst="parallelogram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700000">
              <a:off x="520920" y="2787840"/>
              <a:ext cx="1979640" cy="99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31360" y="3073320"/>
              <a:ext cx="244800" cy="244800"/>
              <a:chOff x="531360" y="3073320"/>
              <a:chExt cx="244800" cy="244800"/>
            </a:xfrm>
          </p:grpSpPr>
          <p:sp>
            <p:nvSpPr>
              <p:cNvPr id="361" name=""/>
              <p:cNvSpPr/>
              <p:nvPr/>
            </p:nvSpPr>
            <p:spPr>
              <a:xfrm rot="2700000">
                <a:off x="529920" y="3146040"/>
                <a:ext cx="247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700000">
                <a:off x="559080" y="307620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700000">
                <a:off x="628920" y="3145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700000">
                <a:off x="699120" y="32158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76160" y="3318120"/>
              <a:ext cx="384840" cy="384480"/>
              <a:chOff x="776160" y="3318120"/>
              <a:chExt cx="384840" cy="384480"/>
            </a:xfrm>
          </p:grpSpPr>
          <p:sp>
            <p:nvSpPr>
              <p:cNvPr id="366" name=""/>
              <p:cNvSpPr/>
              <p:nvPr/>
            </p:nvSpPr>
            <p:spPr>
              <a:xfrm rot="2700000">
                <a:off x="745560" y="3461040"/>
                <a:ext cx="445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700000">
                <a:off x="803880" y="332100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700000">
                <a:off x="873720" y="339084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700000">
                <a:off x="943560" y="3460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700000">
                <a:off x="1013760" y="353052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700000">
                <a:off x="1083600" y="360072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161000" y="3702960"/>
              <a:ext cx="244800" cy="244800"/>
              <a:chOff x="1161000" y="3702960"/>
              <a:chExt cx="244800" cy="244800"/>
            </a:xfrm>
          </p:grpSpPr>
          <p:sp>
            <p:nvSpPr>
              <p:cNvPr id="373" name=""/>
              <p:cNvSpPr/>
              <p:nvPr/>
            </p:nvSpPr>
            <p:spPr>
              <a:xfrm rot="2700000">
                <a:off x="1159560" y="3775680"/>
                <a:ext cx="247320" cy="98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700000">
                <a:off x="1188720" y="370584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700000">
                <a:off x="1258560" y="37756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700000">
                <a:off x="1328760" y="3845880"/>
                <a:ext cx="49320" cy="98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3f3e3e"/>
                  </a:gs>
                  <a:gs pos="50000">
                    <a:srgbClr val="979393"/>
                  </a:gs>
                  <a:gs pos="100000">
                    <a:srgbClr val="3f3e3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2700000">
              <a:off x="1058040" y="242388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700000">
              <a:off x="917640" y="298440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700000">
              <a:off x="1512720" y="3088800"/>
              <a:ext cx="34632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700000">
              <a:off x="1967760" y="3404160"/>
              <a:ext cx="34596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700000">
              <a:off x="1477440" y="3544200"/>
              <a:ext cx="346320" cy="247320"/>
            </a:xfrm>
            <a:prstGeom prst="bevel">
              <a:avLst>
                <a:gd name="adj" fmla="val 12500"/>
              </a:avLst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700000">
              <a:off x="1270800" y="2746080"/>
              <a:ext cx="445320" cy="19764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cubicBezTo>
                    <a:pt x="40" y="8"/>
                    <a:pt x="80" y="16"/>
                    <a:pt x="96" y="48"/>
                  </a:cubicBezTo>
                  <a:cubicBezTo>
                    <a:pt x="112" y="80"/>
                    <a:pt x="40" y="168"/>
                    <a:pt x="96" y="192"/>
                  </a:cubicBezTo>
                  <a:cubicBezTo>
                    <a:pt x="152" y="216"/>
                    <a:pt x="376" y="192"/>
                    <a:pt x="432" y="192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700000">
              <a:off x="1086480" y="2704320"/>
              <a:ext cx="148320" cy="24732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0" y="0"/>
                  </a:moveTo>
                  <a:cubicBezTo>
                    <a:pt x="8" y="36"/>
                    <a:pt x="16" y="72"/>
                    <a:pt x="48" y="96"/>
                  </a:cubicBezTo>
                  <a:cubicBezTo>
                    <a:pt x="80" y="120"/>
                    <a:pt x="168" y="120"/>
                    <a:pt x="192" y="144"/>
                  </a:cubicBezTo>
                  <a:cubicBezTo>
                    <a:pt x="216" y="168"/>
                    <a:pt x="192" y="224"/>
                    <a:pt x="192" y="24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700000">
              <a:off x="1282320" y="3138480"/>
              <a:ext cx="247320" cy="148320"/>
            </a:xfrm>
            <a:custGeom>
              <a:avLst/>
              <a:gdLst/>
              <a:ahLst/>
              <a:rect l="l" t="t" r="r" b="b"/>
              <a:pathLst>
                <a:path w="288" h="168">
                  <a:moveTo>
                    <a:pt x="0" y="144"/>
                  </a:moveTo>
                  <a:cubicBezTo>
                    <a:pt x="96" y="156"/>
                    <a:pt x="192" y="168"/>
                    <a:pt x="240" y="144"/>
                  </a:cubicBezTo>
                  <a:cubicBezTo>
                    <a:pt x="288" y="120"/>
                    <a:pt x="280" y="24"/>
                    <a:pt x="288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700000">
              <a:off x="1831680" y="3352680"/>
              <a:ext cx="198000" cy="72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cubicBezTo>
                    <a:pt x="80" y="0"/>
                    <a:pt x="160" y="0"/>
                    <a:pt x="192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700000">
              <a:off x="1706400" y="3358800"/>
              <a:ext cx="98640" cy="198000"/>
            </a:xfrm>
            <a:custGeom>
              <a:avLst/>
              <a:gdLst/>
              <a:ahLst/>
              <a:rect l="l" t="t" r="r" b="b"/>
              <a:pathLst>
                <a:path w="144" h="224">
                  <a:moveTo>
                    <a:pt x="0" y="32"/>
                  </a:moveTo>
                  <a:cubicBezTo>
                    <a:pt x="36" y="16"/>
                    <a:pt x="72" y="0"/>
                    <a:pt x="96" y="32"/>
                  </a:cubicBezTo>
                  <a:cubicBezTo>
                    <a:pt x="120" y="64"/>
                    <a:pt x="136" y="192"/>
                    <a:pt x="144" y="224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700000">
              <a:off x="1829880" y="3498480"/>
              <a:ext cx="131760" cy="198000"/>
            </a:xfrm>
            <a:custGeom>
              <a:avLst/>
              <a:gdLst/>
              <a:ahLst/>
              <a:rect l="l" t="t" r="r" b="b"/>
              <a:pathLst>
                <a:path w="128" h="192">
                  <a:moveTo>
                    <a:pt x="16" y="192"/>
                  </a:moveTo>
                  <a:cubicBezTo>
                    <a:pt x="8" y="152"/>
                    <a:pt x="0" y="112"/>
                    <a:pt x="16" y="96"/>
                  </a:cubicBezTo>
                  <a:cubicBezTo>
                    <a:pt x="32" y="80"/>
                    <a:pt x="96" y="112"/>
                    <a:pt x="112" y="96"/>
                  </a:cubicBezTo>
                  <a:cubicBezTo>
                    <a:pt x="128" y="80"/>
                    <a:pt x="120" y="40"/>
                    <a:pt x="112" y="0"/>
                  </a:cubicBezTo>
                </a:path>
              </a:pathLst>
            </a:custGeom>
            <a:noFill/>
            <a:ln w="12600">
              <a:solidFill>
                <a:srgbClr val="9793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8" name="floppy1" descr=""/>
          <p:cNvPicPr/>
          <p:nvPr/>
        </p:nvPicPr>
        <p:blipFill>
          <a:blip r:embed="rId1"/>
          <a:stretch/>
        </p:blipFill>
        <p:spPr>
          <a:xfrm>
            <a:off x="6219720" y="291456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uning Proc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32440" y="2133720"/>
            <a:ext cx="7009200" cy="4190400"/>
            <a:chOff x="532440" y="2133720"/>
            <a:chExt cx="7009200" cy="4190400"/>
          </a:xfrm>
        </p:grpSpPr>
        <p:sp>
          <p:nvSpPr>
            <p:cNvPr id="391" name=""/>
            <p:cNvSpPr/>
            <p:nvPr/>
          </p:nvSpPr>
          <p:spPr>
            <a:xfrm>
              <a:off x="1295280" y="2133720"/>
              <a:ext cx="434304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Quantif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280" y="3276360"/>
              <a:ext cx="441936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ystem Evalu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4419360"/>
              <a:ext cx="449532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raphics 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5562360"/>
              <a:ext cx="4495320" cy="7617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Bottleneck El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16198200">
              <a:off x="456120" y="22856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16198200">
              <a:off x="456120" y="36572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rot="16198200">
              <a:off x="456120" y="5028840"/>
              <a:ext cx="1066320" cy="914040"/>
            </a:xfrm>
            <a:custGeom>
              <a:avLst/>
              <a:gdLst>
                <a:gd name="textAreaLeft" fmla="*/ 360 w 1066320"/>
                <a:gd name="textAreaRight" fmla="*/ 1067040 w 1066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9200">
              <a:off x="4457880" y="3161160"/>
              <a:ext cx="3732120" cy="2285640"/>
            </a:xfrm>
            <a:custGeom>
              <a:avLst/>
              <a:gdLst>
                <a:gd name="textAreaLeft" fmla="*/ -360 w 3732120"/>
                <a:gd name="textAreaRight" fmla="*/ 3732120 w 3732120"/>
                <a:gd name="textAreaTop" fmla="*/ 0 h 2285640"/>
                <a:gd name="textAreaBottom" fmla="*/ 2285640 h 22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06" y="10258"/>
                  </a:moveTo>
                  <a:arcTo wR="-7514" hR="-7514" stAng="-10551833" swAng="-11005912"/>
                  <a:lnTo>
                    <a:pt x="1" y="10667"/>
                  </a:lnTo>
                  <a:arcTo wR="10800" hR="10800" stAng="-10757745" swAng="11005912"/>
                  <a:lnTo>
                    <a:pt x="24265" y="11774"/>
                  </a:lnTo>
                  <a:lnTo>
                    <a:pt x="19620" y="15792"/>
                  </a:lnTo>
                  <a:lnTo>
                    <a:pt x="15601" y="11147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antif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haracteriz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itive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mitive Cou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309760" cy="31766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32448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antif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87440" y="2224080"/>
          <a:ext cx="682632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2224080"/>
                    <a:ext cx="68263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ystem Evalu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hysical memor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k bandwidth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configur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Network characteristic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deal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ep graphics pipeline ful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CPU utilization running application cod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graphics utiliz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1143000" y="3581280"/>
            <a:ext cx="6937200" cy="533520"/>
            <a:chOff x="1143000" y="3581280"/>
            <a:chExt cx="6937200" cy="533520"/>
          </a:xfrm>
        </p:grpSpPr>
        <p:sp>
          <p:nvSpPr>
            <p:cNvPr id="413" name=""/>
            <p:cNvSpPr/>
            <p:nvPr/>
          </p:nvSpPr>
          <p:spPr>
            <a:xfrm>
              <a:off x="1143000" y="3583080"/>
              <a:ext cx="6937200" cy="530280"/>
            </a:xfrm>
            <a:prstGeom prst="rect">
              <a:avLst/>
            </a:prstGeom>
            <a:solidFill>
              <a:srgbClr val="40498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796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1112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4464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816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1132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484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7836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1152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504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7856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172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5240" y="3581280"/>
              <a:ext cx="0" cy="533520"/>
            </a:xfrm>
            <a:prstGeom prst="line">
              <a:avLst/>
            </a:prstGeom>
            <a:ln w="38160">
              <a:solidFill>
                <a:srgbClr val="8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14400" y="2362320"/>
            <a:ext cx="1904760" cy="533160"/>
            <a:chOff x="914400" y="2362320"/>
            <a:chExt cx="1904760" cy="533160"/>
          </a:xfrm>
        </p:grpSpPr>
        <p:sp>
          <p:nvSpPr>
            <p:cNvPr id="428" name=""/>
            <p:cNvSpPr/>
            <p:nvPr/>
          </p:nvSpPr>
          <p:spPr>
            <a:xfrm>
              <a:off x="2666880" y="2362320"/>
              <a:ext cx="76320" cy="152280"/>
            </a:xfrm>
            <a:prstGeom prst="bevel">
              <a:avLst>
                <a:gd name="adj" fmla="val 22917"/>
              </a:avLst>
            </a:prstGeom>
            <a:solidFill>
              <a:srgbClr val="97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2666880"/>
              <a:ext cx="76320" cy="15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54343"/>
                </a:gs>
                <a:gs pos="5000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560" y="25146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54343"/>
                </a:gs>
                <a:gs pos="5000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14400" y="2362320"/>
              <a:ext cx="1904760" cy="380880"/>
            </a:xfrm>
            <a:prstGeom prst="parallelogram">
              <a:avLst>
                <a:gd name="adj" fmla="val 107937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43000" y="2438280"/>
              <a:ext cx="1447560" cy="228600"/>
            </a:xfrm>
            <a:prstGeom prst="parallelogram">
              <a:avLst>
                <a:gd name="adj" fmla="val 114567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44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89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716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238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761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810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95280" y="24382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63d00"/>
                  </a:solidFill>
                  <a:latin typeface="Arial"/>
                </a:rPr>
                <a:t>Acme Electronic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934320" y="4724280"/>
            <a:ext cx="1447560" cy="1218960"/>
            <a:chOff x="6934320" y="4724280"/>
            <a:chExt cx="1447560" cy="1218960"/>
          </a:xfrm>
        </p:grpSpPr>
        <p:sp>
          <p:nvSpPr>
            <p:cNvPr id="445" name=""/>
            <p:cNvSpPr/>
            <p:nvPr/>
          </p:nvSpPr>
          <p:spPr>
            <a:xfrm>
              <a:off x="6934320" y="4724280"/>
              <a:ext cx="1447560" cy="12189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10280" y="4800240"/>
              <a:ext cx="1294920" cy="1067040"/>
            </a:xfrm>
            <a:prstGeom prst="rect">
              <a:avLst/>
            </a:prstGeom>
            <a:solidFill>
              <a:srgbClr val="8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143000" y="30481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67480" y="419112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3657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70866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979393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988200">
            <a:off x="4952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7d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3733920"/>
            <a:ext cx="381240" cy="30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3657600"/>
            <a:ext cx="3812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3657600"/>
            <a:ext cx="380880" cy="380880"/>
          </a:xfrm>
          <a:prstGeom prst="rtTriangle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6400" y="3657600"/>
            <a:ext cx="380880" cy="380880"/>
          </a:xfrm>
          <a:prstGeom prst="diamond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6400" y="3657600"/>
            <a:ext cx="380880" cy="380880"/>
          </a:xfrm>
          <a:prstGeom prst="diamond">
            <a:avLst/>
          </a:prstGeom>
          <a:solidFill>
            <a:srgbClr val="008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657600"/>
            <a:ext cx="380880" cy="38088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3657600"/>
            <a:ext cx="381240" cy="380880"/>
          </a:xfrm>
          <a:prstGeom prst="parallelogram">
            <a:avLst>
              <a:gd name="adj" fmla="val 25024"/>
            </a:avLst>
          </a:prstGeom>
          <a:solidFill>
            <a:srgbClr val="00ff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4011600">
            <a:off x="3962520" y="3657600"/>
            <a:ext cx="380880" cy="380880"/>
          </a:xfrm>
          <a:prstGeom prst="rtTriangle">
            <a:avLst/>
          </a:prstGeom>
          <a:solidFill>
            <a:srgbClr val="00ff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0742400">
            <a:off x="2819520" y="36572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657600"/>
            <a:ext cx="380880" cy="380880"/>
          </a:xfrm>
          <a:custGeom>
            <a:avLst/>
            <a:gdLst>
              <a:gd name="textAreaLeft" fmla="*/ 83520 w 380880"/>
              <a:gd name="textAreaRight" fmla="*/ 297360 w 380880"/>
              <a:gd name="textAreaTop" fmla="*/ 83520 h 380880"/>
              <a:gd name="textAreaBottom" fmla="*/ 297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657600"/>
            <a:ext cx="304920" cy="380880"/>
          </a:xfrm>
          <a:prstGeom prst="rtTriangle">
            <a:avLst/>
          </a:prstGeom>
          <a:solidFill>
            <a:srgbClr val="ff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542600">
            <a:off x="1218960" y="3657600"/>
            <a:ext cx="380880" cy="380880"/>
          </a:xfrm>
          <a:prstGeom prst="rtTriangle">
            <a:avLst/>
          </a:prstGeom>
          <a:solidFill>
            <a:srgbClr val="00ff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teapot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143000" cy="869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971800" y="2209680"/>
            <a:ext cx="1219320" cy="1143000"/>
          </a:xfrm>
          <a:prstGeom prst="donut">
            <a:avLst>
              <a:gd name="adj" fmla="val 4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21352200">
            <a:off x="3504960" y="2514600"/>
            <a:ext cx="1522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95640" y="289548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2895480"/>
            <a:ext cx="53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9000" y="2243160"/>
            <a:ext cx="380880" cy="241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24256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27432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22860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257796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27432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259092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9880" y="243828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22860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10080" y="4724280"/>
            <a:ext cx="1219320" cy="1143000"/>
          </a:xfrm>
          <a:prstGeom prst="donut">
            <a:avLst>
              <a:gd name="adj" fmla="val 4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7864800">
            <a:off x="5981040" y="5142960"/>
            <a:ext cx="1522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33920" y="541008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541008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67280" y="4757760"/>
            <a:ext cx="381240" cy="241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86400" y="49402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10080" y="52578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48006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509256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24480" y="52578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51055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48520" y="49528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5880" y="48006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43000" y="3583080"/>
            <a:ext cx="6937200" cy="530280"/>
          </a:xfrm>
          <a:prstGeom prst="rect">
            <a:avLst/>
          </a:prstGeom>
          <a:solidFill>
            <a:srgbClr val="4049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7796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1148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4464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816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1168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4484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836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188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504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7856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1208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45240" y="3581280"/>
            <a:ext cx="0" cy="533520"/>
          </a:xfrm>
          <a:prstGeom prst="line">
            <a:avLst/>
          </a:prstGeom>
          <a:ln w="3816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14400" y="2362320"/>
            <a:ext cx="1904760" cy="533160"/>
            <a:chOff x="914400" y="2362320"/>
            <a:chExt cx="1904760" cy="533160"/>
          </a:xfrm>
        </p:grpSpPr>
        <p:sp>
          <p:nvSpPr>
            <p:cNvPr id="506" name=""/>
            <p:cNvSpPr/>
            <p:nvPr/>
          </p:nvSpPr>
          <p:spPr>
            <a:xfrm>
              <a:off x="2666880" y="2362320"/>
              <a:ext cx="76320" cy="152280"/>
            </a:xfrm>
            <a:prstGeom prst="bevel">
              <a:avLst>
                <a:gd name="adj" fmla="val 22917"/>
              </a:avLst>
            </a:prstGeom>
            <a:solidFill>
              <a:srgbClr val="97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280" y="2666880"/>
              <a:ext cx="76320" cy="15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54343"/>
                </a:gs>
                <a:gs pos="5000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25146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54343"/>
                </a:gs>
                <a:gs pos="5000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2362320"/>
              <a:ext cx="1904760" cy="380880"/>
            </a:xfrm>
            <a:prstGeom prst="parallelogram">
              <a:avLst>
                <a:gd name="adj" fmla="val 107937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666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2438280"/>
              <a:ext cx="1447560" cy="228600"/>
            </a:xfrm>
            <a:prstGeom prst="parallelogram">
              <a:avLst>
                <a:gd name="adj" fmla="val 114567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44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89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716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238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1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288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108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33360" y="2743200"/>
              <a:ext cx="7632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86000" y="2743200"/>
              <a:ext cx="75960" cy="152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79393"/>
                </a:gs>
                <a:gs pos="100000">
                  <a:srgbClr val="45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95280" y="243828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63d00"/>
                  </a:solidFill>
                  <a:latin typeface="Arial"/>
                </a:rPr>
                <a:t>Acme Electronic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934320" y="4724280"/>
            <a:ext cx="1447560" cy="1218960"/>
            <a:chOff x="6934320" y="4724280"/>
            <a:chExt cx="1447560" cy="1218960"/>
          </a:xfrm>
        </p:grpSpPr>
        <p:sp>
          <p:nvSpPr>
            <p:cNvPr id="523" name=""/>
            <p:cNvSpPr/>
            <p:nvPr/>
          </p:nvSpPr>
          <p:spPr>
            <a:xfrm>
              <a:off x="6934320" y="4724280"/>
              <a:ext cx="1447560" cy="12189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10280" y="4800240"/>
              <a:ext cx="1294920" cy="1067040"/>
            </a:xfrm>
            <a:prstGeom prst="rect">
              <a:avLst/>
            </a:prstGeom>
            <a:solidFill>
              <a:srgbClr val="8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143000" y="30481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67480" y="419112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657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70866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979393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988200">
            <a:off x="4952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7d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733920"/>
            <a:ext cx="381240" cy="30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3657600"/>
            <a:ext cx="3812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19920" y="3657600"/>
            <a:ext cx="380880" cy="380880"/>
          </a:xfrm>
          <a:prstGeom prst="rtTriangle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3657600"/>
            <a:ext cx="380880" cy="380880"/>
          </a:xfrm>
          <a:prstGeom prst="diamond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657600"/>
            <a:ext cx="380880" cy="380880"/>
          </a:xfrm>
          <a:prstGeom prst="diamond">
            <a:avLst/>
          </a:prstGeom>
          <a:solidFill>
            <a:srgbClr val="008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19720" y="3657600"/>
            <a:ext cx="380880" cy="38088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52680" y="3657600"/>
            <a:ext cx="381240" cy="380880"/>
          </a:xfrm>
          <a:prstGeom prst="parallelogram">
            <a:avLst>
              <a:gd name="adj" fmla="val 25024"/>
            </a:avLst>
          </a:prstGeom>
          <a:solidFill>
            <a:srgbClr val="00ff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4011600">
            <a:off x="3962520" y="3657600"/>
            <a:ext cx="380880" cy="380880"/>
          </a:xfrm>
          <a:prstGeom prst="rtTriangle">
            <a:avLst/>
          </a:prstGeom>
          <a:solidFill>
            <a:srgbClr val="00ff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742400">
            <a:off x="2819520" y="36572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0" y="3657600"/>
            <a:ext cx="380880" cy="380880"/>
          </a:xfrm>
          <a:custGeom>
            <a:avLst/>
            <a:gdLst>
              <a:gd name="textAreaLeft" fmla="*/ 83520 w 380880"/>
              <a:gd name="textAreaRight" fmla="*/ 297360 w 380880"/>
              <a:gd name="textAreaTop" fmla="*/ 83520 h 380880"/>
              <a:gd name="textAreaBottom" fmla="*/ 297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3657600"/>
            <a:ext cx="304920" cy="380880"/>
          </a:xfrm>
          <a:prstGeom prst="rtTriangle">
            <a:avLst/>
          </a:prstGeom>
          <a:solidFill>
            <a:srgbClr val="ff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542600">
            <a:off x="1218960" y="3657600"/>
            <a:ext cx="380880" cy="380880"/>
          </a:xfrm>
          <a:prstGeom prst="rtTriangle">
            <a:avLst/>
          </a:prstGeom>
          <a:solidFill>
            <a:srgbClr val="00ff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teapot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143000" cy="8697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971800" y="2209680"/>
            <a:ext cx="1219320" cy="1143000"/>
          </a:xfrm>
          <a:prstGeom prst="donut">
            <a:avLst>
              <a:gd name="adj" fmla="val 4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21352200">
            <a:off x="3504960" y="2514600"/>
            <a:ext cx="1522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95640" y="289548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895480"/>
            <a:ext cx="53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243160"/>
            <a:ext cx="380880" cy="241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24256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27432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22860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1800" y="257796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27432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259092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243828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22860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4724280"/>
            <a:ext cx="1219320" cy="1143000"/>
          </a:xfrm>
          <a:prstGeom prst="donut">
            <a:avLst>
              <a:gd name="adj" fmla="val 4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7864800">
            <a:off x="5981040" y="5142960"/>
            <a:ext cx="1522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33920" y="541008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72200" y="541008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67280" y="4757760"/>
            <a:ext cx="381240" cy="241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86400" y="49402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52578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38680" y="48006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080" y="509256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52578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51055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495288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95880" y="480060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Pipe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58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73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PU Boun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2362320"/>
            <a:ext cx="7467480" cy="3580920"/>
            <a:chOff x="914400" y="2362320"/>
            <a:chExt cx="7467480" cy="3580920"/>
          </a:xfrm>
        </p:grpSpPr>
        <p:grpSp>
          <p:nvGrpSpPr>
            <p:cNvPr id="571" name=""/>
            <p:cNvGrpSpPr/>
            <p:nvPr/>
          </p:nvGrpSpPr>
          <p:grpSpPr>
            <a:xfrm>
              <a:off x="914400" y="2362320"/>
              <a:ext cx="1904760" cy="533160"/>
              <a:chOff x="914400" y="2362320"/>
              <a:chExt cx="1904760" cy="533160"/>
            </a:xfrm>
          </p:grpSpPr>
          <p:sp>
            <p:nvSpPr>
              <p:cNvPr id="572" name=""/>
              <p:cNvSpPr/>
              <p:nvPr/>
            </p:nvSpPr>
            <p:spPr>
              <a:xfrm>
                <a:off x="2666880" y="2362320"/>
                <a:ext cx="76320" cy="152280"/>
              </a:xfrm>
              <a:prstGeom prst="bevel">
                <a:avLst>
                  <a:gd name="adj" fmla="val 22917"/>
                </a:avLst>
              </a:prstGeom>
              <a:solidFill>
                <a:srgbClr val="97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38280" y="2666880"/>
                <a:ext cx="76320" cy="15264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454343"/>
                  </a:gs>
                  <a:gs pos="5000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90560" y="25146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454343"/>
                  </a:gs>
                  <a:gs pos="5000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14400" y="2362320"/>
                <a:ext cx="1904760" cy="380880"/>
              </a:xfrm>
              <a:prstGeom prst="parallelogram">
                <a:avLst>
                  <a:gd name="adj" fmla="val 107937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43000" y="2438280"/>
                <a:ext cx="1447560" cy="228600"/>
              </a:xfrm>
              <a:prstGeom prst="parallelogram">
                <a:avLst>
                  <a:gd name="adj" fmla="val 114567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14400" y="2743200"/>
                <a:ext cx="7596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1896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2743200"/>
                <a:ext cx="7596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2388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67616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28800" y="2743200"/>
                <a:ext cx="7596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8108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33360" y="2743200"/>
                <a:ext cx="7632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86000" y="2743200"/>
                <a:ext cx="75960" cy="15228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979393"/>
                  </a:gs>
                  <a:gs pos="100000">
                    <a:srgbClr val="45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295280" y="2438280"/>
                <a:ext cx="129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863d00"/>
                    </a:solidFill>
                    <a:latin typeface="Arial"/>
                  </a:rPr>
                  <a:t>Acme Electronic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34320" y="4724280"/>
              <a:ext cx="1447560" cy="1218960"/>
              <a:chOff x="6934320" y="4724280"/>
              <a:chExt cx="1447560" cy="1218960"/>
            </a:xfrm>
          </p:grpSpPr>
          <p:sp>
            <p:nvSpPr>
              <p:cNvPr id="589" name=""/>
              <p:cNvSpPr/>
              <p:nvPr/>
            </p:nvSpPr>
            <p:spPr>
              <a:xfrm>
                <a:off x="6934320" y="4724280"/>
                <a:ext cx="1447560" cy="1218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10280" y="4800240"/>
                <a:ext cx="1294920" cy="1067040"/>
              </a:xfrm>
              <a:prstGeom prst="rect">
                <a:avLst/>
              </a:prstGeom>
              <a:solidFill>
                <a:srgbClr val="86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141560" y="3581280"/>
              <a:ext cx="6937200" cy="533520"/>
              <a:chOff x="1141560" y="3581280"/>
              <a:chExt cx="6937200" cy="533520"/>
            </a:xfrm>
          </p:grpSpPr>
          <p:sp>
            <p:nvSpPr>
              <p:cNvPr id="592" name=""/>
              <p:cNvSpPr/>
              <p:nvPr/>
            </p:nvSpPr>
            <p:spPr>
              <a:xfrm>
                <a:off x="1141560" y="3583080"/>
                <a:ext cx="6937200" cy="530280"/>
              </a:xfrm>
              <a:prstGeom prst="rect">
                <a:avLst/>
              </a:prstGeom>
              <a:solidFill>
                <a:srgbClr val="40498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67652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0968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74320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27672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988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4340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7692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1008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7712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1028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43800" y="3581280"/>
                <a:ext cx="0" cy="533520"/>
              </a:xfrm>
              <a:prstGeom prst="line">
                <a:avLst/>
              </a:prstGeom>
              <a:ln w="38160">
                <a:solidFill>
                  <a:srgbClr val="863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1143000" y="3048120"/>
              <a:ext cx="6094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67480" y="4191120"/>
              <a:ext cx="6098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7620120" y="3657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teapot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143000" cy="86976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2971800" y="2209680"/>
            <a:ext cx="1295280" cy="1143000"/>
            <a:chOff x="2971800" y="2209680"/>
            <a:chExt cx="1295280" cy="1143000"/>
          </a:xfrm>
        </p:grpSpPr>
        <p:sp>
          <p:nvSpPr>
            <p:cNvPr id="610" name=""/>
            <p:cNvSpPr/>
            <p:nvPr/>
          </p:nvSpPr>
          <p:spPr>
            <a:xfrm>
              <a:off x="2971800" y="2209680"/>
              <a:ext cx="1219320" cy="1143000"/>
            </a:xfrm>
            <a:prstGeom prst="donut">
              <a:avLst>
                <a:gd name="adj" fmla="val 416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864800">
              <a:off x="3542760" y="2628720"/>
              <a:ext cx="15228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95640" y="2895480"/>
              <a:ext cx="181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33920" y="2895480"/>
              <a:ext cx="533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29000" y="224316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48120" y="242568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274320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00400" y="228600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257796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6200" y="274320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86200" y="259092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880" y="2438280"/>
              <a:ext cx="381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57600" y="2286000"/>
              <a:ext cx="380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410080" y="4800600"/>
            <a:ext cx="1219320" cy="1143000"/>
          </a:xfrm>
          <a:prstGeom prst="donut">
            <a:avLst>
              <a:gd name="adj" fmla="val 416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02000">
            <a:off x="5943600" y="5105520"/>
            <a:ext cx="1522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33920" y="548640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2200" y="548640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4834080"/>
            <a:ext cx="381240" cy="241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50166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0080" y="53341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38680" y="48769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16888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24480" y="53341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518148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5029200"/>
            <a:ext cx="38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5880" y="4876920"/>
            <a:ext cx="3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70866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979393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988200">
            <a:off x="4952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7d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53080" y="3657600"/>
            <a:ext cx="3812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19920" y="3657600"/>
            <a:ext cx="380880" cy="380880"/>
          </a:xfrm>
          <a:prstGeom prst="rtTriangle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86400" y="3657600"/>
            <a:ext cx="380880" cy="380880"/>
          </a:xfrm>
          <a:prstGeom prst="diamond">
            <a:avLst/>
          </a:prstGeom>
          <a:solidFill>
            <a:srgbClr val="0080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termination Techniq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ve graphics API ca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rink graphics window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y processing require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system monitoring too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32448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R-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(aka Dumb Frame Buffer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1905120"/>
            <a:ext cx="5943600" cy="4419360"/>
          </a:xfrm>
          <a:custGeom>
            <a:avLst/>
            <a:gdLst/>
            <a:ahLst/>
            <a:rect l="l" t="t" r="r" b="b"/>
            <a:pathLst>
              <a:path w="3744" h="2784">
                <a:moveTo>
                  <a:pt x="0" y="2784"/>
                </a:moveTo>
                <a:lnTo>
                  <a:pt x="2784" y="2784"/>
                </a:lnTo>
                <a:lnTo>
                  <a:pt x="3744" y="2064"/>
                </a:lnTo>
                <a:lnTo>
                  <a:pt x="3744" y="0"/>
                </a:lnTo>
                <a:lnTo>
                  <a:pt x="0" y="0"/>
                </a:lnTo>
                <a:lnTo>
                  <a:pt x="0" y="278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36960" y="304704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657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658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673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1981080"/>
            <a:ext cx="4038480" cy="4343400"/>
          </a:xfrm>
          <a:custGeom>
            <a:avLst/>
            <a:gdLst/>
            <a:ahLst/>
            <a:rect l="l" t="t" r="r" b="b"/>
            <a:pathLst>
              <a:path w="2544" h="2736">
                <a:moveTo>
                  <a:pt x="0" y="0"/>
                </a:moveTo>
                <a:lnTo>
                  <a:pt x="2544" y="0"/>
                </a:lnTo>
                <a:lnTo>
                  <a:pt x="2544" y="1104"/>
                </a:lnTo>
                <a:lnTo>
                  <a:pt x="1296" y="1104"/>
                </a:lnTo>
                <a:lnTo>
                  <a:pt x="1296" y="2160"/>
                </a:lnTo>
                <a:lnTo>
                  <a:pt x="2544" y="2160"/>
                </a:lnTo>
                <a:lnTo>
                  <a:pt x="2544" y="2736"/>
                </a:lnTo>
                <a:lnTo>
                  <a:pt x="48" y="2736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688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689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704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32040" y="297072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447920" y="1981080"/>
            <a:ext cx="4038480" cy="4343400"/>
          </a:xfrm>
          <a:custGeom>
            <a:avLst/>
            <a:gdLst/>
            <a:ahLst/>
            <a:rect l="l" t="t" r="r" b="b"/>
            <a:pathLst>
              <a:path w="2544" h="2736">
                <a:moveTo>
                  <a:pt x="0" y="0"/>
                </a:moveTo>
                <a:lnTo>
                  <a:pt x="2544" y="0"/>
                </a:lnTo>
                <a:lnTo>
                  <a:pt x="2544" y="1104"/>
                </a:lnTo>
                <a:lnTo>
                  <a:pt x="1296" y="1104"/>
                </a:lnTo>
                <a:lnTo>
                  <a:pt x="1296" y="2160"/>
                </a:lnTo>
                <a:lnTo>
                  <a:pt x="2544" y="2160"/>
                </a:lnTo>
                <a:lnTo>
                  <a:pt x="2544" y="2736"/>
                </a:lnTo>
                <a:lnTo>
                  <a:pt x="48" y="2736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32040" y="297072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1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722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723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738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X-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47920" y="1981080"/>
            <a:ext cx="4038480" cy="4343400"/>
          </a:xfrm>
          <a:custGeom>
            <a:avLst/>
            <a:gdLst/>
            <a:ahLst/>
            <a:rect l="l" t="t" r="r" b="b"/>
            <a:pathLst>
              <a:path w="2544" h="2736">
                <a:moveTo>
                  <a:pt x="0" y="0"/>
                </a:moveTo>
                <a:lnTo>
                  <a:pt x="2544" y="0"/>
                </a:lnTo>
                <a:lnTo>
                  <a:pt x="2544" y="1104"/>
                </a:lnTo>
                <a:lnTo>
                  <a:pt x="1296" y="1104"/>
                </a:lnTo>
                <a:lnTo>
                  <a:pt x="1296" y="2160"/>
                </a:lnTo>
                <a:lnTo>
                  <a:pt x="2544" y="2160"/>
                </a:lnTo>
                <a:lnTo>
                  <a:pt x="2544" y="2736"/>
                </a:lnTo>
                <a:lnTo>
                  <a:pt x="48" y="2736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3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754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755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770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32040" y="297072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1447920" y="1981080"/>
            <a:ext cx="4038480" cy="4343400"/>
            <a:chOff x="1447920" y="1981080"/>
            <a:chExt cx="4038480" cy="4343400"/>
          </a:xfrm>
        </p:grpSpPr>
        <p:sp>
          <p:nvSpPr>
            <p:cNvPr id="775" name=""/>
            <p:cNvSpPr/>
            <p:nvPr/>
          </p:nvSpPr>
          <p:spPr>
            <a:xfrm>
              <a:off x="1447920" y="1981080"/>
              <a:ext cx="4038480" cy="4343400"/>
            </a:xfrm>
            <a:custGeom>
              <a:avLst/>
              <a:gdLst/>
              <a:ahLst/>
              <a:rect l="l" t="t" r="r" b="b"/>
              <a:pathLst>
                <a:path w="2544" h="2736">
                  <a:moveTo>
                    <a:pt x="0" y="0"/>
                  </a:moveTo>
                  <a:lnTo>
                    <a:pt x="2544" y="0"/>
                  </a:lnTo>
                  <a:lnTo>
                    <a:pt x="2544" y="1104"/>
                  </a:lnTo>
                  <a:lnTo>
                    <a:pt x="1296" y="1104"/>
                  </a:lnTo>
                  <a:lnTo>
                    <a:pt x="1296" y="2160"/>
                  </a:lnTo>
                  <a:lnTo>
                    <a:pt x="2544" y="2160"/>
                  </a:lnTo>
                  <a:lnTo>
                    <a:pt x="2544" y="2736"/>
                  </a:lnTo>
                  <a:lnTo>
                    <a:pt x="48" y="2736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0e9b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57400" y="2819520"/>
              <a:ext cx="990720" cy="685800"/>
            </a:xfrm>
            <a:prstGeom prst="rect">
              <a:avLst/>
            </a:prstGeom>
            <a:solidFill>
              <a:srgbClr val="080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8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789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790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805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1447920" y="1981080"/>
            <a:ext cx="4038480" cy="4343400"/>
            <a:chOff x="1447920" y="1981080"/>
            <a:chExt cx="4038480" cy="4343400"/>
          </a:xfrm>
        </p:grpSpPr>
        <p:sp>
          <p:nvSpPr>
            <p:cNvPr id="809" name=""/>
            <p:cNvSpPr/>
            <p:nvPr/>
          </p:nvSpPr>
          <p:spPr>
            <a:xfrm>
              <a:off x="1447920" y="1981080"/>
              <a:ext cx="4038480" cy="4343400"/>
            </a:xfrm>
            <a:custGeom>
              <a:avLst/>
              <a:gdLst/>
              <a:ahLst/>
              <a:rect l="l" t="t" r="r" b="b"/>
              <a:pathLst>
                <a:path w="2544" h="2736">
                  <a:moveTo>
                    <a:pt x="0" y="0"/>
                  </a:moveTo>
                  <a:lnTo>
                    <a:pt x="2544" y="0"/>
                  </a:lnTo>
                  <a:lnTo>
                    <a:pt x="2544" y="1104"/>
                  </a:lnTo>
                  <a:lnTo>
                    <a:pt x="1296" y="1104"/>
                  </a:lnTo>
                  <a:lnTo>
                    <a:pt x="1296" y="2160"/>
                  </a:lnTo>
                  <a:lnTo>
                    <a:pt x="2544" y="2160"/>
                  </a:lnTo>
                  <a:lnTo>
                    <a:pt x="2544" y="2736"/>
                  </a:lnTo>
                  <a:lnTo>
                    <a:pt x="48" y="2736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0e9b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57400" y="2819520"/>
              <a:ext cx="990720" cy="685800"/>
            </a:xfrm>
            <a:prstGeom prst="rect">
              <a:avLst/>
            </a:prstGeom>
            <a:solidFill>
              <a:srgbClr val="080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823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824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839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1447920" y="1981080"/>
            <a:ext cx="4038480" cy="4343400"/>
            <a:chOff x="1447920" y="1981080"/>
            <a:chExt cx="4038480" cy="4343400"/>
          </a:xfrm>
        </p:grpSpPr>
        <p:sp>
          <p:nvSpPr>
            <p:cNvPr id="843" name=""/>
            <p:cNvSpPr/>
            <p:nvPr/>
          </p:nvSpPr>
          <p:spPr>
            <a:xfrm>
              <a:off x="1447920" y="1981080"/>
              <a:ext cx="4038480" cy="4343400"/>
            </a:xfrm>
            <a:custGeom>
              <a:avLst/>
              <a:gdLst/>
              <a:ahLst/>
              <a:rect l="l" t="t" r="r" b="b"/>
              <a:pathLst>
                <a:path w="2544" h="2736">
                  <a:moveTo>
                    <a:pt x="0" y="0"/>
                  </a:moveTo>
                  <a:lnTo>
                    <a:pt x="2544" y="0"/>
                  </a:lnTo>
                  <a:lnTo>
                    <a:pt x="2544" y="1104"/>
                  </a:lnTo>
                  <a:lnTo>
                    <a:pt x="1296" y="1104"/>
                  </a:lnTo>
                  <a:lnTo>
                    <a:pt x="1296" y="2160"/>
                  </a:lnTo>
                  <a:lnTo>
                    <a:pt x="2544" y="2160"/>
                  </a:lnTo>
                  <a:lnTo>
                    <a:pt x="2544" y="2736"/>
                  </a:lnTo>
                  <a:lnTo>
                    <a:pt x="48" y="2736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0e9b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2819520"/>
              <a:ext cx="990720" cy="685800"/>
            </a:xfrm>
            <a:prstGeom prst="rect">
              <a:avLst/>
            </a:prstGeom>
            <a:solidFill>
              <a:srgbClr val="080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Analysis: GT-X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505320" y="1981080"/>
            <a:ext cx="4114800" cy="4343400"/>
          </a:xfrm>
          <a:custGeom>
            <a:avLst/>
            <a:gdLst/>
            <a:ahLst/>
            <a:rect l="l" t="t" r="r" b="b"/>
            <a:pathLst>
              <a:path w="2592" h="2736">
                <a:moveTo>
                  <a:pt x="1248" y="0"/>
                </a:moveTo>
                <a:lnTo>
                  <a:pt x="1248" y="1104"/>
                </a:lnTo>
                <a:lnTo>
                  <a:pt x="0" y="1104"/>
                </a:lnTo>
                <a:lnTo>
                  <a:pt x="0" y="2160"/>
                </a:lnTo>
                <a:lnTo>
                  <a:pt x="1248" y="2160"/>
                </a:lnTo>
                <a:lnTo>
                  <a:pt x="1248" y="2736"/>
                </a:lnTo>
                <a:lnTo>
                  <a:pt x="2112" y="2736"/>
                </a:lnTo>
                <a:lnTo>
                  <a:pt x="2112" y="2112"/>
                </a:lnTo>
                <a:lnTo>
                  <a:pt x="2592" y="2112"/>
                </a:lnTo>
                <a:lnTo>
                  <a:pt x="2592" y="0"/>
                </a:lnTo>
                <a:lnTo>
                  <a:pt x="1248" y="0"/>
                </a:lnTo>
                <a:close/>
              </a:path>
            </a:pathLst>
          </a:custGeom>
          <a:solidFill>
            <a:srgbClr val="9e47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6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857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858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873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5719680" y="23623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Bottleneck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8676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87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02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isable unnecessary rendering features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Graphic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image format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move excessive state chang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pipeline queri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texture cache efficientl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able unnecessary rendering featur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ecrease scene complexity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20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aw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oat x1 = -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oat x2 =  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oat y1 = -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loat y2 =  0.5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Clear (GL_COLOR_BUFFER_BIT | GL_DEPTH_BUFFER_BIT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Begin(GL_QUADS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1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1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2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Vertex2f(x2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End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lXSwapBuffers(dpy, win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42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3:       glVertex2f(x1, y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si,es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ax,dword ptr [ebp-0C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a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cx,dword ptr [ebp-4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c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l        dword ptr [__imp__glVertex2f@8 (0042b478)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4:       glVertex2f(x1, y2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si,esp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dx,dword ptr [ebp-10h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d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v         eax,dword ptr [ebp-4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sh        eax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l        dword ptr [__imp__glVertex2f@8 (0042b478)]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c0c0c0"/>
          </a:solidFill>
          <a:ln w="9360">
            <a:solidFill>
              <a:srgbClr val="97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16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562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31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Code and Languag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educe API call overhead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native data types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ware of contention for a single shared resourc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application bottlenecks in non-graphics code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793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 Elimination</a:t>
            </a: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allocate memory in rendering loop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void copying and repackaging of graphics data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Organize graphics data to maximize bandwidth and avoid fragmentation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5257800" y="4572000"/>
            <a:ext cx="1600200" cy="1447920"/>
          </a:xfrm>
          <a:prstGeom prst="rect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95280" y="4572000"/>
            <a:ext cx="1600200" cy="1447920"/>
          </a:xfrm>
          <a:prstGeom prst="rect">
            <a:avLst/>
          </a:prstGeom>
          <a:solidFill>
            <a:srgbClr val="080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2743200"/>
            <a:ext cx="160020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320" y="1980720"/>
            <a:ext cx="856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lementation a Team Effor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276720" y="5257800"/>
            <a:ext cx="1676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3352680"/>
            <a:ext cx="990720" cy="10670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2133360" y="3429000"/>
            <a:ext cx="990360" cy="990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37840" y="2779560"/>
            <a:ext cx="6310440" cy="3773520"/>
            <a:chOff x="537840" y="2779560"/>
            <a:chExt cx="6310440" cy="3773520"/>
          </a:xfrm>
        </p:grpSpPr>
        <p:sp>
          <p:nvSpPr>
            <p:cNvPr id="921" name=""/>
            <p:cNvSpPr/>
            <p:nvPr/>
          </p:nvSpPr>
          <p:spPr>
            <a:xfrm>
              <a:off x="1224360" y="2779560"/>
              <a:ext cx="39106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Quantif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24360" y="3808440"/>
              <a:ext cx="39790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ystem Evalu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24360" y="4837680"/>
              <a:ext cx="40474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Graphics 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24360" y="5866920"/>
              <a:ext cx="4047480" cy="686160"/>
            </a:xfrm>
            <a:prstGeom prst="rect">
              <a:avLst/>
            </a:prstGeom>
            <a:solidFill>
              <a:srgbClr val="3ab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Bottleneck El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16198200">
              <a:off x="469080" y="291672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16198200">
              <a:off x="469080" y="415188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16198200">
              <a:off x="469080" y="5386680"/>
              <a:ext cx="960120" cy="822960"/>
            </a:xfrm>
            <a:custGeom>
              <a:avLst/>
              <a:gdLst>
                <a:gd name="textAreaLeft" fmla="*/ -360 w 960120"/>
                <a:gd name="textAreaRight" fmla="*/ 960120 w 9601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86" y="11067"/>
                  </a:moveTo>
                  <a:arcTo wR="-6819" hR="-6819" stAng="10665363" swAng="-10923772"/>
                  <a:lnTo>
                    <a:pt x="30" y="11611"/>
                  </a:lnTo>
                  <a:arcTo wR="10800" hR="10800" stAng="10541591" swAng="10923772"/>
                  <a:lnTo>
                    <a:pt x="24290" y="10271"/>
                  </a:lnTo>
                  <a:lnTo>
                    <a:pt x="19786" y="15142"/>
                  </a:lnTo>
                  <a:lnTo>
                    <a:pt x="14916" y="10639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5539200">
              <a:off x="4071960" y="3704760"/>
              <a:ext cx="3360240" cy="2058120"/>
            </a:xfrm>
            <a:custGeom>
              <a:avLst/>
              <a:gdLst>
                <a:gd name="textAreaLeft" fmla="*/ 360 w 3360240"/>
                <a:gd name="textAreaRight" fmla="*/ 3360960 w 3360240"/>
                <a:gd name="textAreaTop" fmla="*/ 0 h 2058120"/>
                <a:gd name="textAreaBottom" fmla="*/ 2058480 h 20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06" y="10258"/>
                  </a:moveTo>
                  <a:arcTo wR="-7514" hR="-7514" stAng="-10551833" swAng="-11005912"/>
                  <a:lnTo>
                    <a:pt x="1" y="10667"/>
                  </a:lnTo>
                  <a:arcTo wR="10800" hR="10800" stAng="-10757745" swAng="11005912"/>
                  <a:lnTo>
                    <a:pt x="24265" y="11774"/>
                  </a:lnTo>
                  <a:lnTo>
                    <a:pt x="19620" y="15792"/>
                  </a:lnTo>
                  <a:lnTo>
                    <a:pt x="15601" y="11147"/>
                  </a:lnTo>
                  <a:close/>
                </a:path>
              </a:pathLst>
            </a:cu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uning a Four Step Proces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"/>
          <p:cNvGrpSpPr/>
          <p:nvPr/>
        </p:nvGrpSpPr>
        <p:grpSpPr>
          <a:xfrm>
            <a:off x="2590920" y="2514600"/>
            <a:ext cx="4114800" cy="4114800"/>
            <a:chOff x="2590920" y="2514600"/>
            <a:chExt cx="4114800" cy="4114800"/>
          </a:xfrm>
        </p:grpSpPr>
        <p:sp>
          <p:nvSpPr>
            <p:cNvPr id="931" name=""/>
            <p:cNvSpPr/>
            <p:nvPr/>
          </p:nvSpPr>
          <p:spPr>
            <a:xfrm>
              <a:off x="2590920" y="2514600"/>
              <a:ext cx="4114800" cy="4114800"/>
            </a:xfrm>
            <a:prstGeom prst="ellips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6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2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2666880" y="2590920"/>
              <a:ext cx="3962520" cy="39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t’s all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exture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45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5562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60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adback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c0c0c0"/>
          </a:solidFill>
          <a:ln w="9360">
            <a:solidFill>
              <a:srgbClr val="97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174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160" y="38098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371600" y="556236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189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43800" y="2057400"/>
            <a:ext cx="1371600" cy="3733920"/>
          </a:xfrm>
          <a:custGeom>
            <a:avLst/>
            <a:gdLst/>
            <a:ahLst/>
            <a:rect l="l" t="t" r="r" b="b"/>
            <a:pathLst>
              <a:path w="864" h="2448">
                <a:moveTo>
                  <a:pt x="0" y="0"/>
                </a:moveTo>
                <a:lnTo>
                  <a:pt x="864" y="0"/>
                </a:lnTo>
                <a:lnTo>
                  <a:pt x="864" y="2448"/>
                </a:lnTo>
                <a:lnTo>
                  <a:pt x="0" y="244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057400"/>
            <a:ext cx="6019920" cy="3962520"/>
          </a:xfrm>
          <a:custGeom>
            <a:avLst/>
            <a:gdLst/>
            <a:ahLst/>
            <a:rect l="l" t="t" r="r" b="b"/>
            <a:pathLst>
              <a:path w="3792" h="2496">
                <a:moveTo>
                  <a:pt x="2400" y="0"/>
                </a:moveTo>
                <a:lnTo>
                  <a:pt x="3792" y="0"/>
                </a:lnTo>
                <a:lnTo>
                  <a:pt x="3792" y="2496"/>
                </a:lnTo>
                <a:lnTo>
                  <a:pt x="2784" y="2496"/>
                </a:lnTo>
                <a:lnTo>
                  <a:pt x="2784" y="2112"/>
                </a:lnTo>
                <a:lnTo>
                  <a:pt x="0" y="2112"/>
                </a:lnTo>
                <a:lnTo>
                  <a:pt x="0" y="1056"/>
                </a:lnTo>
                <a:lnTo>
                  <a:pt x="2400" y="1056"/>
                </a:lnTo>
                <a:lnTo>
                  <a:pt x="2400" y="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057400"/>
            <a:ext cx="3810240" cy="1676520"/>
          </a:xfrm>
          <a:custGeom>
            <a:avLst/>
            <a:gdLst/>
            <a:ahLst/>
            <a:rect l="l" t="t" r="r" b="b"/>
            <a:pathLst>
              <a:path w="2400" h="1056">
                <a:moveTo>
                  <a:pt x="0" y="0"/>
                </a:moveTo>
                <a:lnTo>
                  <a:pt x="2400" y="0"/>
                </a:lnTo>
                <a:lnTo>
                  <a:pt x="240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057400"/>
            <a:ext cx="5715000" cy="4419720"/>
          </a:xfrm>
          <a:custGeom>
            <a:avLst/>
            <a:gdLst/>
            <a:ahLst/>
            <a:rect l="l" t="t" r="r" b="b"/>
            <a:pathLst>
              <a:path w="3600" h="2784">
                <a:moveTo>
                  <a:pt x="816" y="0"/>
                </a:moveTo>
                <a:lnTo>
                  <a:pt x="0" y="0"/>
                </a:lnTo>
                <a:lnTo>
                  <a:pt x="0" y="2784"/>
                </a:lnTo>
                <a:lnTo>
                  <a:pt x="3600" y="2784"/>
                </a:lnTo>
                <a:lnTo>
                  <a:pt x="3600" y="2112"/>
                </a:lnTo>
                <a:lnTo>
                  <a:pt x="816" y="2112"/>
                </a:lnTo>
                <a:lnTo>
                  <a:pt x="816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206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207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222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43800" y="2057400"/>
            <a:ext cx="1371600" cy="3733920"/>
          </a:xfrm>
          <a:custGeom>
            <a:avLst/>
            <a:gdLst/>
            <a:ahLst/>
            <a:rect l="l" t="t" r="r" b="b"/>
            <a:pathLst>
              <a:path w="864" h="2448">
                <a:moveTo>
                  <a:pt x="0" y="0"/>
                </a:moveTo>
                <a:lnTo>
                  <a:pt x="864" y="0"/>
                </a:lnTo>
                <a:lnTo>
                  <a:pt x="864" y="2448"/>
                </a:lnTo>
                <a:lnTo>
                  <a:pt x="0" y="244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2057400"/>
            <a:ext cx="6019920" cy="3962520"/>
          </a:xfrm>
          <a:custGeom>
            <a:avLst/>
            <a:gdLst/>
            <a:ahLst/>
            <a:rect l="l" t="t" r="r" b="b"/>
            <a:pathLst>
              <a:path w="3792" h="2496">
                <a:moveTo>
                  <a:pt x="2400" y="0"/>
                </a:moveTo>
                <a:lnTo>
                  <a:pt x="3792" y="0"/>
                </a:lnTo>
                <a:lnTo>
                  <a:pt x="3792" y="2496"/>
                </a:lnTo>
                <a:lnTo>
                  <a:pt x="2784" y="2496"/>
                </a:lnTo>
                <a:lnTo>
                  <a:pt x="2784" y="2112"/>
                </a:lnTo>
                <a:lnTo>
                  <a:pt x="0" y="2112"/>
                </a:lnTo>
                <a:lnTo>
                  <a:pt x="0" y="1056"/>
                </a:lnTo>
                <a:lnTo>
                  <a:pt x="2400" y="1056"/>
                </a:lnTo>
                <a:lnTo>
                  <a:pt x="2400" y="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057400"/>
            <a:ext cx="3810240" cy="1676520"/>
          </a:xfrm>
          <a:custGeom>
            <a:avLst/>
            <a:gdLst/>
            <a:ahLst/>
            <a:rect l="l" t="t" r="r" b="b"/>
            <a:pathLst>
              <a:path w="2400" h="1056">
                <a:moveTo>
                  <a:pt x="0" y="0"/>
                </a:moveTo>
                <a:lnTo>
                  <a:pt x="2400" y="0"/>
                </a:lnTo>
                <a:lnTo>
                  <a:pt x="240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057400"/>
            <a:ext cx="5715000" cy="4419720"/>
          </a:xfrm>
          <a:custGeom>
            <a:avLst/>
            <a:gdLst/>
            <a:ahLst/>
            <a:rect l="l" t="t" r="r" b="b"/>
            <a:pathLst>
              <a:path w="3600" h="2784">
                <a:moveTo>
                  <a:pt x="816" y="0"/>
                </a:moveTo>
                <a:lnTo>
                  <a:pt x="0" y="0"/>
                </a:lnTo>
                <a:lnTo>
                  <a:pt x="0" y="2784"/>
                </a:lnTo>
                <a:lnTo>
                  <a:pt x="3600" y="2784"/>
                </a:lnTo>
                <a:lnTo>
                  <a:pt x="3600" y="2112"/>
                </a:lnTo>
                <a:lnTo>
                  <a:pt x="816" y="2112"/>
                </a:lnTo>
                <a:lnTo>
                  <a:pt x="816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239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240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255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76520" y="1905120"/>
            <a:ext cx="5943600" cy="4419360"/>
          </a:xfrm>
          <a:custGeom>
            <a:avLst/>
            <a:gdLst/>
            <a:ahLst/>
            <a:rect l="l" t="t" r="r" b="b"/>
            <a:pathLst>
              <a:path w="3744" h="2784">
                <a:moveTo>
                  <a:pt x="0" y="2784"/>
                </a:moveTo>
                <a:lnTo>
                  <a:pt x="2784" y="2784"/>
                </a:lnTo>
                <a:lnTo>
                  <a:pt x="3744" y="2064"/>
                </a:lnTo>
                <a:lnTo>
                  <a:pt x="3744" y="0"/>
                </a:lnTo>
                <a:lnTo>
                  <a:pt x="0" y="0"/>
                </a:lnTo>
                <a:lnTo>
                  <a:pt x="0" y="278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4320" y="3047040"/>
            <a:ext cx="822240" cy="4597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plementation: GTXR-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2139840"/>
            <a:ext cx="129564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del 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133720"/>
            <a:ext cx="1447920" cy="5328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Vertex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3816360"/>
            <a:ext cx="16002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er-Fragment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5320" y="5568840"/>
            <a:ext cx="13539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ack/Unp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20320" y="4648320"/>
            <a:ext cx="8694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ex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984480"/>
            <a:ext cx="1524240" cy="261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Raster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054240"/>
            <a:ext cx="114300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rim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1040" y="5568840"/>
            <a:ext cx="1433160" cy="505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9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Pixel Trans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21337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framebuffer" descr=""/>
          <p:cNvPicPr/>
          <p:nvPr/>
        </p:nvPicPr>
        <p:blipFill>
          <a:blip r:embed="rId1"/>
          <a:stretch/>
        </p:blipFill>
        <p:spPr>
          <a:xfrm>
            <a:off x="8015400" y="3505320"/>
            <a:ext cx="823680" cy="1066680"/>
          </a:xfrm>
          <a:prstGeom prst="rect">
            <a:avLst/>
          </a:prstGeom>
          <a:ln w="0">
            <a:noFill/>
          </a:ln>
        </p:spPr>
      </p:pic>
      <p:pic>
        <p:nvPicPr>
          <p:cNvPr id="270" name="teapot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914400" cy="695160"/>
          </a:xfrm>
          <a:prstGeom prst="rect">
            <a:avLst/>
          </a:prstGeom>
          <a:ln w="0">
            <a:noFill/>
          </a:ln>
        </p:spPr>
      </p:pic>
      <p:pic>
        <p:nvPicPr>
          <p:cNvPr id="271" name="mandrill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76720" y="2362320"/>
            <a:ext cx="5331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666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35812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343400" y="518112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105520" y="426672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41148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34340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257440" y="586728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5562720"/>
            <a:ext cx="609480" cy="533160"/>
          </a:xfrm>
          <a:prstGeom prst="leftRightArrow">
            <a:avLst>
              <a:gd name="adj1" fmla="val 45241"/>
              <a:gd name="adj2" fmla="val 357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3809880"/>
            <a:ext cx="533160" cy="533520"/>
          </a:xfrm>
          <a:prstGeom prst="leftRightArrow">
            <a:avLst>
              <a:gd name="adj1" fmla="val 45241"/>
              <a:gd name="adj2" fmla="val 31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76720" y="4114800"/>
            <a:ext cx="533160" cy="1447920"/>
            <a:chOff x="3276720" y="4114800"/>
            <a:chExt cx="533160" cy="1447920"/>
          </a:xfrm>
        </p:grpSpPr>
        <p:sp>
          <p:nvSpPr>
            <p:cNvPr id="286" name=""/>
            <p:cNvSpPr/>
            <p:nvPr/>
          </p:nvSpPr>
          <p:spPr>
            <a:xfrm flipV="1">
              <a:off x="3276720" y="4114800"/>
              <a:ext cx="0" cy="1447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6720" y="4114800"/>
              <a:ext cx="533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23:01:36Z</dcterms:created>
  <dc:creator>true</dc:creator>
  <dc:description/>
  <dc:language>en-US</dc:language>
  <cp:lastModifiedBy>true</cp:lastModifiedBy>
  <cp:lastPrinted>1999-08-04T01:18:19Z</cp:lastPrinted>
  <dcterms:modified xsi:type="dcterms:W3CDTF">2000-07-20T16:08:31Z</dcterms:modified>
  <cp:revision>185</cp:revision>
  <dc:subject/>
  <dc:title>No Slide Title</dc:title>
</cp:coreProperties>
</file>